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4351-36CD-46BA-B0AF-49935EE5B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AB47-C146-42B1-97EA-4AED8E9D6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6D1C-2933-4869-997D-8CA7C598B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28D0-DE9E-4247-8D91-DA13A986A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F904-7A58-4DD8-9F54-44C3A4A22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1C0A-0A5D-4283-A7BB-0B2150D46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0B62-ED4F-48CD-878D-20DA7C206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FB88-8FCE-4BBA-81E7-3CFADD952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38C1-2A2B-4367-BD53-6DBAFE77E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032F-2DC1-4AFB-BCA9-DF0A9619F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499-C16D-45D6-87EE-23723E15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593-449F-425F-A61D-ED9C35F5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76A-9370-4997-AE96-36A99616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89B-E7B2-429E-ADBE-26000FA3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B5C-4FF4-4CC9-A618-5AB81524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10A-12E5-43AB-8D2C-72263F47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646-C914-4E8F-86BB-A77E79DA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F18-FC00-4611-BC17-33B12575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D36-50D4-423F-AEE6-36B601E2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8F5-2CA0-44FE-B659-6CF78E7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62F-6651-4459-9ADE-D07C2C45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773-772D-4BDB-AB53-EB82226C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FD67-790D-428E-BB9E-E62EB1D33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5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aphs of Sine and Cosin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etch the graph of each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)=sin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(x)=sin (x/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1598760"/>
            <a:ext cx="277920" cy="490320"/>
          </a:xfrm>
          <a:custGeom>
            <a:avLst/>
            <a:gdLst/>
            <a:ahLst/>
            <a:rect l="l" t="t" r="r" b="b"/>
            <a:pathLst>
              <a:path w="770" h="1365">
                <a:moveTo>
                  <a:pt x="719" y="4440"/>
                </a:moveTo>
                <a:cubicBezTo>
                  <a:pt x="884" y="4440"/>
                  <a:pt x="1050" y="4440"/>
                  <a:pt x="1215" y="4440"/>
                </a:cubicBezTo>
                <a:cubicBezTo>
                  <a:pt x="1186" y="4450"/>
                  <a:pt x="1079" y="4475"/>
                  <a:pt x="1017" y="4490"/>
                </a:cubicBezTo>
                <a:cubicBezTo>
                  <a:pt x="912" y="4516"/>
                  <a:pt x="815" y="4517"/>
                  <a:pt x="719" y="4564"/>
                </a:cubicBezTo>
                <a:cubicBezTo>
                  <a:pt x="711" y="4572"/>
                  <a:pt x="703" y="4581"/>
                  <a:pt x="695" y="4589"/>
                </a:cubicBezTo>
                <a:cubicBezTo>
                  <a:pt x="757" y="4595"/>
                  <a:pt x="807" y="4611"/>
                  <a:pt x="868" y="4614"/>
                </a:cubicBezTo>
                <a:cubicBezTo>
                  <a:pt x="974" y="4620"/>
                  <a:pt x="1066" y="4616"/>
                  <a:pt x="1166" y="4638"/>
                </a:cubicBezTo>
                <a:cubicBezTo>
                  <a:pt x="1174" y="4638"/>
                  <a:pt x="1183" y="4638"/>
                  <a:pt x="1191" y="4638"/>
                </a:cubicBezTo>
                <a:cubicBezTo>
                  <a:pt x="1115" y="4689"/>
                  <a:pt x="1011" y="4704"/>
                  <a:pt x="918" y="4713"/>
                </a:cubicBezTo>
                <a:cubicBezTo>
                  <a:pt x="843" y="4721"/>
                  <a:pt x="683" y="4720"/>
                  <a:pt x="620" y="4762"/>
                </a:cubicBezTo>
                <a:cubicBezTo>
                  <a:pt x="620" y="4770"/>
                  <a:pt x="620" y="4779"/>
                  <a:pt x="620" y="4787"/>
                </a:cubicBezTo>
                <a:cubicBezTo>
                  <a:pt x="696" y="4768"/>
                  <a:pt x="760" y="4762"/>
                  <a:pt x="843" y="4762"/>
                </a:cubicBezTo>
                <a:cubicBezTo>
                  <a:pt x="949" y="4762"/>
                  <a:pt x="1098" y="4733"/>
                  <a:pt x="1191" y="4787"/>
                </a:cubicBezTo>
                <a:cubicBezTo>
                  <a:pt x="1215" y="4787"/>
                  <a:pt x="1223" y="4787"/>
                  <a:pt x="1215" y="4812"/>
                </a:cubicBezTo>
                <a:cubicBezTo>
                  <a:pt x="1160" y="4830"/>
                  <a:pt x="1103" y="4845"/>
                  <a:pt x="1042" y="4862"/>
                </a:cubicBezTo>
                <a:cubicBezTo>
                  <a:pt x="935" y="4892"/>
                  <a:pt x="813" y="4914"/>
                  <a:pt x="719" y="4961"/>
                </a:cubicBezTo>
                <a:cubicBezTo>
                  <a:pt x="754" y="4974"/>
                  <a:pt x="821" y="4986"/>
                  <a:pt x="893" y="4986"/>
                </a:cubicBezTo>
                <a:cubicBezTo>
                  <a:pt x="998" y="4986"/>
                  <a:pt x="1093" y="4996"/>
                  <a:pt x="1191" y="5011"/>
                </a:cubicBezTo>
                <a:cubicBezTo>
                  <a:pt x="1207" y="5011"/>
                  <a:pt x="1224" y="5011"/>
                  <a:pt x="1240" y="5011"/>
                </a:cubicBezTo>
                <a:cubicBezTo>
                  <a:pt x="1190" y="5050"/>
                  <a:pt x="1124" y="5087"/>
                  <a:pt x="1042" y="5110"/>
                </a:cubicBezTo>
                <a:cubicBezTo>
                  <a:pt x="945" y="5138"/>
                  <a:pt x="840" y="5187"/>
                  <a:pt x="744" y="5209"/>
                </a:cubicBezTo>
                <a:cubicBezTo>
                  <a:pt x="703" y="5209"/>
                  <a:pt x="687" y="5201"/>
                  <a:pt x="695" y="5234"/>
                </a:cubicBezTo>
                <a:cubicBezTo>
                  <a:pt x="785" y="5268"/>
                  <a:pt x="869" y="5259"/>
                  <a:pt x="967" y="5259"/>
                </a:cubicBezTo>
                <a:cubicBezTo>
                  <a:pt x="1063" y="5259"/>
                  <a:pt x="1147" y="5273"/>
                  <a:pt x="1240" y="5283"/>
                </a:cubicBezTo>
                <a:cubicBezTo>
                  <a:pt x="1190" y="5323"/>
                  <a:pt x="1125" y="5360"/>
                  <a:pt x="1042" y="5383"/>
                </a:cubicBezTo>
                <a:cubicBezTo>
                  <a:pt x="919" y="5417"/>
                  <a:pt x="789" y="5435"/>
                  <a:pt x="670" y="5482"/>
                </a:cubicBezTo>
                <a:cubicBezTo>
                  <a:pt x="629" y="5502"/>
                  <a:pt x="623" y="5511"/>
                  <a:pt x="595" y="5507"/>
                </a:cubicBezTo>
                <a:cubicBezTo>
                  <a:pt x="650" y="5520"/>
                  <a:pt x="620" y="5515"/>
                  <a:pt x="744" y="5507"/>
                </a:cubicBezTo>
                <a:cubicBezTo>
                  <a:pt x="890" y="5497"/>
                  <a:pt x="1026" y="5512"/>
                  <a:pt x="1166" y="5531"/>
                </a:cubicBezTo>
                <a:cubicBezTo>
                  <a:pt x="1191" y="5531"/>
                  <a:pt x="1199" y="5531"/>
                  <a:pt x="1215" y="5531"/>
                </a:cubicBezTo>
                <a:cubicBezTo>
                  <a:pt x="1155" y="5593"/>
                  <a:pt x="1100" y="5581"/>
                  <a:pt x="1017" y="5606"/>
                </a:cubicBezTo>
                <a:cubicBezTo>
                  <a:pt x="950" y="5626"/>
                  <a:pt x="795" y="5641"/>
                  <a:pt x="744" y="5680"/>
                </a:cubicBezTo>
                <a:cubicBezTo>
                  <a:pt x="744" y="5688"/>
                  <a:pt x="744" y="5697"/>
                  <a:pt x="744" y="5705"/>
                </a:cubicBezTo>
                <a:cubicBezTo>
                  <a:pt x="863" y="5705"/>
                  <a:pt x="976" y="5720"/>
                  <a:pt x="1091" y="5730"/>
                </a:cubicBezTo>
                <a:cubicBezTo>
                  <a:pt x="1188" y="5739"/>
                  <a:pt x="1269" y="5736"/>
                  <a:pt x="1364" y="5755"/>
                </a:cubicBezTo>
                <a:cubicBezTo>
                  <a:pt x="1278" y="5797"/>
                  <a:pt x="1189" y="5763"/>
                  <a:pt x="1091" y="5779"/>
                </a:cubicBezTo>
                <a:cubicBezTo>
                  <a:pt x="1010" y="5793"/>
                  <a:pt x="953" y="5804"/>
                  <a:pt x="868" y="5804"/>
                </a:cubicBezTo>
                <a:cubicBezTo>
                  <a:pt x="801" y="5804"/>
                  <a:pt x="907" y="5804"/>
                  <a:pt x="918" y="5804"/>
                </a:cubicBezTo>
                <a:cubicBezTo>
                  <a:pt x="943" y="5804"/>
                  <a:pt x="967" y="5804"/>
                  <a:pt x="992" y="58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6120" y="2347920"/>
            <a:ext cx="304920" cy="438120"/>
          </a:xfrm>
          <a:custGeom>
            <a:avLst/>
            <a:gdLst/>
            <a:ahLst/>
            <a:rect l="l" t="t" r="r" b="b"/>
            <a:pathLst>
              <a:path w="844" h="1216">
                <a:moveTo>
                  <a:pt x="943" y="6672"/>
                </a:moveTo>
                <a:cubicBezTo>
                  <a:pt x="892" y="6658"/>
                  <a:pt x="836" y="6622"/>
                  <a:pt x="819" y="6672"/>
                </a:cubicBezTo>
                <a:cubicBezTo>
                  <a:pt x="803" y="6719"/>
                  <a:pt x="949" y="6701"/>
                  <a:pt x="967" y="6697"/>
                </a:cubicBezTo>
                <a:cubicBezTo>
                  <a:pt x="1078" y="6676"/>
                  <a:pt x="1174" y="6672"/>
                  <a:pt x="1290" y="6672"/>
                </a:cubicBezTo>
                <a:cubicBezTo>
                  <a:pt x="1303" y="6672"/>
                  <a:pt x="1439" y="6681"/>
                  <a:pt x="1439" y="6722"/>
                </a:cubicBezTo>
                <a:cubicBezTo>
                  <a:pt x="1439" y="6785"/>
                  <a:pt x="1261" y="6811"/>
                  <a:pt x="1240" y="6821"/>
                </a:cubicBezTo>
                <a:cubicBezTo>
                  <a:pt x="1171" y="6855"/>
                  <a:pt x="1014" y="6885"/>
                  <a:pt x="967" y="6945"/>
                </a:cubicBezTo>
                <a:cubicBezTo>
                  <a:pt x="959" y="6962"/>
                  <a:pt x="951" y="6978"/>
                  <a:pt x="943" y="6995"/>
                </a:cubicBezTo>
                <a:cubicBezTo>
                  <a:pt x="1051" y="7012"/>
                  <a:pt x="1154" y="6974"/>
                  <a:pt x="1265" y="6995"/>
                </a:cubicBezTo>
                <a:cubicBezTo>
                  <a:pt x="1301" y="7002"/>
                  <a:pt x="1421" y="7006"/>
                  <a:pt x="1389" y="7069"/>
                </a:cubicBezTo>
                <a:cubicBezTo>
                  <a:pt x="1353" y="7140"/>
                  <a:pt x="1245" y="7146"/>
                  <a:pt x="1166" y="7169"/>
                </a:cubicBezTo>
                <a:cubicBezTo>
                  <a:pt x="1072" y="7197"/>
                  <a:pt x="972" y="7240"/>
                  <a:pt x="893" y="7293"/>
                </a:cubicBezTo>
                <a:cubicBezTo>
                  <a:pt x="928" y="7314"/>
                  <a:pt x="967" y="7317"/>
                  <a:pt x="1042" y="7317"/>
                </a:cubicBezTo>
                <a:cubicBezTo>
                  <a:pt x="1145" y="7317"/>
                  <a:pt x="1299" y="7319"/>
                  <a:pt x="1389" y="7367"/>
                </a:cubicBezTo>
                <a:cubicBezTo>
                  <a:pt x="1466" y="7408"/>
                  <a:pt x="1367" y="7448"/>
                  <a:pt x="1339" y="7466"/>
                </a:cubicBezTo>
                <a:cubicBezTo>
                  <a:pt x="1212" y="7547"/>
                  <a:pt x="1073" y="7527"/>
                  <a:pt x="943" y="7590"/>
                </a:cubicBezTo>
                <a:cubicBezTo>
                  <a:pt x="899" y="7611"/>
                  <a:pt x="859" y="7640"/>
                  <a:pt x="819" y="7665"/>
                </a:cubicBezTo>
                <a:cubicBezTo>
                  <a:pt x="939" y="7665"/>
                  <a:pt x="1047" y="7659"/>
                  <a:pt x="1166" y="7640"/>
                </a:cubicBezTo>
                <a:cubicBezTo>
                  <a:pt x="1314" y="7616"/>
                  <a:pt x="1463" y="7601"/>
                  <a:pt x="1612" y="7590"/>
                </a:cubicBezTo>
                <a:cubicBezTo>
                  <a:pt x="1518" y="7570"/>
                  <a:pt x="1414" y="7547"/>
                  <a:pt x="1315" y="7541"/>
                </a:cubicBezTo>
                <a:cubicBezTo>
                  <a:pt x="1168" y="7532"/>
                  <a:pt x="1010" y="7554"/>
                  <a:pt x="868" y="7516"/>
                </a:cubicBezTo>
                <a:cubicBezTo>
                  <a:pt x="852" y="7508"/>
                  <a:pt x="835" y="7499"/>
                  <a:pt x="819" y="7491"/>
                </a:cubicBezTo>
                <a:cubicBezTo>
                  <a:pt x="855" y="7411"/>
                  <a:pt x="876" y="7362"/>
                  <a:pt x="967" y="7317"/>
                </a:cubicBezTo>
                <a:cubicBezTo>
                  <a:pt x="1109" y="7246"/>
                  <a:pt x="1269" y="7209"/>
                  <a:pt x="1414" y="7144"/>
                </a:cubicBezTo>
                <a:cubicBezTo>
                  <a:pt x="1517" y="7098"/>
                  <a:pt x="1466" y="7124"/>
                  <a:pt x="1513" y="7069"/>
                </a:cubicBezTo>
                <a:cubicBezTo>
                  <a:pt x="1428" y="7014"/>
                  <a:pt x="1339" y="7018"/>
                  <a:pt x="1240" y="6995"/>
                </a:cubicBezTo>
                <a:cubicBezTo>
                  <a:pt x="1178" y="6981"/>
                  <a:pt x="974" y="6993"/>
                  <a:pt x="943" y="6921"/>
                </a:cubicBezTo>
                <a:cubicBezTo>
                  <a:pt x="912" y="6847"/>
                  <a:pt x="991" y="6813"/>
                  <a:pt x="1042" y="6796"/>
                </a:cubicBezTo>
                <a:cubicBezTo>
                  <a:pt x="1164" y="6756"/>
                  <a:pt x="1292" y="6737"/>
                  <a:pt x="1414" y="6697"/>
                </a:cubicBezTo>
                <a:cubicBezTo>
                  <a:pt x="1481" y="6675"/>
                  <a:pt x="1560" y="6665"/>
                  <a:pt x="1439" y="6648"/>
                </a:cubicBezTo>
                <a:cubicBezTo>
                  <a:pt x="1299" y="6629"/>
                  <a:pt x="1152" y="6646"/>
                  <a:pt x="1017" y="6623"/>
                </a:cubicBezTo>
                <a:cubicBezTo>
                  <a:pt x="1009" y="6623"/>
                  <a:pt x="1000" y="6623"/>
                  <a:pt x="992" y="6623"/>
                </a:cubicBezTo>
                <a:cubicBezTo>
                  <a:pt x="1095" y="6554"/>
                  <a:pt x="1170" y="6567"/>
                  <a:pt x="1290" y="6548"/>
                </a:cubicBezTo>
                <a:cubicBezTo>
                  <a:pt x="1321" y="6543"/>
                  <a:pt x="1632" y="6524"/>
                  <a:pt x="1439" y="6524"/>
                </a:cubicBezTo>
                <a:cubicBezTo>
                  <a:pt x="1296" y="6524"/>
                  <a:pt x="1128" y="6499"/>
                  <a:pt x="992" y="6548"/>
                </a:cubicBezTo>
                <a:cubicBezTo>
                  <a:pt x="946" y="6564"/>
                  <a:pt x="1127" y="6542"/>
                  <a:pt x="1166" y="6548"/>
                </a:cubicBezTo>
                <a:cubicBezTo>
                  <a:pt x="1219" y="6556"/>
                  <a:pt x="1370" y="6554"/>
                  <a:pt x="1339" y="6648"/>
                </a:cubicBezTo>
                <a:cubicBezTo>
                  <a:pt x="1312" y="6731"/>
                  <a:pt x="1135" y="6772"/>
                  <a:pt x="1067" y="6796"/>
                </a:cubicBezTo>
                <a:cubicBezTo>
                  <a:pt x="951" y="6838"/>
                  <a:pt x="835" y="6868"/>
                  <a:pt x="769" y="6921"/>
                </a:cubicBezTo>
                <a:cubicBezTo>
                  <a:pt x="882" y="6984"/>
                  <a:pt x="1011" y="6970"/>
                  <a:pt x="1141" y="6995"/>
                </a:cubicBezTo>
                <a:cubicBezTo>
                  <a:pt x="1187" y="7004"/>
                  <a:pt x="1494" y="7042"/>
                  <a:pt x="1513" y="7094"/>
                </a:cubicBezTo>
                <a:cubicBezTo>
                  <a:pt x="1546" y="7185"/>
                  <a:pt x="1387" y="7200"/>
                  <a:pt x="1339" y="7218"/>
                </a:cubicBezTo>
                <a:cubicBezTo>
                  <a:pt x="1184" y="7277"/>
                  <a:pt x="1023" y="7286"/>
                  <a:pt x="868" y="7342"/>
                </a:cubicBezTo>
                <a:cubicBezTo>
                  <a:pt x="736" y="7390"/>
                  <a:pt x="881" y="7391"/>
                  <a:pt x="918" y="7392"/>
                </a:cubicBezTo>
                <a:cubicBezTo>
                  <a:pt x="1067" y="7397"/>
                  <a:pt x="1243" y="7392"/>
                  <a:pt x="1389" y="7417"/>
                </a:cubicBezTo>
                <a:cubicBezTo>
                  <a:pt x="1433" y="7438"/>
                  <a:pt x="1445" y="7441"/>
                  <a:pt x="1463" y="7466"/>
                </a:cubicBezTo>
                <a:cubicBezTo>
                  <a:pt x="1378" y="7488"/>
                  <a:pt x="1282" y="7510"/>
                  <a:pt x="1191" y="7516"/>
                </a:cubicBezTo>
                <a:cubicBezTo>
                  <a:pt x="1085" y="7523"/>
                  <a:pt x="889" y="7502"/>
                  <a:pt x="794" y="7565"/>
                </a:cubicBezTo>
                <a:cubicBezTo>
                  <a:pt x="794" y="7573"/>
                  <a:pt x="794" y="7582"/>
                  <a:pt x="794" y="7590"/>
                </a:cubicBezTo>
                <a:cubicBezTo>
                  <a:pt x="929" y="7590"/>
                  <a:pt x="1058" y="7607"/>
                  <a:pt x="1191" y="7615"/>
                </a:cubicBezTo>
                <a:cubicBezTo>
                  <a:pt x="1204" y="7616"/>
                  <a:pt x="1550" y="7605"/>
                  <a:pt x="1488" y="7714"/>
                </a:cubicBezTo>
                <a:cubicBezTo>
                  <a:pt x="1472" y="7722"/>
                  <a:pt x="1455" y="7731"/>
                  <a:pt x="1439" y="773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57680" y="1544760"/>
            <a:ext cx="2116080" cy="625320"/>
          </a:xfrm>
          <a:custGeom>
            <a:avLst/>
            <a:gdLst/>
            <a:ahLst/>
            <a:rect l="l" t="t" r="r" b="b"/>
            <a:pathLst>
              <a:path w="5879" h="1738">
                <a:moveTo>
                  <a:pt x="8458" y="4986"/>
                </a:moveTo>
                <a:cubicBezTo>
                  <a:pt x="8458" y="5028"/>
                  <a:pt x="8458" y="5225"/>
                  <a:pt x="8458" y="5184"/>
                </a:cubicBezTo>
                <a:cubicBezTo>
                  <a:pt x="8458" y="5135"/>
                  <a:pt x="8441" y="5098"/>
                  <a:pt x="8434" y="5060"/>
                </a:cubicBezTo>
                <a:cubicBezTo>
                  <a:pt x="8427" y="5022"/>
                  <a:pt x="8417" y="4942"/>
                  <a:pt x="8384" y="4911"/>
                </a:cubicBezTo>
                <a:cubicBezTo>
                  <a:pt x="8326" y="4856"/>
                  <a:pt x="8275" y="4844"/>
                  <a:pt x="8210" y="4887"/>
                </a:cubicBezTo>
                <a:cubicBezTo>
                  <a:pt x="8158" y="4921"/>
                  <a:pt x="8124" y="4968"/>
                  <a:pt x="8086" y="5011"/>
                </a:cubicBezTo>
                <a:cubicBezTo>
                  <a:pt x="8032" y="5073"/>
                  <a:pt x="8019" y="5153"/>
                  <a:pt x="7987" y="5234"/>
                </a:cubicBezTo>
                <a:cubicBezTo>
                  <a:pt x="7963" y="5294"/>
                  <a:pt x="7925" y="5418"/>
                  <a:pt x="7938" y="5482"/>
                </a:cubicBezTo>
                <a:cubicBezTo>
                  <a:pt x="7947" y="5527"/>
                  <a:pt x="7962" y="5609"/>
                  <a:pt x="8012" y="5631"/>
                </a:cubicBezTo>
                <a:cubicBezTo>
                  <a:pt x="8049" y="5648"/>
                  <a:pt x="8106" y="5620"/>
                  <a:pt x="8136" y="5606"/>
                </a:cubicBezTo>
                <a:cubicBezTo>
                  <a:pt x="8208" y="5572"/>
                  <a:pt x="8255" y="5506"/>
                  <a:pt x="8310" y="5457"/>
                </a:cubicBezTo>
                <a:cubicBezTo>
                  <a:pt x="8368" y="5406"/>
                  <a:pt x="8388" y="5352"/>
                  <a:pt x="8409" y="5283"/>
                </a:cubicBezTo>
                <a:cubicBezTo>
                  <a:pt x="8417" y="5258"/>
                  <a:pt x="8426" y="5234"/>
                  <a:pt x="8434" y="5209"/>
                </a:cubicBezTo>
                <a:cubicBezTo>
                  <a:pt x="8434" y="5283"/>
                  <a:pt x="8441" y="5338"/>
                  <a:pt x="8458" y="5407"/>
                </a:cubicBezTo>
                <a:cubicBezTo>
                  <a:pt x="8472" y="5464"/>
                  <a:pt x="8491" y="5490"/>
                  <a:pt x="8533" y="5531"/>
                </a:cubicBezTo>
                <a:cubicBezTo>
                  <a:pt x="8571" y="5568"/>
                  <a:pt x="8625" y="5572"/>
                  <a:pt x="8657" y="5556"/>
                </a:cubicBezTo>
              </a:path>
              <a:path w="5879" h="1738">
                <a:moveTo>
                  <a:pt x="8954" y="5011"/>
                </a:moveTo>
                <a:cubicBezTo>
                  <a:pt x="8991" y="5023"/>
                  <a:pt x="8976" y="5035"/>
                  <a:pt x="9029" y="5035"/>
                </a:cubicBezTo>
                <a:cubicBezTo>
                  <a:pt x="9081" y="5035"/>
                  <a:pt x="9138" y="5060"/>
                  <a:pt x="9203" y="5060"/>
                </a:cubicBezTo>
                <a:cubicBezTo>
                  <a:pt x="9266" y="5060"/>
                  <a:pt x="9315" y="5039"/>
                  <a:pt x="9376" y="5035"/>
                </a:cubicBezTo>
                <a:cubicBezTo>
                  <a:pt x="9436" y="5031"/>
                  <a:pt x="9455" y="5017"/>
                  <a:pt x="9426" y="5060"/>
                </a:cubicBezTo>
              </a:path>
              <a:path w="5879" h="1738">
                <a:moveTo>
                  <a:pt x="9004" y="5259"/>
                </a:moveTo>
                <a:cubicBezTo>
                  <a:pt x="9069" y="5259"/>
                  <a:pt x="9117" y="5244"/>
                  <a:pt x="9178" y="5234"/>
                </a:cubicBezTo>
                <a:cubicBezTo>
                  <a:pt x="9220" y="5227"/>
                  <a:pt x="9499" y="5228"/>
                  <a:pt x="9475" y="5209"/>
                </a:cubicBezTo>
                <a:cubicBezTo>
                  <a:pt x="9451" y="5209"/>
                  <a:pt x="9443" y="5209"/>
                  <a:pt x="9451" y="5234"/>
                </a:cubicBezTo>
              </a:path>
              <a:path w="5879" h="1738">
                <a:moveTo>
                  <a:pt x="10468" y="4961"/>
                </a:moveTo>
                <a:cubicBezTo>
                  <a:pt x="10442" y="5021"/>
                  <a:pt x="10427" y="5094"/>
                  <a:pt x="10418" y="5159"/>
                </a:cubicBezTo>
                <a:cubicBezTo>
                  <a:pt x="10392" y="5337"/>
                  <a:pt x="10422" y="5535"/>
                  <a:pt x="10443" y="5705"/>
                </a:cubicBezTo>
                <a:cubicBezTo>
                  <a:pt x="10456" y="5805"/>
                  <a:pt x="10453" y="5902"/>
                  <a:pt x="10468" y="6003"/>
                </a:cubicBezTo>
                <a:cubicBezTo>
                  <a:pt x="10475" y="6052"/>
                  <a:pt x="10445" y="5980"/>
                  <a:pt x="10443" y="5953"/>
                </a:cubicBezTo>
                <a:cubicBezTo>
                  <a:pt x="10443" y="5920"/>
                  <a:pt x="10443" y="5904"/>
                  <a:pt x="10443" y="5879"/>
                </a:cubicBezTo>
              </a:path>
              <a:path w="5879" h="1738">
                <a:moveTo>
                  <a:pt x="10269" y="5085"/>
                </a:moveTo>
                <a:cubicBezTo>
                  <a:pt x="10294" y="5036"/>
                  <a:pt x="10348" y="4884"/>
                  <a:pt x="10418" y="4862"/>
                </a:cubicBezTo>
                <a:cubicBezTo>
                  <a:pt x="10501" y="4836"/>
                  <a:pt x="10608" y="4843"/>
                  <a:pt x="10691" y="4862"/>
                </a:cubicBezTo>
                <a:cubicBezTo>
                  <a:pt x="10751" y="4876"/>
                  <a:pt x="10867" y="4919"/>
                  <a:pt x="10889" y="4986"/>
                </a:cubicBezTo>
                <a:cubicBezTo>
                  <a:pt x="10909" y="5046"/>
                  <a:pt x="10912" y="5102"/>
                  <a:pt x="10889" y="5159"/>
                </a:cubicBezTo>
                <a:cubicBezTo>
                  <a:pt x="10864" y="5222"/>
                  <a:pt x="10781" y="5265"/>
                  <a:pt x="10716" y="5283"/>
                </a:cubicBezTo>
                <a:cubicBezTo>
                  <a:pt x="10632" y="5306"/>
                  <a:pt x="10550" y="5337"/>
                  <a:pt x="10468" y="5358"/>
                </a:cubicBezTo>
                <a:cubicBezTo>
                  <a:pt x="10385" y="5379"/>
                  <a:pt x="10514" y="5309"/>
                  <a:pt x="10517" y="5308"/>
                </a:cubicBezTo>
              </a:path>
              <a:path w="5879" h="1738">
                <a:moveTo>
                  <a:pt x="11311" y="4911"/>
                </a:moveTo>
                <a:cubicBezTo>
                  <a:pt x="11398" y="4911"/>
                  <a:pt x="11451" y="4899"/>
                  <a:pt x="11534" y="4887"/>
                </a:cubicBezTo>
                <a:cubicBezTo>
                  <a:pt x="11615" y="4875"/>
                  <a:pt x="11683" y="4895"/>
                  <a:pt x="11757" y="4911"/>
                </a:cubicBezTo>
                <a:cubicBezTo>
                  <a:pt x="11785" y="4911"/>
                  <a:pt x="11791" y="4913"/>
                  <a:pt x="11757" y="4936"/>
                </a:cubicBezTo>
              </a:path>
              <a:path w="5879" h="1738">
                <a:moveTo>
                  <a:pt x="11361" y="5110"/>
                </a:moveTo>
                <a:cubicBezTo>
                  <a:pt x="11506" y="5110"/>
                  <a:pt x="11642" y="5115"/>
                  <a:pt x="11782" y="5135"/>
                </a:cubicBezTo>
                <a:cubicBezTo>
                  <a:pt x="11834" y="5143"/>
                  <a:pt x="11957" y="5117"/>
                  <a:pt x="11931" y="5135"/>
                </a:cubicBezTo>
                <a:cubicBezTo>
                  <a:pt x="11923" y="5143"/>
                  <a:pt x="11914" y="5151"/>
                  <a:pt x="11906" y="5159"/>
                </a:cubicBezTo>
              </a:path>
              <a:path w="5879" h="1738">
                <a:moveTo>
                  <a:pt x="9872" y="4366"/>
                </a:moveTo>
                <a:cubicBezTo>
                  <a:pt x="9893" y="4414"/>
                  <a:pt x="9927" y="4518"/>
                  <a:pt x="9922" y="4564"/>
                </a:cubicBezTo>
                <a:cubicBezTo>
                  <a:pt x="9914" y="4637"/>
                  <a:pt x="9897" y="4706"/>
                  <a:pt x="9897" y="4787"/>
                </a:cubicBezTo>
                <a:cubicBezTo>
                  <a:pt x="9897" y="4953"/>
                  <a:pt x="9904" y="5133"/>
                  <a:pt x="9872" y="5283"/>
                </a:cubicBezTo>
                <a:cubicBezTo>
                  <a:pt x="9858" y="5347"/>
                  <a:pt x="9896" y="5358"/>
                  <a:pt x="9823" y="5358"/>
                </a:cubicBezTo>
              </a:path>
              <a:path w="5879" h="1738">
                <a:moveTo>
                  <a:pt x="12353" y="4415"/>
                </a:moveTo>
                <a:cubicBezTo>
                  <a:pt x="12431" y="4361"/>
                  <a:pt x="12439" y="4341"/>
                  <a:pt x="12526" y="4341"/>
                </a:cubicBezTo>
                <a:cubicBezTo>
                  <a:pt x="12600" y="4341"/>
                  <a:pt x="12659" y="4382"/>
                  <a:pt x="12725" y="4415"/>
                </a:cubicBezTo>
                <a:cubicBezTo>
                  <a:pt x="12803" y="4454"/>
                  <a:pt x="12833" y="4553"/>
                  <a:pt x="12849" y="4638"/>
                </a:cubicBezTo>
                <a:cubicBezTo>
                  <a:pt x="12870" y="4754"/>
                  <a:pt x="12823" y="4861"/>
                  <a:pt x="12774" y="4961"/>
                </a:cubicBezTo>
                <a:cubicBezTo>
                  <a:pt x="12740" y="5031"/>
                  <a:pt x="12681" y="5080"/>
                  <a:pt x="12626" y="5135"/>
                </a:cubicBezTo>
                <a:cubicBezTo>
                  <a:pt x="12582" y="5179"/>
                  <a:pt x="12535" y="5204"/>
                  <a:pt x="12477" y="5209"/>
                </a:cubicBezTo>
                <a:cubicBezTo>
                  <a:pt x="12428" y="5213"/>
                  <a:pt x="12393" y="5189"/>
                  <a:pt x="12353" y="5159"/>
                </a:cubicBezTo>
                <a:cubicBezTo>
                  <a:pt x="12311" y="5128"/>
                  <a:pt x="12282" y="5087"/>
                  <a:pt x="12278" y="5035"/>
                </a:cubicBezTo>
                <a:cubicBezTo>
                  <a:pt x="12274" y="4979"/>
                  <a:pt x="12305" y="4952"/>
                  <a:pt x="12353" y="4936"/>
                </a:cubicBezTo>
                <a:cubicBezTo>
                  <a:pt x="12383" y="4926"/>
                  <a:pt x="12472" y="4996"/>
                  <a:pt x="12502" y="5011"/>
                </a:cubicBezTo>
                <a:cubicBezTo>
                  <a:pt x="12570" y="5045"/>
                  <a:pt x="12664" y="5074"/>
                  <a:pt x="12725" y="5110"/>
                </a:cubicBezTo>
                <a:cubicBezTo>
                  <a:pt x="12762" y="5132"/>
                  <a:pt x="12806" y="5154"/>
                  <a:pt x="12849" y="5159"/>
                </a:cubicBezTo>
                <a:cubicBezTo>
                  <a:pt x="12894" y="5164"/>
                  <a:pt x="12913" y="5160"/>
                  <a:pt x="12948" y="5135"/>
                </a:cubicBezTo>
              </a:path>
              <a:path w="5879" h="1738">
                <a:moveTo>
                  <a:pt x="13196" y="4390"/>
                </a:moveTo>
                <a:cubicBezTo>
                  <a:pt x="13309" y="4357"/>
                  <a:pt x="13405" y="4320"/>
                  <a:pt x="13519" y="4316"/>
                </a:cubicBezTo>
                <a:cubicBezTo>
                  <a:pt x="13605" y="4313"/>
                  <a:pt x="13664" y="4324"/>
                  <a:pt x="13742" y="4291"/>
                </a:cubicBezTo>
              </a:path>
              <a:path w="5879" h="1738">
                <a:moveTo>
                  <a:pt x="13295" y="4366"/>
                </a:moveTo>
                <a:cubicBezTo>
                  <a:pt x="13258" y="4514"/>
                  <a:pt x="13221" y="4637"/>
                  <a:pt x="13221" y="4787"/>
                </a:cubicBezTo>
                <a:cubicBezTo>
                  <a:pt x="13221" y="4843"/>
                  <a:pt x="13246" y="4880"/>
                  <a:pt x="13246" y="4936"/>
                </a:cubicBezTo>
                <a:cubicBezTo>
                  <a:pt x="13246" y="4993"/>
                  <a:pt x="13271" y="5029"/>
                  <a:pt x="13271" y="5085"/>
                </a:cubicBezTo>
                <a:cubicBezTo>
                  <a:pt x="13271" y="5110"/>
                  <a:pt x="13271" y="5118"/>
                  <a:pt x="13271" y="5085"/>
                </a:cubicBezTo>
              </a:path>
              <a:path w="5879" h="1738">
                <a:moveTo>
                  <a:pt x="13543" y="4440"/>
                </a:moveTo>
                <a:cubicBezTo>
                  <a:pt x="13526" y="4520"/>
                  <a:pt x="13498" y="4629"/>
                  <a:pt x="13519" y="4713"/>
                </a:cubicBezTo>
                <a:cubicBezTo>
                  <a:pt x="13544" y="4810"/>
                  <a:pt x="13615" y="4882"/>
                  <a:pt x="13667" y="4961"/>
                </a:cubicBezTo>
                <a:cubicBezTo>
                  <a:pt x="13716" y="5035"/>
                  <a:pt x="13748" y="5080"/>
                  <a:pt x="13816" y="51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56000" y="2357280"/>
            <a:ext cx="544680" cy="268560"/>
          </a:xfrm>
          <a:custGeom>
            <a:avLst/>
            <a:gdLst/>
            <a:ahLst/>
            <a:rect l="l" t="t" r="r" b="b"/>
            <a:pathLst>
              <a:path w="1514" h="746">
                <a:moveTo>
                  <a:pt x="10145" y="6970"/>
                </a:moveTo>
                <a:cubicBezTo>
                  <a:pt x="10153" y="6960"/>
                  <a:pt x="10190" y="6926"/>
                  <a:pt x="10195" y="6896"/>
                </a:cubicBezTo>
                <a:cubicBezTo>
                  <a:pt x="10205" y="6828"/>
                  <a:pt x="10181" y="6776"/>
                  <a:pt x="10170" y="6722"/>
                </a:cubicBezTo>
                <a:cubicBezTo>
                  <a:pt x="10157" y="6656"/>
                  <a:pt x="10145" y="6648"/>
                  <a:pt x="10096" y="6598"/>
                </a:cubicBezTo>
                <a:cubicBezTo>
                  <a:pt x="10033" y="6535"/>
                  <a:pt x="9970" y="6541"/>
                  <a:pt x="9897" y="6573"/>
                </a:cubicBezTo>
                <a:cubicBezTo>
                  <a:pt x="9833" y="6602"/>
                  <a:pt x="9763" y="6665"/>
                  <a:pt x="9723" y="6722"/>
                </a:cubicBezTo>
                <a:cubicBezTo>
                  <a:pt x="9665" y="6803"/>
                  <a:pt x="9629" y="6873"/>
                  <a:pt x="9624" y="6970"/>
                </a:cubicBezTo>
                <a:cubicBezTo>
                  <a:pt x="9619" y="7066"/>
                  <a:pt x="9588" y="7127"/>
                  <a:pt x="9649" y="7218"/>
                </a:cubicBezTo>
                <a:cubicBezTo>
                  <a:pt x="9690" y="7279"/>
                  <a:pt x="9749" y="7314"/>
                  <a:pt x="9823" y="7293"/>
                </a:cubicBezTo>
                <a:cubicBezTo>
                  <a:pt x="9921" y="7265"/>
                  <a:pt x="9962" y="7248"/>
                  <a:pt x="10046" y="7193"/>
                </a:cubicBezTo>
                <a:cubicBezTo>
                  <a:pt x="10117" y="7146"/>
                  <a:pt x="10168" y="7107"/>
                  <a:pt x="10220" y="7045"/>
                </a:cubicBezTo>
                <a:cubicBezTo>
                  <a:pt x="10248" y="7011"/>
                  <a:pt x="10254" y="6982"/>
                  <a:pt x="10269" y="6945"/>
                </a:cubicBezTo>
                <a:cubicBezTo>
                  <a:pt x="10269" y="7017"/>
                  <a:pt x="10250" y="7115"/>
                  <a:pt x="10294" y="7169"/>
                </a:cubicBezTo>
                <a:cubicBezTo>
                  <a:pt x="10324" y="7205"/>
                  <a:pt x="10377" y="7250"/>
                  <a:pt x="10418" y="7268"/>
                </a:cubicBezTo>
                <a:cubicBezTo>
                  <a:pt x="10459" y="7287"/>
                  <a:pt x="10519" y="7302"/>
                  <a:pt x="10567" y="7293"/>
                </a:cubicBezTo>
                <a:cubicBezTo>
                  <a:pt x="10625" y="7282"/>
                  <a:pt x="10627" y="7249"/>
                  <a:pt x="10666" y="7193"/>
                </a:cubicBezTo>
              </a:path>
              <a:path w="1514" h="746">
                <a:moveTo>
                  <a:pt x="10666" y="6747"/>
                </a:moveTo>
                <a:cubicBezTo>
                  <a:pt x="10778" y="6721"/>
                  <a:pt x="10852" y="6697"/>
                  <a:pt x="10964" y="6697"/>
                </a:cubicBezTo>
                <a:cubicBezTo>
                  <a:pt x="11017" y="6697"/>
                  <a:pt x="11065" y="6746"/>
                  <a:pt x="11112" y="6722"/>
                </a:cubicBezTo>
                <a:cubicBezTo>
                  <a:pt x="11112" y="6714"/>
                  <a:pt x="11112" y="6705"/>
                  <a:pt x="11112" y="6697"/>
                </a:cubicBezTo>
              </a:path>
              <a:path w="1514" h="746">
                <a:moveTo>
                  <a:pt x="10666" y="6945"/>
                </a:moveTo>
                <a:cubicBezTo>
                  <a:pt x="10739" y="6945"/>
                  <a:pt x="10791" y="6967"/>
                  <a:pt x="10864" y="6970"/>
                </a:cubicBezTo>
                <a:cubicBezTo>
                  <a:pt x="10927" y="6973"/>
                  <a:pt x="10973" y="6945"/>
                  <a:pt x="11038" y="6945"/>
                </a:cubicBezTo>
                <a:cubicBezTo>
                  <a:pt x="11083" y="6945"/>
                  <a:pt x="11100" y="6932"/>
                  <a:pt x="11112" y="697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5160" y="2214720"/>
            <a:ext cx="63720" cy="339480"/>
          </a:xfrm>
          <a:custGeom>
            <a:avLst/>
            <a:gdLst/>
            <a:ahLst/>
            <a:rect l="l" t="t" r="r" b="b"/>
            <a:pathLst>
              <a:path w="175" h="943">
                <a:moveTo>
                  <a:pt x="11708" y="6152"/>
                </a:moveTo>
                <a:cubicBezTo>
                  <a:pt x="11708" y="6223"/>
                  <a:pt x="11691" y="6282"/>
                  <a:pt x="11683" y="6350"/>
                </a:cubicBezTo>
                <a:cubicBezTo>
                  <a:pt x="11671" y="6460"/>
                  <a:pt x="11678" y="6593"/>
                  <a:pt x="11708" y="6697"/>
                </a:cubicBezTo>
                <a:cubicBezTo>
                  <a:pt x="11731" y="6778"/>
                  <a:pt x="11769" y="6872"/>
                  <a:pt x="11782" y="6945"/>
                </a:cubicBezTo>
                <a:cubicBezTo>
                  <a:pt x="11789" y="6982"/>
                  <a:pt x="11782" y="7030"/>
                  <a:pt x="11782" y="7069"/>
                </a:cubicBezTo>
                <a:cubicBezTo>
                  <a:pt x="11836" y="7069"/>
                  <a:pt x="11819" y="7081"/>
                  <a:pt x="11857" y="709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11840" y="2160720"/>
            <a:ext cx="1347840" cy="733320"/>
          </a:xfrm>
          <a:custGeom>
            <a:avLst/>
            <a:gdLst/>
            <a:ahLst/>
            <a:rect l="l" t="t" r="r" b="b"/>
            <a:pathLst>
              <a:path w="3746" h="2035">
                <a:moveTo>
                  <a:pt x="13841" y="6722"/>
                </a:moveTo>
                <a:cubicBezTo>
                  <a:pt x="13828" y="6773"/>
                  <a:pt x="13816" y="6785"/>
                  <a:pt x="13816" y="6846"/>
                </a:cubicBezTo>
                <a:cubicBezTo>
                  <a:pt x="13816" y="7206"/>
                  <a:pt x="13892" y="7675"/>
                  <a:pt x="13791" y="8012"/>
                </a:cubicBezTo>
                <a:cubicBezTo>
                  <a:pt x="13773" y="8071"/>
                  <a:pt x="13791" y="7976"/>
                  <a:pt x="13791" y="7962"/>
                </a:cubicBezTo>
              </a:path>
              <a:path w="3746" h="2035">
                <a:moveTo>
                  <a:pt x="13643" y="6945"/>
                </a:moveTo>
                <a:cubicBezTo>
                  <a:pt x="13643" y="6845"/>
                  <a:pt x="13628" y="6735"/>
                  <a:pt x="13692" y="6648"/>
                </a:cubicBezTo>
                <a:cubicBezTo>
                  <a:pt x="13739" y="6584"/>
                  <a:pt x="13808" y="6496"/>
                  <a:pt x="13891" y="6474"/>
                </a:cubicBezTo>
                <a:cubicBezTo>
                  <a:pt x="13977" y="6451"/>
                  <a:pt x="14104" y="6426"/>
                  <a:pt x="14188" y="6474"/>
                </a:cubicBezTo>
                <a:cubicBezTo>
                  <a:pt x="14305" y="6541"/>
                  <a:pt x="14350" y="6644"/>
                  <a:pt x="14337" y="6772"/>
                </a:cubicBezTo>
                <a:cubicBezTo>
                  <a:pt x="14332" y="6823"/>
                  <a:pt x="14228" y="6939"/>
                  <a:pt x="14188" y="6970"/>
                </a:cubicBezTo>
                <a:cubicBezTo>
                  <a:pt x="14134" y="7011"/>
                  <a:pt x="14030" y="7056"/>
                  <a:pt x="13965" y="7069"/>
                </a:cubicBezTo>
                <a:cubicBezTo>
                  <a:pt x="13912" y="7080"/>
                  <a:pt x="13846" y="7069"/>
                  <a:pt x="13791" y="7069"/>
                </a:cubicBezTo>
                <a:cubicBezTo>
                  <a:pt x="13805" y="7014"/>
                  <a:pt x="13870" y="6985"/>
                  <a:pt x="13915" y="6945"/>
                </a:cubicBezTo>
              </a:path>
              <a:path w="3746" h="2035">
                <a:moveTo>
                  <a:pt x="14610" y="6573"/>
                </a:moveTo>
                <a:cubicBezTo>
                  <a:pt x="14730" y="6539"/>
                  <a:pt x="14836" y="6505"/>
                  <a:pt x="14957" y="6499"/>
                </a:cubicBezTo>
                <a:cubicBezTo>
                  <a:pt x="15034" y="6495"/>
                  <a:pt x="15064" y="6459"/>
                  <a:pt x="15131" y="6499"/>
                </a:cubicBezTo>
              </a:path>
              <a:path w="3746" h="2035">
                <a:moveTo>
                  <a:pt x="14610" y="6846"/>
                </a:moveTo>
                <a:cubicBezTo>
                  <a:pt x="14687" y="6836"/>
                  <a:pt x="14751" y="6821"/>
                  <a:pt x="14833" y="6821"/>
                </a:cubicBezTo>
                <a:cubicBezTo>
                  <a:pt x="14933" y="6821"/>
                  <a:pt x="15013" y="6824"/>
                  <a:pt x="15106" y="6846"/>
                </a:cubicBezTo>
                <a:cubicBezTo>
                  <a:pt x="15118" y="6849"/>
                  <a:pt x="15240" y="6847"/>
                  <a:pt x="15205" y="6821"/>
                </a:cubicBezTo>
                <a:cubicBezTo>
                  <a:pt x="15180" y="6821"/>
                  <a:pt x="15172" y="6821"/>
                  <a:pt x="15180" y="6796"/>
                </a:cubicBezTo>
              </a:path>
              <a:path w="3746" h="2035">
                <a:moveTo>
                  <a:pt x="15974" y="6052"/>
                </a:moveTo>
                <a:cubicBezTo>
                  <a:pt x="15938" y="6070"/>
                  <a:pt x="15857" y="6133"/>
                  <a:pt x="15825" y="6176"/>
                </a:cubicBezTo>
                <a:cubicBezTo>
                  <a:pt x="15761" y="6260"/>
                  <a:pt x="15716" y="6377"/>
                  <a:pt x="15677" y="6474"/>
                </a:cubicBezTo>
                <a:cubicBezTo>
                  <a:pt x="15636" y="6577"/>
                  <a:pt x="15597" y="6734"/>
                  <a:pt x="15627" y="6846"/>
                </a:cubicBezTo>
                <a:cubicBezTo>
                  <a:pt x="15644" y="6909"/>
                  <a:pt x="15698" y="6984"/>
                  <a:pt x="15751" y="7020"/>
                </a:cubicBezTo>
                <a:cubicBezTo>
                  <a:pt x="15827" y="7071"/>
                  <a:pt x="15877" y="7031"/>
                  <a:pt x="15949" y="6995"/>
                </a:cubicBezTo>
                <a:cubicBezTo>
                  <a:pt x="16031" y="6954"/>
                  <a:pt x="16099" y="6926"/>
                  <a:pt x="16148" y="6846"/>
                </a:cubicBezTo>
                <a:cubicBezTo>
                  <a:pt x="16189" y="6778"/>
                  <a:pt x="16203" y="6713"/>
                  <a:pt x="16173" y="6648"/>
                </a:cubicBezTo>
                <a:cubicBezTo>
                  <a:pt x="16142" y="6580"/>
                  <a:pt x="16063" y="6603"/>
                  <a:pt x="16024" y="6648"/>
                </a:cubicBezTo>
                <a:cubicBezTo>
                  <a:pt x="15956" y="6727"/>
                  <a:pt x="15925" y="6793"/>
                  <a:pt x="15875" y="6896"/>
                </a:cubicBezTo>
                <a:cubicBezTo>
                  <a:pt x="15848" y="6953"/>
                  <a:pt x="15832" y="6997"/>
                  <a:pt x="15875" y="7045"/>
                </a:cubicBezTo>
                <a:cubicBezTo>
                  <a:pt x="15914" y="7088"/>
                  <a:pt x="15890" y="7089"/>
                  <a:pt x="15949" y="7094"/>
                </a:cubicBezTo>
                <a:cubicBezTo>
                  <a:pt x="15977" y="7094"/>
                  <a:pt x="15988" y="7092"/>
                  <a:pt x="15999" y="7069"/>
                </a:cubicBezTo>
              </a:path>
              <a:path w="3746" h="2035">
                <a:moveTo>
                  <a:pt x="16470" y="6127"/>
                </a:moveTo>
                <a:cubicBezTo>
                  <a:pt x="16592" y="6127"/>
                  <a:pt x="16704" y="6116"/>
                  <a:pt x="16818" y="6102"/>
                </a:cubicBezTo>
                <a:cubicBezTo>
                  <a:pt x="16938" y="6087"/>
                  <a:pt x="17058" y="6109"/>
                  <a:pt x="17165" y="6077"/>
                </a:cubicBezTo>
                <a:cubicBezTo>
                  <a:pt x="17230" y="6057"/>
                  <a:pt x="17208" y="6046"/>
                  <a:pt x="17165" y="6003"/>
                </a:cubicBezTo>
              </a:path>
              <a:path w="3746" h="2035">
                <a:moveTo>
                  <a:pt x="16743" y="6176"/>
                </a:moveTo>
                <a:cubicBezTo>
                  <a:pt x="16743" y="6315"/>
                  <a:pt x="16724" y="6439"/>
                  <a:pt x="16718" y="6573"/>
                </a:cubicBezTo>
                <a:cubicBezTo>
                  <a:pt x="16716" y="6618"/>
                  <a:pt x="16733" y="6956"/>
                  <a:pt x="16743" y="6945"/>
                </a:cubicBezTo>
                <a:cubicBezTo>
                  <a:pt x="16751" y="6929"/>
                  <a:pt x="16760" y="6912"/>
                  <a:pt x="16768" y="6896"/>
                </a:cubicBezTo>
              </a:path>
              <a:path w="3746" h="2035">
                <a:moveTo>
                  <a:pt x="16892" y="6077"/>
                </a:moveTo>
                <a:cubicBezTo>
                  <a:pt x="16892" y="6237"/>
                  <a:pt x="16861" y="6410"/>
                  <a:pt x="16942" y="6548"/>
                </a:cubicBezTo>
                <a:cubicBezTo>
                  <a:pt x="17010" y="6663"/>
                  <a:pt x="17103" y="6772"/>
                  <a:pt x="17214" y="6846"/>
                </a:cubicBezTo>
                <a:cubicBezTo>
                  <a:pt x="17312" y="6895"/>
                  <a:pt x="17344" y="6910"/>
                  <a:pt x="17388" y="697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3062160"/>
            <a:ext cx="7850160" cy="2679840"/>
          </a:xfrm>
          <a:custGeom>
            <a:avLst/>
            <a:gdLst/>
            <a:ahLst/>
            <a:rect l="l" t="t" r="r" b="b"/>
            <a:pathLst>
              <a:path w="21805" h="7442">
                <a:moveTo>
                  <a:pt x="2753" y="8508"/>
                </a:moveTo>
                <a:cubicBezTo>
                  <a:pt x="2753" y="8509"/>
                  <a:pt x="2777" y="8593"/>
                  <a:pt x="2778" y="8632"/>
                </a:cubicBezTo>
                <a:cubicBezTo>
                  <a:pt x="2784" y="8907"/>
                  <a:pt x="2787" y="9179"/>
                  <a:pt x="2803" y="9451"/>
                </a:cubicBezTo>
                <a:cubicBezTo>
                  <a:pt x="2812" y="9603"/>
                  <a:pt x="2812" y="9747"/>
                  <a:pt x="2828" y="9897"/>
                </a:cubicBezTo>
                <a:cubicBezTo>
                  <a:pt x="2841" y="10022"/>
                  <a:pt x="2851" y="10142"/>
                  <a:pt x="2853" y="10269"/>
                </a:cubicBezTo>
                <a:cubicBezTo>
                  <a:pt x="2856" y="10430"/>
                  <a:pt x="2874" y="10580"/>
                  <a:pt x="2877" y="10740"/>
                </a:cubicBezTo>
                <a:cubicBezTo>
                  <a:pt x="2882" y="11022"/>
                  <a:pt x="2896" y="11303"/>
                  <a:pt x="2902" y="11584"/>
                </a:cubicBezTo>
                <a:cubicBezTo>
                  <a:pt x="2911" y="12041"/>
                  <a:pt x="2877" y="12494"/>
                  <a:pt x="2877" y="12948"/>
                </a:cubicBezTo>
                <a:cubicBezTo>
                  <a:pt x="2877" y="13445"/>
                  <a:pt x="2874" y="13942"/>
                  <a:pt x="2902" y="14436"/>
                </a:cubicBezTo>
                <a:cubicBezTo>
                  <a:pt x="2912" y="14608"/>
                  <a:pt x="2919" y="14788"/>
                  <a:pt x="2927" y="14957"/>
                </a:cubicBezTo>
                <a:cubicBezTo>
                  <a:pt x="2939" y="15223"/>
                  <a:pt x="2917" y="15491"/>
                  <a:pt x="2902" y="15751"/>
                </a:cubicBezTo>
                <a:cubicBezTo>
                  <a:pt x="2898" y="15825"/>
                  <a:pt x="2947" y="15866"/>
                  <a:pt x="2902" y="15925"/>
                </a:cubicBezTo>
                <a:cubicBezTo>
                  <a:pt x="2894" y="15908"/>
                  <a:pt x="2885" y="15892"/>
                  <a:pt x="2877" y="15875"/>
                </a:cubicBezTo>
              </a:path>
              <a:path w="21805" h="7442">
                <a:moveTo>
                  <a:pt x="595" y="12080"/>
                </a:moveTo>
                <a:cubicBezTo>
                  <a:pt x="683" y="12077"/>
                  <a:pt x="748" y="12053"/>
                  <a:pt x="843" y="12055"/>
                </a:cubicBezTo>
                <a:cubicBezTo>
                  <a:pt x="1099" y="12060"/>
                  <a:pt x="1353" y="12068"/>
                  <a:pt x="1612" y="12080"/>
                </a:cubicBezTo>
                <a:cubicBezTo>
                  <a:pt x="1853" y="12091"/>
                  <a:pt x="2090" y="12094"/>
                  <a:pt x="2332" y="12105"/>
                </a:cubicBezTo>
                <a:cubicBezTo>
                  <a:pt x="2488" y="12112"/>
                  <a:pt x="2645" y="12120"/>
                  <a:pt x="2803" y="12129"/>
                </a:cubicBezTo>
                <a:cubicBezTo>
                  <a:pt x="3118" y="12146"/>
                  <a:pt x="3429" y="12152"/>
                  <a:pt x="3746" y="12154"/>
                </a:cubicBezTo>
                <a:cubicBezTo>
                  <a:pt x="4595" y="12160"/>
                  <a:pt x="5435" y="12140"/>
                  <a:pt x="6276" y="12080"/>
                </a:cubicBezTo>
                <a:cubicBezTo>
                  <a:pt x="6434" y="12069"/>
                  <a:pt x="6587" y="12059"/>
                  <a:pt x="6747" y="12055"/>
                </a:cubicBezTo>
                <a:cubicBezTo>
                  <a:pt x="7054" y="12048"/>
                  <a:pt x="7357" y="12043"/>
                  <a:pt x="7665" y="12030"/>
                </a:cubicBezTo>
                <a:cubicBezTo>
                  <a:pt x="7919" y="12019"/>
                  <a:pt x="8179" y="11995"/>
                  <a:pt x="8434" y="11981"/>
                </a:cubicBezTo>
                <a:cubicBezTo>
                  <a:pt x="8576" y="11973"/>
                  <a:pt x="8714" y="11964"/>
                  <a:pt x="8855" y="11956"/>
                </a:cubicBezTo>
                <a:cubicBezTo>
                  <a:pt x="9126" y="11940"/>
                  <a:pt x="9405" y="11913"/>
                  <a:pt x="9674" y="11906"/>
                </a:cubicBezTo>
                <a:cubicBezTo>
                  <a:pt x="10562" y="11882"/>
                  <a:pt x="11447" y="11923"/>
                  <a:pt x="12328" y="11981"/>
                </a:cubicBezTo>
                <a:cubicBezTo>
                  <a:pt x="12494" y="11992"/>
                  <a:pt x="12658" y="11994"/>
                  <a:pt x="12824" y="12005"/>
                </a:cubicBezTo>
                <a:cubicBezTo>
                  <a:pt x="13147" y="12027"/>
                  <a:pt x="13470" y="12036"/>
                  <a:pt x="13791" y="12055"/>
                </a:cubicBezTo>
                <a:cubicBezTo>
                  <a:pt x="13949" y="12064"/>
                  <a:pt x="14105" y="12069"/>
                  <a:pt x="14263" y="12080"/>
                </a:cubicBezTo>
                <a:cubicBezTo>
                  <a:pt x="14420" y="12091"/>
                  <a:pt x="14578" y="12102"/>
                  <a:pt x="14734" y="12105"/>
                </a:cubicBezTo>
                <a:cubicBezTo>
                  <a:pt x="15031" y="12111"/>
                  <a:pt x="15332" y="12103"/>
                  <a:pt x="15627" y="12080"/>
                </a:cubicBezTo>
                <a:cubicBezTo>
                  <a:pt x="15734" y="12072"/>
                  <a:pt x="15843" y="12070"/>
                  <a:pt x="15949" y="12055"/>
                </a:cubicBezTo>
                <a:cubicBezTo>
                  <a:pt x="16041" y="12042"/>
                  <a:pt x="16130" y="12016"/>
                  <a:pt x="16222" y="12005"/>
                </a:cubicBezTo>
                <a:cubicBezTo>
                  <a:pt x="16298" y="11996"/>
                  <a:pt x="16368" y="11989"/>
                  <a:pt x="16446" y="11981"/>
                </a:cubicBezTo>
                <a:cubicBezTo>
                  <a:pt x="16508" y="11975"/>
                  <a:pt x="16550" y="11960"/>
                  <a:pt x="16619" y="11956"/>
                </a:cubicBezTo>
                <a:cubicBezTo>
                  <a:pt x="16917" y="11938"/>
                  <a:pt x="17195" y="11930"/>
                  <a:pt x="17462" y="11881"/>
                </a:cubicBezTo>
                <a:cubicBezTo>
                  <a:pt x="17511" y="11872"/>
                  <a:pt x="17558" y="11840"/>
                  <a:pt x="17611" y="11832"/>
                </a:cubicBezTo>
                <a:cubicBezTo>
                  <a:pt x="17668" y="11823"/>
                  <a:pt x="17705" y="11813"/>
                  <a:pt x="17760" y="11807"/>
                </a:cubicBezTo>
                <a:cubicBezTo>
                  <a:pt x="18141" y="11763"/>
                  <a:pt x="18572" y="11845"/>
                  <a:pt x="18951" y="11881"/>
                </a:cubicBezTo>
                <a:cubicBezTo>
                  <a:pt x="19116" y="11897"/>
                  <a:pt x="19281" y="11919"/>
                  <a:pt x="19447" y="11931"/>
                </a:cubicBezTo>
                <a:cubicBezTo>
                  <a:pt x="19611" y="11943"/>
                  <a:pt x="19779" y="11940"/>
                  <a:pt x="19943" y="11956"/>
                </a:cubicBezTo>
                <a:cubicBezTo>
                  <a:pt x="20074" y="11969"/>
                  <a:pt x="20208" y="11990"/>
                  <a:pt x="20340" y="12005"/>
                </a:cubicBezTo>
                <a:cubicBezTo>
                  <a:pt x="20523" y="12026"/>
                  <a:pt x="20704" y="12037"/>
                  <a:pt x="20886" y="12055"/>
                </a:cubicBezTo>
                <a:cubicBezTo>
                  <a:pt x="21059" y="12072"/>
                  <a:pt x="21232" y="12093"/>
                  <a:pt x="21406" y="12105"/>
                </a:cubicBezTo>
                <a:cubicBezTo>
                  <a:pt x="21533" y="12114"/>
                  <a:pt x="21650" y="12130"/>
                  <a:pt x="21779" y="12129"/>
                </a:cubicBezTo>
                <a:cubicBezTo>
                  <a:pt x="21955" y="12128"/>
                  <a:pt x="22125" y="12122"/>
                  <a:pt x="22299" y="12105"/>
                </a:cubicBezTo>
                <a:cubicBezTo>
                  <a:pt x="22340" y="12101"/>
                  <a:pt x="22358" y="12084"/>
                  <a:pt x="22399" y="12080"/>
                </a:cubicBezTo>
              </a:path>
              <a:path w="21805" h="7442">
                <a:moveTo>
                  <a:pt x="2282" y="9847"/>
                </a:moveTo>
                <a:cubicBezTo>
                  <a:pt x="2629" y="9847"/>
                  <a:pt x="3581" y="10026"/>
                  <a:pt x="3299" y="9823"/>
                </a:cubicBezTo>
                <a:cubicBezTo>
                  <a:pt x="3291" y="9823"/>
                  <a:pt x="3282" y="9823"/>
                  <a:pt x="3274" y="9823"/>
                </a:cubicBezTo>
              </a:path>
              <a:path w="21805" h="7442">
                <a:moveTo>
                  <a:pt x="1984" y="9302"/>
                </a:moveTo>
                <a:cubicBezTo>
                  <a:pt x="1984" y="9381"/>
                  <a:pt x="1989" y="9433"/>
                  <a:pt x="1984" y="9500"/>
                </a:cubicBezTo>
                <a:cubicBezTo>
                  <a:pt x="1973" y="9654"/>
                  <a:pt x="1984" y="9816"/>
                  <a:pt x="1984" y="9971"/>
                </a:cubicBezTo>
              </a:path>
              <a:path w="21805" h="7442">
                <a:moveTo>
                  <a:pt x="2406" y="14163"/>
                </a:moveTo>
                <a:cubicBezTo>
                  <a:pt x="2454" y="14163"/>
                  <a:pt x="2512" y="14173"/>
                  <a:pt x="2555" y="14188"/>
                </a:cubicBezTo>
                <a:cubicBezTo>
                  <a:pt x="2674" y="14228"/>
                  <a:pt x="2804" y="14237"/>
                  <a:pt x="2927" y="14263"/>
                </a:cubicBezTo>
                <a:cubicBezTo>
                  <a:pt x="3013" y="14282"/>
                  <a:pt x="3091" y="14313"/>
                  <a:pt x="3175" y="14337"/>
                </a:cubicBezTo>
                <a:cubicBezTo>
                  <a:pt x="3195" y="14343"/>
                  <a:pt x="3228" y="14337"/>
                  <a:pt x="3249" y="14337"/>
                </a:cubicBezTo>
              </a:path>
              <a:path w="21805" h="7442">
                <a:moveTo>
                  <a:pt x="1414" y="14089"/>
                </a:moveTo>
                <a:cubicBezTo>
                  <a:pt x="1481" y="14095"/>
                  <a:pt x="1568" y="14133"/>
                  <a:pt x="1637" y="14114"/>
                </a:cubicBezTo>
                <a:cubicBezTo>
                  <a:pt x="1678" y="14094"/>
                  <a:pt x="1684" y="14085"/>
                  <a:pt x="1712" y="14089"/>
                </a:cubicBezTo>
              </a:path>
              <a:path w="21805" h="7442">
                <a:moveTo>
                  <a:pt x="2084" y="13816"/>
                </a:moveTo>
                <a:cubicBezTo>
                  <a:pt x="2084" y="14048"/>
                  <a:pt x="2084" y="14279"/>
                  <a:pt x="2084" y="14511"/>
                </a:cubicBezTo>
              </a:path>
              <a:path w="21805" h="7442">
                <a:moveTo>
                  <a:pt x="8310" y="11534"/>
                </a:moveTo>
                <a:cubicBezTo>
                  <a:pt x="8310" y="11591"/>
                  <a:pt x="8317" y="11656"/>
                  <a:pt x="8334" y="11708"/>
                </a:cubicBezTo>
                <a:cubicBezTo>
                  <a:pt x="8356" y="11773"/>
                  <a:pt x="8363" y="11843"/>
                  <a:pt x="8384" y="11906"/>
                </a:cubicBezTo>
                <a:cubicBezTo>
                  <a:pt x="8414" y="11994"/>
                  <a:pt x="8425" y="12086"/>
                  <a:pt x="8434" y="12179"/>
                </a:cubicBezTo>
              </a:path>
              <a:path w="21805" h="7442">
                <a:moveTo>
                  <a:pt x="8161" y="12725"/>
                </a:moveTo>
                <a:cubicBezTo>
                  <a:pt x="8203" y="12651"/>
                  <a:pt x="8202" y="12650"/>
                  <a:pt x="8285" y="12650"/>
                </a:cubicBezTo>
                <a:cubicBezTo>
                  <a:pt x="8342" y="12650"/>
                  <a:pt x="8385" y="12642"/>
                  <a:pt x="8434" y="12675"/>
                </a:cubicBezTo>
                <a:cubicBezTo>
                  <a:pt x="8494" y="12716"/>
                  <a:pt x="8483" y="12787"/>
                  <a:pt x="8483" y="12849"/>
                </a:cubicBezTo>
                <a:cubicBezTo>
                  <a:pt x="8483" y="12944"/>
                  <a:pt x="8418" y="13026"/>
                  <a:pt x="8359" y="13097"/>
                </a:cubicBezTo>
                <a:cubicBezTo>
                  <a:pt x="8307" y="13159"/>
                  <a:pt x="8243" y="13194"/>
                  <a:pt x="8186" y="13246"/>
                </a:cubicBezTo>
                <a:cubicBezTo>
                  <a:pt x="8163" y="13269"/>
                  <a:pt x="8159" y="13277"/>
                  <a:pt x="8136" y="13271"/>
                </a:cubicBezTo>
                <a:cubicBezTo>
                  <a:pt x="8164" y="13243"/>
                  <a:pt x="8200" y="13208"/>
                  <a:pt x="8235" y="13196"/>
                </a:cubicBezTo>
                <a:cubicBezTo>
                  <a:pt x="8288" y="13178"/>
                  <a:pt x="8345" y="13213"/>
                  <a:pt x="8384" y="13221"/>
                </a:cubicBezTo>
                <a:cubicBezTo>
                  <a:pt x="8452" y="13235"/>
                  <a:pt x="8510" y="13246"/>
                  <a:pt x="8582" y="13246"/>
                </a:cubicBezTo>
                <a:cubicBezTo>
                  <a:pt x="8647" y="13246"/>
                  <a:pt x="8646" y="13247"/>
                  <a:pt x="8706" y="13221"/>
                </a:cubicBezTo>
              </a:path>
              <a:path w="21805" h="7442">
                <a:moveTo>
                  <a:pt x="8806" y="12725"/>
                </a:moveTo>
                <a:cubicBezTo>
                  <a:pt x="8880" y="12725"/>
                  <a:pt x="8937" y="12741"/>
                  <a:pt x="9004" y="12750"/>
                </a:cubicBezTo>
                <a:cubicBezTo>
                  <a:pt x="9067" y="12758"/>
                  <a:pt x="9117" y="12767"/>
                  <a:pt x="9178" y="12774"/>
                </a:cubicBezTo>
              </a:path>
              <a:path w="21805" h="7442">
                <a:moveTo>
                  <a:pt x="9004" y="12824"/>
                </a:moveTo>
                <a:cubicBezTo>
                  <a:pt x="8978" y="12933"/>
                  <a:pt x="8954" y="13011"/>
                  <a:pt x="8954" y="13122"/>
                </a:cubicBezTo>
                <a:cubicBezTo>
                  <a:pt x="8954" y="13189"/>
                  <a:pt x="8951" y="13240"/>
                  <a:pt x="8979" y="13295"/>
                </a:cubicBezTo>
              </a:path>
              <a:path w="21805" h="7442">
                <a:moveTo>
                  <a:pt x="9153" y="12750"/>
                </a:moveTo>
                <a:cubicBezTo>
                  <a:pt x="9175" y="12838"/>
                  <a:pt x="9190" y="12932"/>
                  <a:pt x="9203" y="13022"/>
                </a:cubicBezTo>
                <a:cubicBezTo>
                  <a:pt x="9216" y="13110"/>
                  <a:pt x="9278" y="13147"/>
                  <a:pt x="9327" y="13221"/>
                </a:cubicBezTo>
                <a:cubicBezTo>
                  <a:pt x="9335" y="13238"/>
                  <a:pt x="9343" y="13254"/>
                  <a:pt x="9351" y="13271"/>
                </a:cubicBezTo>
              </a:path>
              <a:path w="21805" h="7442">
                <a:moveTo>
                  <a:pt x="14610" y="11584"/>
                </a:moveTo>
                <a:cubicBezTo>
                  <a:pt x="14650" y="11597"/>
                  <a:pt x="14635" y="11632"/>
                  <a:pt x="14635" y="11683"/>
                </a:cubicBezTo>
                <a:cubicBezTo>
                  <a:pt x="14635" y="11873"/>
                  <a:pt x="14635" y="12064"/>
                  <a:pt x="14635" y="12254"/>
                </a:cubicBezTo>
              </a:path>
              <a:path w="21805" h="7442">
                <a:moveTo>
                  <a:pt x="14412" y="12948"/>
                </a:moveTo>
                <a:cubicBezTo>
                  <a:pt x="14372" y="13005"/>
                  <a:pt x="14283" y="13058"/>
                  <a:pt x="14312" y="13122"/>
                </a:cubicBezTo>
                <a:cubicBezTo>
                  <a:pt x="14323" y="13147"/>
                  <a:pt x="14390" y="13191"/>
                  <a:pt x="14412" y="13196"/>
                </a:cubicBezTo>
                <a:cubicBezTo>
                  <a:pt x="14474" y="13209"/>
                  <a:pt x="14548" y="13216"/>
                  <a:pt x="14610" y="13221"/>
                </a:cubicBezTo>
                <a:cubicBezTo>
                  <a:pt x="14675" y="13226"/>
                  <a:pt x="14690" y="13215"/>
                  <a:pt x="14734" y="13171"/>
                </a:cubicBezTo>
                <a:cubicBezTo>
                  <a:pt x="14751" y="13155"/>
                  <a:pt x="14767" y="13138"/>
                  <a:pt x="14784" y="13122"/>
                </a:cubicBezTo>
              </a:path>
              <a:path w="21805" h="7442">
                <a:moveTo>
                  <a:pt x="14759" y="12898"/>
                </a:moveTo>
                <a:cubicBezTo>
                  <a:pt x="14743" y="13028"/>
                  <a:pt x="14734" y="13141"/>
                  <a:pt x="14734" y="13271"/>
                </a:cubicBezTo>
                <a:cubicBezTo>
                  <a:pt x="14734" y="13362"/>
                  <a:pt x="14743" y="13442"/>
                  <a:pt x="14759" y="13519"/>
                </a:cubicBezTo>
                <a:cubicBezTo>
                  <a:pt x="14772" y="13581"/>
                  <a:pt x="14746" y="13593"/>
                  <a:pt x="14784" y="13643"/>
                </a:cubicBezTo>
              </a:path>
              <a:path w="21805" h="7442">
                <a:moveTo>
                  <a:pt x="15156" y="12973"/>
                </a:moveTo>
                <a:cubicBezTo>
                  <a:pt x="15241" y="12973"/>
                  <a:pt x="15386" y="13000"/>
                  <a:pt x="15453" y="12948"/>
                </a:cubicBezTo>
              </a:path>
              <a:path w="21805" h="7442">
                <a:moveTo>
                  <a:pt x="15255" y="12849"/>
                </a:moveTo>
                <a:cubicBezTo>
                  <a:pt x="15210" y="12983"/>
                  <a:pt x="15163" y="13104"/>
                  <a:pt x="15156" y="13246"/>
                </a:cubicBezTo>
                <a:cubicBezTo>
                  <a:pt x="15154" y="13280"/>
                  <a:pt x="15127" y="13395"/>
                  <a:pt x="15131" y="13419"/>
                </a:cubicBezTo>
                <a:cubicBezTo>
                  <a:pt x="15154" y="13442"/>
                  <a:pt x="15162" y="13446"/>
                  <a:pt x="15156" y="13469"/>
                </a:cubicBezTo>
              </a:path>
              <a:path w="21805" h="7442">
                <a:moveTo>
                  <a:pt x="15429" y="12998"/>
                </a:moveTo>
                <a:cubicBezTo>
                  <a:pt x="15452" y="13097"/>
                  <a:pt x="15488" y="13199"/>
                  <a:pt x="15503" y="13295"/>
                </a:cubicBezTo>
                <a:cubicBezTo>
                  <a:pt x="15515" y="13371"/>
                  <a:pt x="15535" y="13446"/>
                  <a:pt x="15553" y="13519"/>
                </a:cubicBezTo>
                <a:cubicBezTo>
                  <a:pt x="15570" y="13585"/>
                  <a:pt x="15594" y="13627"/>
                  <a:pt x="15602" y="13692"/>
                </a:cubicBezTo>
              </a:path>
              <a:path w="21805" h="7442">
                <a:moveTo>
                  <a:pt x="20464" y="11559"/>
                </a:moveTo>
                <a:cubicBezTo>
                  <a:pt x="20464" y="11791"/>
                  <a:pt x="20464" y="12022"/>
                  <a:pt x="20464" y="12254"/>
                </a:cubicBezTo>
              </a:path>
              <a:path w="21805" h="7442">
                <a:moveTo>
                  <a:pt x="20439" y="12923"/>
                </a:moveTo>
                <a:cubicBezTo>
                  <a:pt x="20439" y="13052"/>
                  <a:pt x="20432" y="13105"/>
                  <a:pt x="20389" y="13221"/>
                </a:cubicBezTo>
                <a:cubicBezTo>
                  <a:pt x="20353" y="13318"/>
                  <a:pt x="20340" y="13392"/>
                  <a:pt x="20340" y="13494"/>
                </a:cubicBezTo>
                <a:cubicBezTo>
                  <a:pt x="20340" y="13576"/>
                  <a:pt x="20336" y="13648"/>
                  <a:pt x="20389" y="13717"/>
                </a:cubicBezTo>
                <a:cubicBezTo>
                  <a:pt x="20428" y="13767"/>
                  <a:pt x="20525" y="13827"/>
                  <a:pt x="20588" y="13841"/>
                </a:cubicBezTo>
                <a:cubicBezTo>
                  <a:pt x="20639" y="13852"/>
                  <a:pt x="20700" y="13849"/>
                  <a:pt x="20737" y="13816"/>
                </a:cubicBezTo>
                <a:cubicBezTo>
                  <a:pt x="20782" y="13776"/>
                  <a:pt x="20762" y="13699"/>
                  <a:pt x="20762" y="13643"/>
                </a:cubicBezTo>
                <a:cubicBezTo>
                  <a:pt x="20762" y="13616"/>
                  <a:pt x="20737" y="13596"/>
                  <a:pt x="20712" y="13593"/>
                </a:cubicBezTo>
                <a:cubicBezTo>
                  <a:pt x="20646" y="13585"/>
                  <a:pt x="20616" y="13631"/>
                  <a:pt x="20588" y="13692"/>
                </a:cubicBezTo>
                <a:cubicBezTo>
                  <a:pt x="20564" y="13742"/>
                  <a:pt x="20601" y="13780"/>
                  <a:pt x="20613" y="13816"/>
                </a:cubicBezTo>
                <a:cubicBezTo>
                  <a:pt x="20626" y="13854"/>
                  <a:pt x="20620" y="13855"/>
                  <a:pt x="20662" y="13866"/>
                </a:cubicBezTo>
              </a:path>
              <a:path w="21805" h="7442">
                <a:moveTo>
                  <a:pt x="20886" y="13171"/>
                </a:moveTo>
                <a:cubicBezTo>
                  <a:pt x="21008" y="13153"/>
                  <a:pt x="21112" y="13146"/>
                  <a:pt x="21233" y="13146"/>
                </a:cubicBezTo>
                <a:cubicBezTo>
                  <a:pt x="21282" y="13146"/>
                  <a:pt x="21299" y="13146"/>
                  <a:pt x="21332" y="13146"/>
                </a:cubicBezTo>
              </a:path>
              <a:path w="21805" h="7442">
                <a:moveTo>
                  <a:pt x="20985" y="13295"/>
                </a:moveTo>
                <a:cubicBezTo>
                  <a:pt x="20971" y="13390"/>
                  <a:pt x="20933" y="13542"/>
                  <a:pt x="20960" y="13643"/>
                </a:cubicBezTo>
                <a:cubicBezTo>
                  <a:pt x="20965" y="13661"/>
                  <a:pt x="21002" y="13784"/>
                  <a:pt x="21010" y="13791"/>
                </a:cubicBezTo>
                <a:cubicBezTo>
                  <a:pt x="21018" y="13791"/>
                  <a:pt x="21026" y="13791"/>
                  <a:pt x="21034" y="13791"/>
                </a:cubicBezTo>
              </a:path>
              <a:path w="21805" h="7442">
                <a:moveTo>
                  <a:pt x="21233" y="13196"/>
                </a:moveTo>
                <a:cubicBezTo>
                  <a:pt x="21224" y="13411"/>
                  <a:pt x="21265" y="13567"/>
                  <a:pt x="21332" y="13767"/>
                </a:cubicBezTo>
                <a:cubicBezTo>
                  <a:pt x="21356" y="13862"/>
                  <a:pt x="21362" y="13891"/>
                  <a:pt x="21406" y="13940"/>
                </a:cubicBezTo>
              </a:path>
              <a:path w="21805" h="7442">
                <a:moveTo>
                  <a:pt x="5407" y="11683"/>
                </a:moveTo>
                <a:cubicBezTo>
                  <a:pt x="5460" y="11696"/>
                  <a:pt x="5463" y="11735"/>
                  <a:pt x="5482" y="11782"/>
                </a:cubicBezTo>
                <a:cubicBezTo>
                  <a:pt x="5518" y="11871"/>
                  <a:pt x="5507" y="11960"/>
                  <a:pt x="5507" y="12055"/>
                </a:cubicBezTo>
                <a:cubicBezTo>
                  <a:pt x="5507" y="12146"/>
                  <a:pt x="5507" y="12237"/>
                  <a:pt x="5507" y="12328"/>
                </a:cubicBezTo>
              </a:path>
              <a:path w="21805" h="7442">
                <a:moveTo>
                  <a:pt x="5383" y="12750"/>
                </a:moveTo>
                <a:cubicBezTo>
                  <a:pt x="5464" y="12728"/>
                  <a:pt x="5523" y="12725"/>
                  <a:pt x="5606" y="12725"/>
                </a:cubicBezTo>
                <a:cubicBezTo>
                  <a:pt x="5678" y="12725"/>
                  <a:pt x="5736" y="12691"/>
                  <a:pt x="5804" y="12675"/>
                </a:cubicBezTo>
                <a:cubicBezTo>
                  <a:pt x="5812" y="12675"/>
                  <a:pt x="5821" y="12675"/>
                  <a:pt x="5829" y="12675"/>
                </a:cubicBezTo>
              </a:path>
              <a:path w="21805" h="7442">
                <a:moveTo>
                  <a:pt x="5507" y="12824"/>
                </a:moveTo>
                <a:cubicBezTo>
                  <a:pt x="5507" y="12928"/>
                  <a:pt x="5503" y="13010"/>
                  <a:pt x="5531" y="13097"/>
                </a:cubicBezTo>
                <a:cubicBezTo>
                  <a:pt x="5531" y="13122"/>
                  <a:pt x="5531" y="13130"/>
                  <a:pt x="5531" y="13097"/>
                </a:cubicBezTo>
              </a:path>
              <a:path w="21805" h="7442">
                <a:moveTo>
                  <a:pt x="5705" y="12675"/>
                </a:moveTo>
                <a:cubicBezTo>
                  <a:pt x="5731" y="12745"/>
                  <a:pt x="5730" y="12798"/>
                  <a:pt x="5730" y="12874"/>
                </a:cubicBezTo>
                <a:cubicBezTo>
                  <a:pt x="5730" y="12961"/>
                  <a:pt x="5754" y="12971"/>
                  <a:pt x="5779" y="13047"/>
                </a:cubicBezTo>
                <a:cubicBezTo>
                  <a:pt x="5779" y="13072"/>
                  <a:pt x="5779" y="13080"/>
                  <a:pt x="5804" y="13072"/>
                </a:cubicBezTo>
              </a:path>
              <a:path w="21805" h="7442">
                <a:moveTo>
                  <a:pt x="11261" y="11584"/>
                </a:moveTo>
                <a:cubicBezTo>
                  <a:pt x="11261" y="11668"/>
                  <a:pt x="11260" y="11755"/>
                  <a:pt x="11286" y="11832"/>
                </a:cubicBezTo>
                <a:cubicBezTo>
                  <a:pt x="11309" y="11901"/>
                  <a:pt x="11311" y="11928"/>
                  <a:pt x="11311" y="12005"/>
                </a:cubicBezTo>
              </a:path>
              <a:path w="21805" h="7442">
                <a:moveTo>
                  <a:pt x="11212" y="12626"/>
                </a:moveTo>
                <a:cubicBezTo>
                  <a:pt x="11256" y="12593"/>
                  <a:pt x="11278" y="12601"/>
                  <a:pt x="11336" y="12601"/>
                </a:cubicBezTo>
                <a:cubicBezTo>
                  <a:pt x="11389" y="12601"/>
                  <a:pt x="11417" y="12626"/>
                  <a:pt x="11435" y="12650"/>
                </a:cubicBezTo>
                <a:cubicBezTo>
                  <a:pt x="11463" y="12686"/>
                  <a:pt x="11440" y="12759"/>
                  <a:pt x="11385" y="12774"/>
                </a:cubicBezTo>
                <a:cubicBezTo>
                  <a:pt x="11338" y="12787"/>
                  <a:pt x="11303" y="12785"/>
                  <a:pt x="11261" y="12799"/>
                </a:cubicBezTo>
                <a:cubicBezTo>
                  <a:pt x="11242" y="12805"/>
                  <a:pt x="11297" y="12801"/>
                  <a:pt x="11361" y="12849"/>
                </a:cubicBezTo>
                <a:cubicBezTo>
                  <a:pt x="11412" y="12887"/>
                  <a:pt x="11471" y="12958"/>
                  <a:pt x="11485" y="13022"/>
                </a:cubicBezTo>
                <a:cubicBezTo>
                  <a:pt x="11502" y="13100"/>
                  <a:pt x="11455" y="13134"/>
                  <a:pt x="11410" y="13171"/>
                </a:cubicBezTo>
                <a:cubicBezTo>
                  <a:pt x="11367" y="13206"/>
                  <a:pt x="11367" y="13221"/>
                  <a:pt x="11311" y="13221"/>
                </a:cubicBezTo>
                <a:cubicBezTo>
                  <a:pt x="11254" y="13221"/>
                  <a:pt x="11268" y="13192"/>
                  <a:pt x="11261" y="13146"/>
                </a:cubicBezTo>
              </a:path>
              <a:path w="21805" h="7442">
                <a:moveTo>
                  <a:pt x="11782" y="12799"/>
                </a:moveTo>
                <a:cubicBezTo>
                  <a:pt x="11905" y="12821"/>
                  <a:pt x="11959" y="12848"/>
                  <a:pt x="12055" y="12824"/>
                </a:cubicBezTo>
              </a:path>
              <a:path w="21805" h="7442">
                <a:moveTo>
                  <a:pt x="11807" y="12774"/>
                </a:moveTo>
                <a:cubicBezTo>
                  <a:pt x="11765" y="12975"/>
                  <a:pt x="11746" y="12989"/>
                  <a:pt x="11782" y="13146"/>
                </a:cubicBezTo>
                <a:cubicBezTo>
                  <a:pt x="11782" y="13174"/>
                  <a:pt x="11784" y="13185"/>
                  <a:pt x="11807" y="13196"/>
                </a:cubicBezTo>
              </a:path>
              <a:path w="21805" h="7442">
                <a:moveTo>
                  <a:pt x="12005" y="12799"/>
                </a:moveTo>
                <a:cubicBezTo>
                  <a:pt x="12034" y="12875"/>
                  <a:pt x="12030" y="12939"/>
                  <a:pt x="12030" y="13022"/>
                </a:cubicBezTo>
                <a:cubicBezTo>
                  <a:pt x="12030" y="13078"/>
                  <a:pt x="12026" y="13148"/>
                  <a:pt x="12055" y="13196"/>
                </a:cubicBezTo>
                <a:cubicBezTo>
                  <a:pt x="12063" y="13204"/>
                  <a:pt x="12072" y="13213"/>
                  <a:pt x="12080" y="13221"/>
                </a:cubicBezTo>
              </a:path>
              <a:path w="21805" h="7442">
                <a:moveTo>
                  <a:pt x="17537" y="11460"/>
                </a:moveTo>
                <a:cubicBezTo>
                  <a:pt x="17519" y="11570"/>
                  <a:pt x="17530" y="11596"/>
                  <a:pt x="17537" y="11708"/>
                </a:cubicBezTo>
                <a:cubicBezTo>
                  <a:pt x="17546" y="11857"/>
                  <a:pt x="17564" y="11945"/>
                  <a:pt x="17587" y="12080"/>
                </a:cubicBezTo>
                <a:cubicBezTo>
                  <a:pt x="17587" y="12105"/>
                  <a:pt x="17587" y="12129"/>
                  <a:pt x="17587" y="12154"/>
                </a:cubicBezTo>
              </a:path>
              <a:path w="21805" h="7442">
                <a:moveTo>
                  <a:pt x="17512" y="12874"/>
                </a:moveTo>
                <a:cubicBezTo>
                  <a:pt x="17604" y="12867"/>
                  <a:pt x="17677" y="12861"/>
                  <a:pt x="17760" y="12824"/>
                </a:cubicBezTo>
                <a:cubicBezTo>
                  <a:pt x="17804" y="12802"/>
                  <a:pt x="17816" y="12799"/>
                  <a:pt x="17835" y="12774"/>
                </a:cubicBezTo>
              </a:path>
              <a:path w="21805" h="7442">
                <a:moveTo>
                  <a:pt x="17438" y="12849"/>
                </a:moveTo>
                <a:cubicBezTo>
                  <a:pt x="17406" y="12891"/>
                  <a:pt x="17402" y="12906"/>
                  <a:pt x="17438" y="12948"/>
                </a:cubicBezTo>
                <a:cubicBezTo>
                  <a:pt x="17490" y="13007"/>
                  <a:pt x="17540" y="13016"/>
                  <a:pt x="17611" y="13047"/>
                </a:cubicBezTo>
                <a:cubicBezTo>
                  <a:pt x="17667" y="13071"/>
                  <a:pt x="17743" y="13160"/>
                  <a:pt x="17760" y="13221"/>
                </a:cubicBezTo>
                <a:cubicBezTo>
                  <a:pt x="17778" y="13287"/>
                  <a:pt x="17762" y="13367"/>
                  <a:pt x="17735" y="13419"/>
                </a:cubicBezTo>
                <a:cubicBezTo>
                  <a:pt x="17688" y="13509"/>
                  <a:pt x="17602" y="13494"/>
                  <a:pt x="17512" y="13494"/>
                </a:cubicBezTo>
                <a:cubicBezTo>
                  <a:pt x="17465" y="13494"/>
                  <a:pt x="17427" y="13437"/>
                  <a:pt x="17413" y="13395"/>
                </a:cubicBezTo>
                <a:cubicBezTo>
                  <a:pt x="17413" y="13387"/>
                  <a:pt x="17413" y="13378"/>
                  <a:pt x="17413" y="13370"/>
                </a:cubicBezTo>
              </a:path>
              <a:path w="21805" h="7442">
                <a:moveTo>
                  <a:pt x="18033" y="12998"/>
                </a:moveTo>
                <a:cubicBezTo>
                  <a:pt x="18116" y="12998"/>
                  <a:pt x="18198" y="12998"/>
                  <a:pt x="18281" y="12998"/>
                </a:cubicBezTo>
              </a:path>
              <a:path w="21805" h="7442">
                <a:moveTo>
                  <a:pt x="18058" y="13097"/>
                </a:moveTo>
                <a:cubicBezTo>
                  <a:pt x="18047" y="13193"/>
                  <a:pt x="18018" y="13270"/>
                  <a:pt x="18083" y="13345"/>
                </a:cubicBezTo>
                <a:cubicBezTo>
                  <a:pt x="18091" y="13353"/>
                  <a:pt x="18099" y="13362"/>
                  <a:pt x="18107" y="13370"/>
                </a:cubicBezTo>
              </a:path>
              <a:path w="21805" h="7442">
                <a:moveTo>
                  <a:pt x="18256" y="12973"/>
                </a:moveTo>
                <a:cubicBezTo>
                  <a:pt x="18277" y="13130"/>
                  <a:pt x="18289" y="13293"/>
                  <a:pt x="18331" y="13444"/>
                </a:cubicBezTo>
                <a:cubicBezTo>
                  <a:pt x="18339" y="13469"/>
                  <a:pt x="18347" y="13494"/>
                  <a:pt x="18355" y="13519"/>
                </a:cubicBezTo>
              </a:path>
              <a:path w="21805" h="7442">
                <a:moveTo>
                  <a:pt x="2927" y="12129"/>
                </a:moveTo>
                <a:cubicBezTo>
                  <a:pt x="2980" y="12129"/>
                  <a:pt x="3019" y="12141"/>
                  <a:pt x="3026" y="12080"/>
                </a:cubicBezTo>
                <a:cubicBezTo>
                  <a:pt x="3026" y="12055"/>
                  <a:pt x="3026" y="12047"/>
                  <a:pt x="3026" y="12030"/>
                </a:cubicBezTo>
                <a:cubicBezTo>
                  <a:pt x="3005" y="12023"/>
                  <a:pt x="2988" y="11985"/>
                  <a:pt x="2952" y="12005"/>
                </a:cubicBezTo>
                <a:cubicBezTo>
                  <a:pt x="2915" y="12026"/>
                  <a:pt x="2857" y="12090"/>
                  <a:pt x="2853" y="12129"/>
                </a:cubicBezTo>
                <a:cubicBezTo>
                  <a:pt x="2853" y="12154"/>
                  <a:pt x="2853" y="12162"/>
                  <a:pt x="2853" y="12179"/>
                </a:cubicBezTo>
                <a:cubicBezTo>
                  <a:pt x="2891" y="12179"/>
                  <a:pt x="2957" y="12195"/>
                  <a:pt x="2977" y="12154"/>
                </a:cubicBezTo>
                <a:cubicBezTo>
                  <a:pt x="2985" y="12137"/>
                  <a:pt x="3018" y="12113"/>
                  <a:pt x="3001" y="12080"/>
                </a:cubicBezTo>
                <a:cubicBezTo>
                  <a:pt x="2974" y="12030"/>
                  <a:pt x="2927" y="12051"/>
                  <a:pt x="2902" y="12055"/>
                </a:cubicBezTo>
                <a:cubicBezTo>
                  <a:pt x="2821" y="12067"/>
                  <a:pt x="2848" y="12100"/>
                  <a:pt x="2803" y="12129"/>
                </a:cubicBezTo>
                <a:cubicBezTo>
                  <a:pt x="2773" y="12148"/>
                  <a:pt x="2778" y="12130"/>
                  <a:pt x="2778" y="12179"/>
                </a:cubicBezTo>
                <a:cubicBezTo>
                  <a:pt x="2816" y="12192"/>
                  <a:pt x="2799" y="12204"/>
                  <a:pt x="2853" y="12204"/>
                </a:cubicBezTo>
                <a:cubicBezTo>
                  <a:pt x="2907" y="12204"/>
                  <a:pt x="2955" y="12180"/>
                  <a:pt x="2977" y="12154"/>
                </a:cubicBezTo>
                <a:cubicBezTo>
                  <a:pt x="3007" y="12119"/>
                  <a:pt x="3001" y="12101"/>
                  <a:pt x="3001" y="12055"/>
                </a:cubicBezTo>
                <a:cubicBezTo>
                  <a:pt x="2989" y="12006"/>
                  <a:pt x="2958" y="11986"/>
                  <a:pt x="2902" y="12005"/>
                </a:cubicBezTo>
                <a:cubicBezTo>
                  <a:pt x="2866" y="12017"/>
                  <a:pt x="2795" y="12068"/>
                  <a:pt x="2778" y="12105"/>
                </a:cubicBezTo>
                <a:cubicBezTo>
                  <a:pt x="2778" y="12129"/>
                  <a:pt x="2778" y="12138"/>
                  <a:pt x="2778" y="12154"/>
                </a:cubicBezTo>
                <a:cubicBezTo>
                  <a:pt x="2793" y="12214"/>
                  <a:pt x="2817" y="12204"/>
                  <a:pt x="2877" y="12204"/>
                </a:cubicBezTo>
                <a:cubicBezTo>
                  <a:pt x="2907" y="12204"/>
                  <a:pt x="2986" y="12177"/>
                  <a:pt x="3001" y="12154"/>
                </a:cubicBezTo>
                <a:cubicBezTo>
                  <a:pt x="3012" y="12138"/>
                  <a:pt x="3001" y="12075"/>
                  <a:pt x="3001" y="12055"/>
                </a:cubicBezTo>
                <a:cubicBezTo>
                  <a:pt x="2958" y="12021"/>
                  <a:pt x="2930" y="12019"/>
                  <a:pt x="2877" y="12055"/>
                </a:cubicBezTo>
                <a:cubicBezTo>
                  <a:pt x="2843" y="12078"/>
                  <a:pt x="2808" y="12083"/>
                  <a:pt x="2803" y="12129"/>
                </a:cubicBezTo>
                <a:cubicBezTo>
                  <a:pt x="2803" y="12154"/>
                  <a:pt x="2803" y="12162"/>
                  <a:pt x="2803" y="12179"/>
                </a:cubicBezTo>
                <a:cubicBezTo>
                  <a:pt x="2844" y="12179"/>
                  <a:pt x="2930" y="12197"/>
                  <a:pt x="2952" y="12154"/>
                </a:cubicBezTo>
                <a:cubicBezTo>
                  <a:pt x="2967" y="12124"/>
                  <a:pt x="2958" y="12020"/>
                  <a:pt x="2927" y="12005"/>
                </a:cubicBezTo>
                <a:cubicBezTo>
                  <a:pt x="2887" y="11985"/>
                  <a:pt x="2856" y="12021"/>
                  <a:pt x="2828" y="12030"/>
                </a:cubicBezTo>
                <a:cubicBezTo>
                  <a:pt x="2780" y="12046"/>
                  <a:pt x="2768" y="12018"/>
                  <a:pt x="2753" y="12080"/>
                </a:cubicBezTo>
              </a:path>
              <a:path w="21805" h="7442">
                <a:moveTo>
                  <a:pt x="8483" y="11906"/>
                </a:moveTo>
                <a:cubicBezTo>
                  <a:pt x="8505" y="11884"/>
                  <a:pt x="8514" y="11879"/>
                  <a:pt x="8508" y="11857"/>
                </a:cubicBezTo>
                <a:cubicBezTo>
                  <a:pt x="8472" y="11857"/>
                  <a:pt x="8435" y="11863"/>
                  <a:pt x="8409" y="11881"/>
                </a:cubicBezTo>
                <a:cubicBezTo>
                  <a:pt x="8396" y="11889"/>
                  <a:pt x="8323" y="11927"/>
                  <a:pt x="8359" y="11956"/>
                </a:cubicBezTo>
                <a:cubicBezTo>
                  <a:pt x="8370" y="11965"/>
                  <a:pt x="8404" y="11998"/>
                  <a:pt x="8434" y="11981"/>
                </a:cubicBezTo>
                <a:cubicBezTo>
                  <a:pt x="8453" y="11970"/>
                  <a:pt x="8505" y="11937"/>
                  <a:pt x="8508" y="11931"/>
                </a:cubicBezTo>
                <a:cubicBezTo>
                  <a:pt x="8519" y="11909"/>
                  <a:pt x="8527" y="11882"/>
                  <a:pt x="8533" y="11857"/>
                </a:cubicBezTo>
                <a:cubicBezTo>
                  <a:pt x="8472" y="11857"/>
                  <a:pt x="8434" y="11865"/>
                  <a:pt x="8384" y="11881"/>
                </a:cubicBezTo>
                <a:cubicBezTo>
                  <a:pt x="8326" y="11899"/>
                  <a:pt x="8310" y="11892"/>
                  <a:pt x="8310" y="11956"/>
                </a:cubicBezTo>
                <a:cubicBezTo>
                  <a:pt x="8347" y="11994"/>
                  <a:pt x="8356" y="12005"/>
                  <a:pt x="8409" y="12005"/>
                </a:cubicBezTo>
                <a:cubicBezTo>
                  <a:pt x="8463" y="12005"/>
                  <a:pt x="8462" y="11962"/>
                  <a:pt x="8483" y="11931"/>
                </a:cubicBezTo>
                <a:cubicBezTo>
                  <a:pt x="8506" y="11908"/>
                  <a:pt x="8514" y="11904"/>
                  <a:pt x="8508" y="11881"/>
                </a:cubicBezTo>
                <a:cubicBezTo>
                  <a:pt x="8451" y="11881"/>
                  <a:pt x="8430" y="11891"/>
                  <a:pt x="8384" y="11906"/>
                </a:cubicBezTo>
                <a:cubicBezTo>
                  <a:pt x="8352" y="11917"/>
                  <a:pt x="8344" y="11940"/>
                  <a:pt x="8334" y="11981"/>
                </a:cubicBezTo>
                <a:cubicBezTo>
                  <a:pt x="8368" y="11992"/>
                  <a:pt x="8364" y="12020"/>
                  <a:pt x="8384" y="12030"/>
                </a:cubicBezTo>
                <a:cubicBezTo>
                  <a:pt x="8414" y="12045"/>
                  <a:pt x="8486" y="12000"/>
                  <a:pt x="8508" y="11981"/>
                </a:cubicBezTo>
                <a:cubicBezTo>
                  <a:pt x="8516" y="11973"/>
                  <a:pt x="8525" y="11964"/>
                  <a:pt x="8533" y="11956"/>
                </a:cubicBezTo>
                <a:cubicBezTo>
                  <a:pt x="8533" y="11918"/>
                  <a:pt x="8549" y="11884"/>
                  <a:pt x="8508" y="11881"/>
                </a:cubicBezTo>
                <a:cubicBezTo>
                  <a:pt x="8441" y="11876"/>
                  <a:pt x="8415" y="11891"/>
                  <a:pt x="8384" y="11906"/>
                </a:cubicBezTo>
                <a:cubicBezTo>
                  <a:pt x="8344" y="11926"/>
                  <a:pt x="8353" y="11940"/>
                  <a:pt x="8384" y="11981"/>
                </a:cubicBezTo>
              </a:path>
              <a:path w="21805" h="7442">
                <a:moveTo>
                  <a:pt x="5482" y="12055"/>
                </a:moveTo>
                <a:cubicBezTo>
                  <a:pt x="5482" y="12098"/>
                  <a:pt x="5487" y="12115"/>
                  <a:pt x="5531" y="12129"/>
                </a:cubicBezTo>
                <a:cubicBezTo>
                  <a:pt x="5567" y="12141"/>
                  <a:pt x="5566" y="12087"/>
                  <a:pt x="5581" y="12080"/>
                </a:cubicBezTo>
                <a:cubicBezTo>
                  <a:pt x="5619" y="12061"/>
                  <a:pt x="5606" y="12037"/>
                  <a:pt x="5606" y="11981"/>
                </a:cubicBezTo>
                <a:cubicBezTo>
                  <a:pt x="5599" y="11959"/>
                  <a:pt x="5567" y="11936"/>
                  <a:pt x="5531" y="11956"/>
                </a:cubicBezTo>
                <a:cubicBezTo>
                  <a:pt x="5477" y="11986"/>
                  <a:pt x="5463" y="11984"/>
                  <a:pt x="5432" y="12030"/>
                </a:cubicBezTo>
                <a:cubicBezTo>
                  <a:pt x="5407" y="12067"/>
                  <a:pt x="5407" y="12060"/>
                  <a:pt x="5407" y="12105"/>
                </a:cubicBezTo>
                <a:cubicBezTo>
                  <a:pt x="5446" y="12114"/>
                  <a:pt x="5463" y="12129"/>
                  <a:pt x="5507" y="12129"/>
                </a:cubicBezTo>
                <a:cubicBezTo>
                  <a:pt x="5555" y="12129"/>
                  <a:pt x="5592" y="12072"/>
                  <a:pt x="5606" y="12030"/>
                </a:cubicBezTo>
                <a:cubicBezTo>
                  <a:pt x="5619" y="11990"/>
                  <a:pt x="5608" y="11965"/>
                  <a:pt x="5581" y="11956"/>
                </a:cubicBezTo>
                <a:cubicBezTo>
                  <a:pt x="5500" y="11976"/>
                  <a:pt x="5495" y="11987"/>
                  <a:pt x="5432" y="12055"/>
                </a:cubicBezTo>
                <a:cubicBezTo>
                  <a:pt x="5397" y="12093"/>
                  <a:pt x="5421" y="12086"/>
                  <a:pt x="5432" y="12129"/>
                </a:cubicBezTo>
                <a:cubicBezTo>
                  <a:pt x="5469" y="12129"/>
                  <a:pt x="5560" y="12147"/>
                  <a:pt x="5581" y="12105"/>
                </a:cubicBezTo>
                <a:cubicBezTo>
                  <a:pt x="5597" y="12073"/>
                  <a:pt x="5606" y="12045"/>
                  <a:pt x="5606" y="12005"/>
                </a:cubicBezTo>
                <a:cubicBezTo>
                  <a:pt x="5606" y="11997"/>
                  <a:pt x="5606" y="11989"/>
                  <a:pt x="5606" y="11981"/>
                </a:cubicBezTo>
                <a:cubicBezTo>
                  <a:pt x="5558" y="11981"/>
                  <a:pt x="5497" y="11981"/>
                  <a:pt x="5457" y="12005"/>
                </a:cubicBezTo>
                <a:cubicBezTo>
                  <a:pt x="5431" y="12020"/>
                  <a:pt x="5384" y="12039"/>
                  <a:pt x="5407" y="12080"/>
                </a:cubicBezTo>
                <a:cubicBezTo>
                  <a:pt x="5415" y="12088"/>
                  <a:pt x="5424" y="12097"/>
                  <a:pt x="5432" y="12105"/>
                </a:cubicBezTo>
              </a:path>
              <a:path w="21805" h="7442">
                <a:moveTo>
                  <a:pt x="3944" y="9897"/>
                </a:moveTo>
                <a:cubicBezTo>
                  <a:pt x="4015" y="9897"/>
                  <a:pt x="4031" y="9918"/>
                  <a:pt x="4043" y="9847"/>
                </a:cubicBezTo>
                <a:cubicBezTo>
                  <a:pt x="4030" y="9811"/>
                  <a:pt x="4013" y="9823"/>
                  <a:pt x="3969" y="9823"/>
                </a:cubicBezTo>
                <a:cubicBezTo>
                  <a:pt x="3941" y="9823"/>
                  <a:pt x="3881" y="9809"/>
                  <a:pt x="3870" y="9847"/>
                </a:cubicBezTo>
                <a:cubicBezTo>
                  <a:pt x="3849" y="9918"/>
                  <a:pt x="3900" y="9897"/>
                  <a:pt x="3944" y="9897"/>
                </a:cubicBezTo>
                <a:cubicBezTo>
                  <a:pt x="3979" y="9897"/>
                  <a:pt x="3992" y="9888"/>
                  <a:pt x="3994" y="9847"/>
                </a:cubicBezTo>
                <a:cubicBezTo>
                  <a:pt x="3981" y="9811"/>
                  <a:pt x="3963" y="9823"/>
                  <a:pt x="3919" y="9823"/>
                </a:cubicBezTo>
                <a:cubicBezTo>
                  <a:pt x="3852" y="9823"/>
                  <a:pt x="3854" y="9831"/>
                  <a:pt x="3845" y="9897"/>
                </a:cubicBezTo>
                <a:cubicBezTo>
                  <a:pt x="3900" y="9939"/>
                  <a:pt x="3890" y="9915"/>
                  <a:pt x="3944" y="9897"/>
                </a:cubicBezTo>
                <a:cubicBezTo>
                  <a:pt x="3986" y="9883"/>
                  <a:pt x="3985" y="9867"/>
                  <a:pt x="3994" y="9823"/>
                </a:cubicBezTo>
                <a:cubicBezTo>
                  <a:pt x="3949" y="9823"/>
                  <a:pt x="3823" y="9802"/>
                  <a:pt x="3820" y="9847"/>
                </a:cubicBezTo>
                <a:cubicBezTo>
                  <a:pt x="3820" y="9889"/>
                  <a:pt x="3812" y="9905"/>
                  <a:pt x="3845" y="9897"/>
                </a:cubicBezTo>
              </a:path>
              <a:path w="21805" h="7442">
                <a:moveTo>
                  <a:pt x="7441" y="14784"/>
                </a:moveTo>
                <a:cubicBezTo>
                  <a:pt x="7425" y="14784"/>
                  <a:pt x="7408" y="14784"/>
                  <a:pt x="7392" y="14784"/>
                </a:cubicBezTo>
                <a:cubicBezTo>
                  <a:pt x="7400" y="14806"/>
                  <a:pt x="7472" y="14828"/>
                  <a:pt x="7466" y="14784"/>
                </a:cubicBezTo>
                <a:cubicBezTo>
                  <a:pt x="7461" y="14748"/>
                  <a:pt x="7425" y="14768"/>
                  <a:pt x="7392" y="14784"/>
                </a:cubicBezTo>
                <a:cubicBezTo>
                  <a:pt x="7384" y="14784"/>
                  <a:pt x="7375" y="14784"/>
                  <a:pt x="7367" y="14784"/>
                </a:cubicBezTo>
                <a:cubicBezTo>
                  <a:pt x="7380" y="14820"/>
                  <a:pt x="7397" y="14808"/>
                  <a:pt x="7441" y="14808"/>
                </a:cubicBezTo>
                <a:cubicBezTo>
                  <a:pt x="7452" y="14808"/>
                  <a:pt x="7509" y="14772"/>
                  <a:pt x="7491" y="14759"/>
                </a:cubicBezTo>
                <a:cubicBezTo>
                  <a:pt x="7457" y="14733"/>
                  <a:pt x="7374" y="14764"/>
                  <a:pt x="7367" y="14784"/>
                </a:cubicBezTo>
                <a:cubicBezTo>
                  <a:pt x="7290" y="14809"/>
                  <a:pt x="7383" y="14797"/>
                  <a:pt x="7392" y="14808"/>
                </a:cubicBezTo>
                <a:cubicBezTo>
                  <a:pt x="7426" y="14850"/>
                  <a:pt x="7412" y="14826"/>
                  <a:pt x="7466" y="14808"/>
                </a:cubicBezTo>
                <a:cubicBezTo>
                  <a:pt x="7491" y="14800"/>
                  <a:pt x="7557" y="14764"/>
                  <a:pt x="7491" y="14759"/>
                </a:cubicBezTo>
                <a:cubicBezTo>
                  <a:pt x="7431" y="14754"/>
                  <a:pt x="7407" y="14752"/>
                  <a:pt x="7392" y="14808"/>
                </a:cubicBezTo>
                <a:cubicBezTo>
                  <a:pt x="7448" y="14808"/>
                  <a:pt x="7489" y="14814"/>
                  <a:pt x="7516" y="14784"/>
                </a:cubicBezTo>
                <a:cubicBezTo>
                  <a:pt x="7524" y="14776"/>
                  <a:pt x="7533" y="14767"/>
                  <a:pt x="7541" y="14759"/>
                </a:cubicBezTo>
                <a:cubicBezTo>
                  <a:pt x="7509" y="14716"/>
                  <a:pt x="7522" y="14709"/>
                  <a:pt x="7466" y="14709"/>
                </a:cubicBezTo>
                <a:cubicBezTo>
                  <a:pt x="7458" y="14709"/>
                  <a:pt x="7449" y="14709"/>
                  <a:pt x="7441" y="14709"/>
                </a:cubicBezTo>
              </a:path>
              <a:path w="21805" h="7442">
                <a:moveTo>
                  <a:pt x="11385" y="11733"/>
                </a:moveTo>
                <a:cubicBezTo>
                  <a:pt x="11348" y="11783"/>
                  <a:pt x="11318" y="11822"/>
                  <a:pt x="11311" y="11881"/>
                </a:cubicBezTo>
                <a:cubicBezTo>
                  <a:pt x="11311" y="11889"/>
                  <a:pt x="11311" y="11898"/>
                  <a:pt x="11311" y="11906"/>
                </a:cubicBezTo>
                <a:cubicBezTo>
                  <a:pt x="11363" y="11906"/>
                  <a:pt x="11364" y="11892"/>
                  <a:pt x="11385" y="11881"/>
                </a:cubicBezTo>
                <a:cubicBezTo>
                  <a:pt x="11403" y="11872"/>
                  <a:pt x="11431" y="11845"/>
                  <a:pt x="11410" y="11807"/>
                </a:cubicBezTo>
                <a:cubicBezTo>
                  <a:pt x="11402" y="11799"/>
                  <a:pt x="11393" y="11790"/>
                  <a:pt x="11385" y="11782"/>
                </a:cubicBezTo>
                <a:cubicBezTo>
                  <a:pt x="11342" y="11817"/>
                  <a:pt x="11300" y="11828"/>
                  <a:pt x="11286" y="11881"/>
                </a:cubicBezTo>
                <a:cubicBezTo>
                  <a:pt x="11299" y="11919"/>
                  <a:pt x="11316" y="11906"/>
                  <a:pt x="11361" y="11906"/>
                </a:cubicBezTo>
                <a:cubicBezTo>
                  <a:pt x="11392" y="11906"/>
                  <a:pt x="11437" y="11904"/>
                  <a:pt x="11410" y="11857"/>
                </a:cubicBezTo>
                <a:cubicBezTo>
                  <a:pt x="11388" y="11835"/>
                  <a:pt x="11383" y="11826"/>
                  <a:pt x="11361" y="11832"/>
                </a:cubicBezTo>
              </a:path>
              <a:path w="21805" h="7442">
                <a:moveTo>
                  <a:pt x="14635" y="12030"/>
                </a:moveTo>
                <a:cubicBezTo>
                  <a:pt x="14635" y="12073"/>
                  <a:pt x="14625" y="12068"/>
                  <a:pt x="14660" y="12080"/>
                </a:cubicBezTo>
                <a:cubicBezTo>
                  <a:pt x="14688" y="12070"/>
                  <a:pt x="14704" y="12045"/>
                  <a:pt x="14709" y="12005"/>
                </a:cubicBezTo>
                <a:cubicBezTo>
                  <a:pt x="14712" y="11976"/>
                  <a:pt x="14665" y="11959"/>
                  <a:pt x="14635" y="11956"/>
                </a:cubicBezTo>
                <a:cubicBezTo>
                  <a:pt x="14576" y="11949"/>
                  <a:pt x="14550" y="11949"/>
                  <a:pt x="14536" y="12005"/>
                </a:cubicBezTo>
                <a:cubicBezTo>
                  <a:pt x="14577" y="12005"/>
                  <a:pt x="14573" y="12015"/>
                  <a:pt x="14585" y="11981"/>
                </a:cubicBezTo>
              </a:path>
              <a:path w="21805" h="7442">
                <a:moveTo>
                  <a:pt x="9550" y="9823"/>
                </a:moveTo>
                <a:cubicBezTo>
                  <a:pt x="9566" y="9853"/>
                  <a:pt x="9607" y="9820"/>
                  <a:pt x="9624" y="9773"/>
                </a:cubicBezTo>
                <a:cubicBezTo>
                  <a:pt x="9624" y="9748"/>
                  <a:pt x="9624" y="9740"/>
                  <a:pt x="9599" y="9748"/>
                </a:cubicBezTo>
                <a:cubicBezTo>
                  <a:pt x="9516" y="9748"/>
                  <a:pt x="9585" y="9770"/>
                  <a:pt x="9525" y="9823"/>
                </a:cubicBezTo>
                <a:cubicBezTo>
                  <a:pt x="9500" y="9823"/>
                  <a:pt x="9492" y="9823"/>
                  <a:pt x="9500" y="9847"/>
                </a:cubicBezTo>
                <a:cubicBezTo>
                  <a:pt x="9549" y="9847"/>
                  <a:pt x="9559" y="9836"/>
                  <a:pt x="9599" y="9823"/>
                </a:cubicBezTo>
                <a:cubicBezTo>
                  <a:pt x="9640" y="9810"/>
                  <a:pt x="9624" y="9793"/>
                  <a:pt x="9624" y="9748"/>
                </a:cubicBezTo>
                <a:cubicBezTo>
                  <a:pt x="9579" y="9748"/>
                  <a:pt x="9510" y="9735"/>
                  <a:pt x="9475" y="9773"/>
                </a:cubicBezTo>
                <a:cubicBezTo>
                  <a:pt x="9430" y="9822"/>
                  <a:pt x="9474" y="9851"/>
                  <a:pt x="9500" y="9897"/>
                </a:cubicBezTo>
              </a:path>
              <a:path w="21805" h="7442">
                <a:moveTo>
                  <a:pt x="13196" y="15081"/>
                </a:moveTo>
                <a:cubicBezTo>
                  <a:pt x="13219" y="15058"/>
                  <a:pt x="13223" y="15050"/>
                  <a:pt x="13246" y="15056"/>
                </a:cubicBezTo>
                <a:cubicBezTo>
                  <a:pt x="13175" y="15074"/>
                  <a:pt x="13210" y="15084"/>
                  <a:pt x="13221" y="15106"/>
                </a:cubicBezTo>
                <a:cubicBezTo>
                  <a:pt x="13242" y="15149"/>
                  <a:pt x="13256" y="15136"/>
                  <a:pt x="13271" y="15131"/>
                </a:cubicBezTo>
                <a:cubicBezTo>
                  <a:pt x="13299" y="15131"/>
                  <a:pt x="13309" y="15128"/>
                  <a:pt x="13320" y="15106"/>
                </a:cubicBezTo>
                <a:cubicBezTo>
                  <a:pt x="13282" y="15077"/>
                  <a:pt x="13269" y="15081"/>
                  <a:pt x="13221" y="15081"/>
                </a:cubicBezTo>
                <a:cubicBezTo>
                  <a:pt x="13196" y="15081"/>
                  <a:pt x="13188" y="15081"/>
                  <a:pt x="13221" y="15081"/>
                </a:cubicBezTo>
              </a:path>
              <a:path w="21805" h="7442">
                <a:moveTo>
                  <a:pt x="17462" y="11757"/>
                </a:moveTo>
                <a:cubicBezTo>
                  <a:pt x="17429" y="11757"/>
                  <a:pt x="17421" y="11766"/>
                  <a:pt x="17438" y="11807"/>
                </a:cubicBezTo>
                <a:cubicBezTo>
                  <a:pt x="17476" y="11807"/>
                  <a:pt x="17542" y="11823"/>
                  <a:pt x="17562" y="11782"/>
                </a:cubicBezTo>
                <a:cubicBezTo>
                  <a:pt x="17562" y="11757"/>
                  <a:pt x="17562" y="11749"/>
                  <a:pt x="17562" y="11733"/>
                </a:cubicBezTo>
                <a:cubicBezTo>
                  <a:pt x="17536" y="11739"/>
                  <a:pt x="17476" y="11753"/>
                  <a:pt x="17462" y="11782"/>
                </a:cubicBezTo>
                <a:cubicBezTo>
                  <a:pt x="17439" y="11827"/>
                  <a:pt x="17480" y="11849"/>
                  <a:pt x="17512" y="11857"/>
                </a:cubicBezTo>
              </a:path>
              <a:path w="21805" h="7442">
                <a:moveTo>
                  <a:pt x="20414" y="11931"/>
                </a:moveTo>
                <a:cubicBezTo>
                  <a:pt x="20393" y="11959"/>
                  <a:pt x="20363" y="12005"/>
                  <a:pt x="20414" y="12030"/>
                </a:cubicBezTo>
                <a:cubicBezTo>
                  <a:pt x="20441" y="12043"/>
                  <a:pt x="20500" y="12032"/>
                  <a:pt x="20513" y="12005"/>
                </a:cubicBezTo>
                <a:cubicBezTo>
                  <a:pt x="20513" y="11972"/>
                  <a:pt x="20513" y="11956"/>
                  <a:pt x="20513" y="11931"/>
                </a:cubicBezTo>
                <a:cubicBezTo>
                  <a:pt x="20455" y="11931"/>
                  <a:pt x="20398" y="11931"/>
                  <a:pt x="20340" y="11931"/>
                </a:cubicBezTo>
              </a:path>
              <a:path w="21805" h="7442">
                <a:moveTo>
                  <a:pt x="3001" y="12030"/>
                </a:moveTo>
                <a:cubicBezTo>
                  <a:pt x="3016" y="11971"/>
                  <a:pt x="3015" y="12029"/>
                  <a:pt x="3026" y="12005"/>
                </a:cubicBezTo>
                <a:cubicBezTo>
                  <a:pt x="3040" y="11975"/>
                  <a:pt x="3011" y="12035"/>
                  <a:pt x="3026" y="12005"/>
                </a:cubicBezTo>
                <a:cubicBezTo>
                  <a:pt x="3039" y="11979"/>
                  <a:pt x="3041" y="11934"/>
                  <a:pt x="3051" y="11906"/>
                </a:cubicBezTo>
                <a:cubicBezTo>
                  <a:pt x="3063" y="11873"/>
                  <a:pt x="3061" y="11874"/>
                  <a:pt x="3076" y="11832"/>
                </a:cubicBezTo>
                <a:cubicBezTo>
                  <a:pt x="3092" y="11788"/>
                  <a:pt x="3109" y="11731"/>
                  <a:pt x="3125" y="11683"/>
                </a:cubicBezTo>
                <a:cubicBezTo>
                  <a:pt x="3141" y="11635"/>
                  <a:pt x="3164" y="11585"/>
                  <a:pt x="3175" y="11534"/>
                </a:cubicBezTo>
                <a:cubicBezTo>
                  <a:pt x="3189" y="11473"/>
                  <a:pt x="3190" y="11427"/>
                  <a:pt x="3200" y="11361"/>
                </a:cubicBezTo>
                <a:cubicBezTo>
                  <a:pt x="3208" y="11310"/>
                  <a:pt x="3217" y="11264"/>
                  <a:pt x="3225" y="11212"/>
                </a:cubicBezTo>
                <a:cubicBezTo>
                  <a:pt x="3233" y="11159"/>
                  <a:pt x="3238" y="11117"/>
                  <a:pt x="3249" y="11063"/>
                </a:cubicBezTo>
                <a:cubicBezTo>
                  <a:pt x="3264" y="10994"/>
                  <a:pt x="3279" y="10932"/>
                  <a:pt x="3299" y="10864"/>
                </a:cubicBezTo>
                <a:cubicBezTo>
                  <a:pt x="3315" y="10809"/>
                  <a:pt x="3334" y="10748"/>
                  <a:pt x="3349" y="10691"/>
                </a:cubicBezTo>
                <a:cubicBezTo>
                  <a:pt x="3369" y="10616"/>
                  <a:pt x="3372" y="10553"/>
                  <a:pt x="3398" y="10492"/>
                </a:cubicBezTo>
                <a:cubicBezTo>
                  <a:pt x="3417" y="10448"/>
                  <a:pt x="3473" y="10341"/>
                  <a:pt x="3497" y="10269"/>
                </a:cubicBezTo>
                <a:cubicBezTo>
                  <a:pt x="3530" y="10170"/>
                  <a:pt x="3566" y="10057"/>
                  <a:pt x="3621" y="9971"/>
                </a:cubicBezTo>
                <a:cubicBezTo>
                  <a:pt x="3629" y="9958"/>
                  <a:pt x="3687" y="9908"/>
                  <a:pt x="3696" y="9897"/>
                </a:cubicBezTo>
                <a:cubicBezTo>
                  <a:pt x="3748" y="9833"/>
                  <a:pt x="3745" y="9858"/>
                  <a:pt x="3795" y="9823"/>
                </a:cubicBezTo>
                <a:cubicBezTo>
                  <a:pt x="3844" y="9789"/>
                  <a:pt x="3829" y="9764"/>
                  <a:pt x="3894" y="9748"/>
                </a:cubicBezTo>
                <a:cubicBezTo>
                  <a:pt x="3970" y="9730"/>
                  <a:pt x="4057" y="9755"/>
                  <a:pt x="4118" y="9773"/>
                </a:cubicBezTo>
                <a:cubicBezTo>
                  <a:pt x="4167" y="9787"/>
                  <a:pt x="4241" y="9809"/>
                  <a:pt x="4291" y="9847"/>
                </a:cubicBezTo>
                <a:cubicBezTo>
                  <a:pt x="4334" y="9879"/>
                  <a:pt x="4371" y="9934"/>
                  <a:pt x="4415" y="9971"/>
                </a:cubicBezTo>
                <a:cubicBezTo>
                  <a:pt x="4465" y="10013"/>
                  <a:pt x="4516" y="10064"/>
                  <a:pt x="4564" y="10120"/>
                </a:cubicBezTo>
                <a:cubicBezTo>
                  <a:pt x="4635" y="10203"/>
                  <a:pt x="4702" y="10277"/>
                  <a:pt x="4762" y="10368"/>
                </a:cubicBezTo>
                <a:cubicBezTo>
                  <a:pt x="4791" y="10412"/>
                  <a:pt x="4840" y="10461"/>
                  <a:pt x="4862" y="10492"/>
                </a:cubicBezTo>
                <a:cubicBezTo>
                  <a:pt x="4897" y="10541"/>
                  <a:pt x="4930" y="10588"/>
                  <a:pt x="4961" y="10641"/>
                </a:cubicBezTo>
                <a:cubicBezTo>
                  <a:pt x="4982" y="10677"/>
                  <a:pt x="5012" y="10745"/>
                  <a:pt x="5035" y="10790"/>
                </a:cubicBezTo>
                <a:cubicBezTo>
                  <a:pt x="5056" y="10831"/>
                  <a:pt x="5086" y="10892"/>
                  <a:pt x="5110" y="10939"/>
                </a:cubicBezTo>
                <a:cubicBezTo>
                  <a:pt x="5143" y="11005"/>
                  <a:pt x="5181" y="11053"/>
                  <a:pt x="5209" y="11112"/>
                </a:cubicBezTo>
                <a:cubicBezTo>
                  <a:pt x="5233" y="11161"/>
                  <a:pt x="5259" y="11194"/>
                  <a:pt x="5283" y="11237"/>
                </a:cubicBezTo>
                <a:cubicBezTo>
                  <a:pt x="5302" y="11270"/>
                  <a:pt x="5341" y="11346"/>
                  <a:pt x="5358" y="11385"/>
                </a:cubicBezTo>
                <a:cubicBezTo>
                  <a:pt x="5383" y="11445"/>
                  <a:pt x="5412" y="11526"/>
                  <a:pt x="5432" y="11584"/>
                </a:cubicBezTo>
                <a:cubicBezTo>
                  <a:pt x="5447" y="11626"/>
                  <a:pt x="5467" y="11670"/>
                  <a:pt x="5482" y="11708"/>
                </a:cubicBezTo>
                <a:cubicBezTo>
                  <a:pt x="5498" y="11750"/>
                  <a:pt x="5515" y="11790"/>
                  <a:pt x="5531" y="11832"/>
                </a:cubicBezTo>
                <a:cubicBezTo>
                  <a:pt x="5547" y="11873"/>
                  <a:pt x="5566" y="11918"/>
                  <a:pt x="5581" y="11956"/>
                </a:cubicBezTo>
                <a:cubicBezTo>
                  <a:pt x="5599" y="12003"/>
                  <a:pt x="5611" y="12056"/>
                  <a:pt x="5631" y="12105"/>
                </a:cubicBezTo>
                <a:cubicBezTo>
                  <a:pt x="5654" y="12161"/>
                  <a:pt x="5681" y="12216"/>
                  <a:pt x="5705" y="12278"/>
                </a:cubicBezTo>
                <a:cubicBezTo>
                  <a:pt x="5723" y="12325"/>
                  <a:pt x="5736" y="12385"/>
                  <a:pt x="5755" y="12427"/>
                </a:cubicBezTo>
                <a:cubicBezTo>
                  <a:pt x="5778" y="12479"/>
                  <a:pt x="5802" y="12519"/>
                  <a:pt x="5829" y="12576"/>
                </a:cubicBezTo>
                <a:cubicBezTo>
                  <a:pt x="5867" y="12655"/>
                  <a:pt x="5911" y="12740"/>
                  <a:pt x="5953" y="12824"/>
                </a:cubicBezTo>
                <a:cubicBezTo>
                  <a:pt x="5975" y="12868"/>
                  <a:pt x="6005" y="12927"/>
                  <a:pt x="6028" y="12973"/>
                </a:cubicBezTo>
                <a:cubicBezTo>
                  <a:pt x="6049" y="13016"/>
                  <a:pt x="6078" y="13074"/>
                  <a:pt x="6102" y="13122"/>
                </a:cubicBezTo>
                <a:cubicBezTo>
                  <a:pt x="6129" y="13177"/>
                  <a:pt x="6148" y="13216"/>
                  <a:pt x="6176" y="13271"/>
                </a:cubicBezTo>
                <a:cubicBezTo>
                  <a:pt x="6194" y="13306"/>
                  <a:pt x="6206" y="13363"/>
                  <a:pt x="6226" y="13395"/>
                </a:cubicBezTo>
                <a:cubicBezTo>
                  <a:pt x="6253" y="13438"/>
                  <a:pt x="6300" y="13476"/>
                  <a:pt x="6325" y="13519"/>
                </a:cubicBezTo>
                <a:cubicBezTo>
                  <a:pt x="6349" y="13560"/>
                  <a:pt x="6376" y="13621"/>
                  <a:pt x="6400" y="13667"/>
                </a:cubicBezTo>
                <a:cubicBezTo>
                  <a:pt x="6423" y="13710"/>
                  <a:pt x="6444" y="13770"/>
                  <a:pt x="6474" y="13816"/>
                </a:cubicBezTo>
                <a:cubicBezTo>
                  <a:pt x="6499" y="13854"/>
                  <a:pt x="6527" y="13877"/>
                  <a:pt x="6548" y="13915"/>
                </a:cubicBezTo>
                <a:cubicBezTo>
                  <a:pt x="6574" y="13962"/>
                  <a:pt x="6592" y="13991"/>
                  <a:pt x="6623" y="14039"/>
                </a:cubicBezTo>
                <a:cubicBezTo>
                  <a:pt x="6647" y="14076"/>
                  <a:pt x="6672" y="14124"/>
                  <a:pt x="6697" y="14163"/>
                </a:cubicBezTo>
                <a:cubicBezTo>
                  <a:pt x="6722" y="14201"/>
                  <a:pt x="6742" y="14225"/>
                  <a:pt x="6772" y="14263"/>
                </a:cubicBezTo>
                <a:cubicBezTo>
                  <a:pt x="6792" y="14289"/>
                  <a:pt x="6833" y="14346"/>
                  <a:pt x="6846" y="14362"/>
                </a:cubicBezTo>
                <a:cubicBezTo>
                  <a:pt x="6866" y="14387"/>
                  <a:pt x="6906" y="14446"/>
                  <a:pt x="6921" y="14461"/>
                </a:cubicBezTo>
                <a:cubicBezTo>
                  <a:pt x="6951" y="14490"/>
                  <a:pt x="6984" y="14508"/>
                  <a:pt x="7020" y="14536"/>
                </a:cubicBezTo>
                <a:cubicBezTo>
                  <a:pt x="7078" y="14583"/>
                  <a:pt x="7103" y="14602"/>
                  <a:pt x="7169" y="14635"/>
                </a:cubicBezTo>
                <a:cubicBezTo>
                  <a:pt x="7210" y="14656"/>
                  <a:pt x="7247" y="14674"/>
                  <a:pt x="7293" y="14684"/>
                </a:cubicBezTo>
                <a:cubicBezTo>
                  <a:pt x="7378" y="14702"/>
                  <a:pt x="7520" y="14689"/>
                  <a:pt x="7590" y="14660"/>
                </a:cubicBezTo>
                <a:cubicBezTo>
                  <a:pt x="7628" y="14644"/>
                  <a:pt x="7686" y="14605"/>
                  <a:pt x="7714" y="14585"/>
                </a:cubicBezTo>
                <a:cubicBezTo>
                  <a:pt x="7759" y="14553"/>
                  <a:pt x="7803" y="14497"/>
                  <a:pt x="7838" y="14461"/>
                </a:cubicBezTo>
                <a:cubicBezTo>
                  <a:pt x="7875" y="14422"/>
                  <a:pt x="7911" y="14383"/>
                  <a:pt x="7938" y="14337"/>
                </a:cubicBezTo>
                <a:cubicBezTo>
                  <a:pt x="7969" y="14284"/>
                  <a:pt x="7988" y="14221"/>
                  <a:pt x="8012" y="14163"/>
                </a:cubicBezTo>
                <a:cubicBezTo>
                  <a:pt x="8046" y="14081"/>
                  <a:pt x="8078" y="13979"/>
                  <a:pt x="8111" y="13891"/>
                </a:cubicBezTo>
                <a:cubicBezTo>
                  <a:pt x="8133" y="13831"/>
                  <a:pt x="8163" y="13761"/>
                  <a:pt x="8186" y="13692"/>
                </a:cubicBezTo>
                <a:cubicBezTo>
                  <a:pt x="8224" y="13579"/>
                  <a:pt x="8249" y="13464"/>
                  <a:pt x="8285" y="13345"/>
                </a:cubicBezTo>
                <a:cubicBezTo>
                  <a:pt x="8308" y="13267"/>
                  <a:pt x="8340" y="13198"/>
                  <a:pt x="8359" y="13122"/>
                </a:cubicBezTo>
                <a:cubicBezTo>
                  <a:pt x="8377" y="13050"/>
                  <a:pt x="8395" y="12973"/>
                  <a:pt x="8409" y="12898"/>
                </a:cubicBezTo>
                <a:cubicBezTo>
                  <a:pt x="8422" y="12831"/>
                  <a:pt x="8424" y="12769"/>
                  <a:pt x="8434" y="12700"/>
                </a:cubicBezTo>
                <a:cubicBezTo>
                  <a:pt x="8443" y="12633"/>
                  <a:pt x="8448" y="12570"/>
                  <a:pt x="8458" y="12502"/>
                </a:cubicBezTo>
                <a:cubicBezTo>
                  <a:pt x="8468" y="12432"/>
                  <a:pt x="8479" y="12367"/>
                  <a:pt x="8483" y="12303"/>
                </a:cubicBezTo>
                <a:cubicBezTo>
                  <a:pt x="8488" y="12217"/>
                  <a:pt x="8498" y="12127"/>
                  <a:pt x="8508" y="12055"/>
                </a:cubicBezTo>
                <a:cubicBezTo>
                  <a:pt x="8508" y="12047"/>
                  <a:pt x="8508" y="12038"/>
                  <a:pt x="8508" y="12030"/>
                </a:cubicBezTo>
              </a:path>
              <a:path w="21805" h="7442">
                <a:moveTo>
                  <a:pt x="8533" y="11782"/>
                </a:moveTo>
                <a:cubicBezTo>
                  <a:pt x="8546" y="11742"/>
                  <a:pt x="8568" y="11700"/>
                  <a:pt x="8582" y="11658"/>
                </a:cubicBezTo>
                <a:cubicBezTo>
                  <a:pt x="8599" y="11607"/>
                  <a:pt x="8588" y="11558"/>
                  <a:pt x="8607" y="11509"/>
                </a:cubicBezTo>
                <a:cubicBezTo>
                  <a:pt x="8627" y="11458"/>
                  <a:pt x="8657" y="11417"/>
                  <a:pt x="8682" y="11361"/>
                </a:cubicBezTo>
                <a:cubicBezTo>
                  <a:pt x="8705" y="11310"/>
                  <a:pt x="8730" y="11269"/>
                  <a:pt x="8756" y="11212"/>
                </a:cubicBezTo>
                <a:cubicBezTo>
                  <a:pt x="8783" y="11152"/>
                  <a:pt x="8805" y="11097"/>
                  <a:pt x="8830" y="11038"/>
                </a:cubicBezTo>
                <a:cubicBezTo>
                  <a:pt x="8870" y="10945"/>
                  <a:pt x="8923" y="10852"/>
                  <a:pt x="8954" y="10765"/>
                </a:cubicBezTo>
                <a:cubicBezTo>
                  <a:pt x="8983" y="10683"/>
                  <a:pt x="8977" y="10635"/>
                  <a:pt x="9004" y="10567"/>
                </a:cubicBezTo>
                <a:cubicBezTo>
                  <a:pt x="9015" y="10540"/>
                  <a:pt x="9056" y="10425"/>
                  <a:pt x="9079" y="10368"/>
                </a:cubicBezTo>
                <a:cubicBezTo>
                  <a:pt x="9106" y="10301"/>
                  <a:pt x="9147" y="10204"/>
                  <a:pt x="9178" y="10145"/>
                </a:cubicBezTo>
                <a:cubicBezTo>
                  <a:pt x="9202" y="10099"/>
                  <a:pt x="9245" y="10038"/>
                  <a:pt x="9277" y="9996"/>
                </a:cubicBezTo>
                <a:cubicBezTo>
                  <a:pt x="9312" y="9950"/>
                  <a:pt x="9332" y="9927"/>
                  <a:pt x="9376" y="9897"/>
                </a:cubicBezTo>
                <a:cubicBezTo>
                  <a:pt x="9409" y="9874"/>
                  <a:pt x="9396" y="9843"/>
                  <a:pt x="9451" y="9823"/>
                </a:cubicBezTo>
                <a:cubicBezTo>
                  <a:pt x="9707" y="9728"/>
                  <a:pt x="10070" y="9895"/>
                  <a:pt x="10244" y="9996"/>
                </a:cubicBezTo>
                <a:cubicBezTo>
                  <a:pt x="10304" y="10031"/>
                  <a:pt x="10343" y="10082"/>
                  <a:pt x="10393" y="10120"/>
                </a:cubicBezTo>
                <a:cubicBezTo>
                  <a:pt x="10447" y="10161"/>
                  <a:pt x="10491" y="10215"/>
                  <a:pt x="10542" y="10269"/>
                </a:cubicBezTo>
                <a:cubicBezTo>
                  <a:pt x="10578" y="10307"/>
                  <a:pt x="10624" y="10369"/>
                  <a:pt x="10666" y="10418"/>
                </a:cubicBezTo>
                <a:cubicBezTo>
                  <a:pt x="10706" y="10465"/>
                  <a:pt x="10748" y="10513"/>
                  <a:pt x="10790" y="10567"/>
                </a:cubicBezTo>
                <a:cubicBezTo>
                  <a:pt x="10821" y="10608"/>
                  <a:pt x="10853" y="10663"/>
                  <a:pt x="10889" y="10716"/>
                </a:cubicBezTo>
                <a:cubicBezTo>
                  <a:pt x="10925" y="10769"/>
                  <a:pt x="10980" y="10808"/>
                  <a:pt x="11013" y="10864"/>
                </a:cubicBezTo>
                <a:cubicBezTo>
                  <a:pt x="11049" y="10927"/>
                  <a:pt x="11073" y="11017"/>
                  <a:pt x="11112" y="11088"/>
                </a:cubicBezTo>
                <a:cubicBezTo>
                  <a:pt x="11133" y="11125"/>
                  <a:pt x="11165" y="11152"/>
                  <a:pt x="11187" y="11187"/>
                </a:cubicBezTo>
                <a:cubicBezTo>
                  <a:pt x="11212" y="11228"/>
                  <a:pt x="11214" y="11272"/>
                  <a:pt x="11237" y="11311"/>
                </a:cubicBezTo>
                <a:cubicBezTo>
                  <a:pt x="11259" y="11349"/>
                  <a:pt x="11297" y="11351"/>
                  <a:pt x="11311" y="11385"/>
                </a:cubicBezTo>
                <a:cubicBezTo>
                  <a:pt x="11325" y="11419"/>
                  <a:pt x="11346" y="11451"/>
                  <a:pt x="11361" y="11485"/>
                </a:cubicBezTo>
                <a:cubicBezTo>
                  <a:pt x="11374" y="11515"/>
                  <a:pt x="11374" y="11554"/>
                  <a:pt x="11385" y="11584"/>
                </a:cubicBezTo>
                <a:cubicBezTo>
                  <a:pt x="11400" y="11623"/>
                  <a:pt x="11394" y="11669"/>
                  <a:pt x="11410" y="11708"/>
                </a:cubicBezTo>
                <a:cubicBezTo>
                  <a:pt x="11427" y="11749"/>
                  <a:pt x="11444" y="11790"/>
                  <a:pt x="11460" y="11832"/>
                </a:cubicBezTo>
                <a:cubicBezTo>
                  <a:pt x="11473" y="11865"/>
                  <a:pt x="11495" y="11899"/>
                  <a:pt x="11509" y="11931"/>
                </a:cubicBezTo>
                <a:cubicBezTo>
                  <a:pt x="11527" y="11972"/>
                  <a:pt x="11541" y="12015"/>
                  <a:pt x="11559" y="12055"/>
                </a:cubicBezTo>
                <a:cubicBezTo>
                  <a:pt x="11574" y="12090"/>
                  <a:pt x="11595" y="12119"/>
                  <a:pt x="11609" y="12154"/>
                </a:cubicBezTo>
                <a:cubicBezTo>
                  <a:pt x="11631" y="12207"/>
                  <a:pt x="11662" y="12267"/>
                  <a:pt x="11683" y="12328"/>
                </a:cubicBezTo>
                <a:cubicBezTo>
                  <a:pt x="11695" y="12362"/>
                  <a:pt x="11698" y="12394"/>
                  <a:pt x="11708" y="12427"/>
                </a:cubicBezTo>
                <a:cubicBezTo>
                  <a:pt x="11718" y="12459"/>
                  <a:pt x="11721" y="12493"/>
                  <a:pt x="11733" y="12526"/>
                </a:cubicBezTo>
                <a:cubicBezTo>
                  <a:pt x="11751" y="12575"/>
                  <a:pt x="11765" y="12626"/>
                  <a:pt x="11782" y="12675"/>
                </a:cubicBezTo>
                <a:cubicBezTo>
                  <a:pt x="11801" y="12729"/>
                  <a:pt x="11813" y="12776"/>
                  <a:pt x="11832" y="12824"/>
                </a:cubicBezTo>
                <a:cubicBezTo>
                  <a:pt x="11852" y="12874"/>
                  <a:pt x="11885" y="12917"/>
                  <a:pt x="11906" y="12973"/>
                </a:cubicBezTo>
                <a:cubicBezTo>
                  <a:pt x="11923" y="13020"/>
                  <a:pt x="11963" y="13073"/>
                  <a:pt x="11981" y="13122"/>
                </a:cubicBezTo>
                <a:cubicBezTo>
                  <a:pt x="12001" y="13174"/>
                  <a:pt x="12010" y="13244"/>
                  <a:pt x="12030" y="13295"/>
                </a:cubicBezTo>
                <a:cubicBezTo>
                  <a:pt x="12053" y="13353"/>
                  <a:pt x="12082" y="13387"/>
                  <a:pt x="12105" y="13444"/>
                </a:cubicBezTo>
                <a:cubicBezTo>
                  <a:pt x="12120" y="13482"/>
                  <a:pt x="12141" y="13532"/>
                  <a:pt x="12154" y="13568"/>
                </a:cubicBezTo>
                <a:cubicBezTo>
                  <a:pt x="12172" y="13617"/>
                  <a:pt x="12183" y="13667"/>
                  <a:pt x="12204" y="13717"/>
                </a:cubicBezTo>
                <a:cubicBezTo>
                  <a:pt x="12221" y="13758"/>
                  <a:pt x="12237" y="13800"/>
                  <a:pt x="12254" y="13841"/>
                </a:cubicBezTo>
                <a:cubicBezTo>
                  <a:pt x="12272" y="13883"/>
                  <a:pt x="12286" y="13924"/>
                  <a:pt x="12303" y="13965"/>
                </a:cubicBezTo>
                <a:cubicBezTo>
                  <a:pt x="12322" y="14012"/>
                  <a:pt x="12356" y="14043"/>
                  <a:pt x="12378" y="14089"/>
                </a:cubicBezTo>
                <a:cubicBezTo>
                  <a:pt x="12427" y="14190"/>
                  <a:pt x="12461" y="14291"/>
                  <a:pt x="12526" y="14387"/>
                </a:cubicBezTo>
                <a:cubicBezTo>
                  <a:pt x="12559" y="14436"/>
                  <a:pt x="12583" y="14485"/>
                  <a:pt x="12626" y="14536"/>
                </a:cubicBezTo>
                <a:cubicBezTo>
                  <a:pt x="12690" y="14612"/>
                  <a:pt x="12757" y="14655"/>
                  <a:pt x="12824" y="14709"/>
                </a:cubicBezTo>
                <a:cubicBezTo>
                  <a:pt x="12894" y="14766"/>
                  <a:pt x="12938" y="14797"/>
                  <a:pt x="13022" y="14833"/>
                </a:cubicBezTo>
                <a:cubicBezTo>
                  <a:pt x="13060" y="14849"/>
                  <a:pt x="13079" y="14877"/>
                  <a:pt x="13122" y="14883"/>
                </a:cubicBezTo>
                <a:cubicBezTo>
                  <a:pt x="13162" y="14889"/>
                  <a:pt x="13175" y="14915"/>
                  <a:pt x="13221" y="14908"/>
                </a:cubicBezTo>
                <a:cubicBezTo>
                  <a:pt x="13261" y="14902"/>
                  <a:pt x="13282" y="14863"/>
                  <a:pt x="13295" y="14858"/>
                </a:cubicBezTo>
                <a:cubicBezTo>
                  <a:pt x="13333" y="14843"/>
                  <a:pt x="13360" y="14834"/>
                  <a:pt x="13395" y="14808"/>
                </a:cubicBezTo>
                <a:cubicBezTo>
                  <a:pt x="13442" y="14773"/>
                  <a:pt x="13497" y="14659"/>
                  <a:pt x="13543" y="14610"/>
                </a:cubicBezTo>
                <a:cubicBezTo>
                  <a:pt x="13622" y="14527"/>
                  <a:pt x="13704" y="14432"/>
                  <a:pt x="13767" y="14337"/>
                </a:cubicBezTo>
                <a:cubicBezTo>
                  <a:pt x="13795" y="14294"/>
                  <a:pt x="13835" y="14237"/>
                  <a:pt x="13866" y="14188"/>
                </a:cubicBezTo>
                <a:cubicBezTo>
                  <a:pt x="13893" y="14146"/>
                  <a:pt x="13913" y="14110"/>
                  <a:pt x="13940" y="14064"/>
                </a:cubicBezTo>
                <a:cubicBezTo>
                  <a:pt x="13974" y="14006"/>
                  <a:pt x="14006" y="13951"/>
                  <a:pt x="14039" y="13891"/>
                </a:cubicBezTo>
                <a:cubicBezTo>
                  <a:pt x="14127" y="13734"/>
                  <a:pt x="14190" y="13560"/>
                  <a:pt x="14263" y="13395"/>
                </a:cubicBezTo>
                <a:cubicBezTo>
                  <a:pt x="14297" y="13318"/>
                  <a:pt x="14329" y="13248"/>
                  <a:pt x="14362" y="13171"/>
                </a:cubicBezTo>
                <a:cubicBezTo>
                  <a:pt x="14429" y="13014"/>
                  <a:pt x="14466" y="12882"/>
                  <a:pt x="14511" y="12725"/>
                </a:cubicBezTo>
                <a:cubicBezTo>
                  <a:pt x="14530" y="12657"/>
                  <a:pt x="14545" y="12595"/>
                  <a:pt x="14560" y="12526"/>
                </a:cubicBezTo>
                <a:cubicBezTo>
                  <a:pt x="14573" y="12469"/>
                  <a:pt x="14573" y="12411"/>
                  <a:pt x="14585" y="12353"/>
                </a:cubicBezTo>
                <a:cubicBezTo>
                  <a:pt x="14595" y="12303"/>
                  <a:pt x="14600" y="12255"/>
                  <a:pt x="14610" y="12204"/>
                </a:cubicBezTo>
                <a:cubicBezTo>
                  <a:pt x="14619" y="12154"/>
                  <a:pt x="14627" y="12113"/>
                  <a:pt x="14635" y="12055"/>
                </a:cubicBezTo>
                <a:cubicBezTo>
                  <a:pt x="14642" y="12004"/>
                  <a:pt x="14657" y="11986"/>
                  <a:pt x="14660" y="11956"/>
                </a:cubicBezTo>
                <a:cubicBezTo>
                  <a:pt x="14667" y="11871"/>
                  <a:pt x="14675" y="11820"/>
                  <a:pt x="14684" y="11757"/>
                </a:cubicBezTo>
                <a:cubicBezTo>
                  <a:pt x="14690" y="11711"/>
                  <a:pt x="14673" y="11710"/>
                  <a:pt x="14684" y="11658"/>
                </a:cubicBezTo>
                <a:cubicBezTo>
                  <a:pt x="14704" y="11564"/>
                  <a:pt x="14728" y="11502"/>
                  <a:pt x="14759" y="11410"/>
                </a:cubicBezTo>
                <a:cubicBezTo>
                  <a:pt x="14778" y="11352"/>
                  <a:pt x="14785" y="11295"/>
                  <a:pt x="14808" y="11237"/>
                </a:cubicBezTo>
                <a:cubicBezTo>
                  <a:pt x="14853" y="11124"/>
                  <a:pt x="14928" y="11003"/>
                  <a:pt x="14982" y="10889"/>
                </a:cubicBezTo>
                <a:cubicBezTo>
                  <a:pt x="15017" y="10815"/>
                  <a:pt x="15042" y="10765"/>
                  <a:pt x="15081" y="10691"/>
                </a:cubicBezTo>
                <a:cubicBezTo>
                  <a:pt x="15136" y="10586"/>
                  <a:pt x="15236" y="10482"/>
                  <a:pt x="15280" y="10418"/>
                </a:cubicBezTo>
                <a:cubicBezTo>
                  <a:pt x="15330" y="10345"/>
                  <a:pt x="15346" y="10286"/>
                  <a:pt x="15404" y="10220"/>
                </a:cubicBezTo>
                <a:cubicBezTo>
                  <a:pt x="15436" y="10184"/>
                  <a:pt x="15477" y="10146"/>
                  <a:pt x="15503" y="10120"/>
                </a:cubicBezTo>
                <a:cubicBezTo>
                  <a:pt x="15525" y="10099"/>
                  <a:pt x="15599" y="9998"/>
                  <a:pt x="15602" y="9996"/>
                </a:cubicBezTo>
                <a:cubicBezTo>
                  <a:pt x="15645" y="9966"/>
                  <a:pt x="15727" y="9911"/>
                  <a:pt x="15776" y="9897"/>
                </a:cubicBezTo>
                <a:cubicBezTo>
                  <a:pt x="15932" y="9852"/>
                  <a:pt x="16072" y="9925"/>
                  <a:pt x="16197" y="9971"/>
                </a:cubicBezTo>
                <a:cubicBezTo>
                  <a:pt x="16271" y="9998"/>
                  <a:pt x="16355" y="10006"/>
                  <a:pt x="16421" y="10046"/>
                </a:cubicBezTo>
                <a:cubicBezTo>
                  <a:pt x="16472" y="10077"/>
                  <a:pt x="16539" y="10153"/>
                  <a:pt x="16594" y="10195"/>
                </a:cubicBezTo>
                <a:cubicBezTo>
                  <a:pt x="16775" y="10333"/>
                  <a:pt x="16896" y="10508"/>
                  <a:pt x="17016" y="10691"/>
                </a:cubicBezTo>
                <a:cubicBezTo>
                  <a:pt x="17067" y="10769"/>
                  <a:pt x="17128" y="10874"/>
                  <a:pt x="17165" y="10964"/>
                </a:cubicBezTo>
                <a:cubicBezTo>
                  <a:pt x="17190" y="11023"/>
                  <a:pt x="17216" y="11095"/>
                  <a:pt x="17239" y="11162"/>
                </a:cubicBezTo>
                <a:cubicBezTo>
                  <a:pt x="17256" y="11212"/>
                  <a:pt x="17272" y="11262"/>
                  <a:pt x="17289" y="11311"/>
                </a:cubicBezTo>
                <a:cubicBezTo>
                  <a:pt x="17307" y="11363"/>
                  <a:pt x="17318" y="11409"/>
                  <a:pt x="17338" y="11460"/>
                </a:cubicBezTo>
                <a:cubicBezTo>
                  <a:pt x="17356" y="11507"/>
                  <a:pt x="17369" y="11560"/>
                  <a:pt x="17388" y="11609"/>
                </a:cubicBezTo>
                <a:cubicBezTo>
                  <a:pt x="17411" y="11668"/>
                  <a:pt x="17438" y="11751"/>
                  <a:pt x="17462" y="11807"/>
                </a:cubicBezTo>
                <a:cubicBezTo>
                  <a:pt x="17487" y="11867"/>
                  <a:pt x="17512" y="11922"/>
                  <a:pt x="17537" y="11981"/>
                </a:cubicBezTo>
                <a:cubicBezTo>
                  <a:pt x="17564" y="12045"/>
                  <a:pt x="17608" y="12093"/>
                  <a:pt x="17636" y="12154"/>
                </a:cubicBezTo>
                <a:cubicBezTo>
                  <a:pt x="17672" y="12231"/>
                  <a:pt x="17697" y="12300"/>
                  <a:pt x="17735" y="12378"/>
                </a:cubicBezTo>
                <a:cubicBezTo>
                  <a:pt x="17828" y="12570"/>
                  <a:pt x="17926" y="12758"/>
                  <a:pt x="18008" y="12948"/>
                </a:cubicBezTo>
                <a:cubicBezTo>
                  <a:pt x="18056" y="13060"/>
                  <a:pt x="18087" y="13188"/>
                  <a:pt x="18132" y="13295"/>
                </a:cubicBezTo>
                <a:cubicBezTo>
                  <a:pt x="18159" y="13359"/>
                  <a:pt x="18205" y="13407"/>
                  <a:pt x="18231" y="13469"/>
                </a:cubicBezTo>
                <a:cubicBezTo>
                  <a:pt x="18271" y="13563"/>
                  <a:pt x="18291" y="13679"/>
                  <a:pt x="18331" y="13767"/>
                </a:cubicBezTo>
                <a:cubicBezTo>
                  <a:pt x="18427" y="13977"/>
                  <a:pt x="18558" y="14234"/>
                  <a:pt x="18703" y="14412"/>
                </a:cubicBezTo>
                <a:cubicBezTo>
                  <a:pt x="18922" y="14680"/>
                  <a:pt x="19319" y="14977"/>
                  <a:pt x="19645" y="14759"/>
                </a:cubicBezTo>
                <a:cubicBezTo>
                  <a:pt x="19794" y="14659"/>
                  <a:pt x="19827" y="14486"/>
                  <a:pt x="19893" y="14337"/>
                </a:cubicBezTo>
                <a:cubicBezTo>
                  <a:pt x="19956" y="14194"/>
                  <a:pt x="20009" y="14061"/>
                  <a:pt x="20067" y="13915"/>
                </a:cubicBezTo>
                <a:cubicBezTo>
                  <a:pt x="20165" y="13669"/>
                  <a:pt x="20286" y="13436"/>
                  <a:pt x="20365" y="13196"/>
                </a:cubicBezTo>
                <a:cubicBezTo>
                  <a:pt x="20396" y="13103"/>
                  <a:pt x="20418" y="13019"/>
                  <a:pt x="20439" y="12923"/>
                </a:cubicBezTo>
                <a:cubicBezTo>
                  <a:pt x="20461" y="12822"/>
                  <a:pt x="20481" y="12704"/>
                  <a:pt x="20489" y="12601"/>
                </a:cubicBezTo>
                <a:cubicBezTo>
                  <a:pt x="20500" y="12464"/>
                  <a:pt x="20493" y="12335"/>
                  <a:pt x="20513" y="12204"/>
                </a:cubicBezTo>
                <a:cubicBezTo>
                  <a:pt x="20523" y="12141"/>
                  <a:pt x="20517" y="12110"/>
                  <a:pt x="20538" y="12055"/>
                </a:cubicBezTo>
                <a:cubicBezTo>
                  <a:pt x="20550" y="12024"/>
                  <a:pt x="20524" y="12035"/>
                  <a:pt x="20538" y="12005"/>
                </a:cubicBezTo>
                <a:cubicBezTo>
                  <a:pt x="20542" y="11996"/>
                  <a:pt x="20598" y="11958"/>
                  <a:pt x="20613" y="11931"/>
                </a:cubicBezTo>
                <a:cubicBezTo>
                  <a:pt x="20641" y="11881"/>
                  <a:pt x="20682" y="11833"/>
                  <a:pt x="20712" y="11782"/>
                </a:cubicBezTo>
                <a:cubicBezTo>
                  <a:pt x="20819" y="11600"/>
                  <a:pt x="20899" y="11462"/>
                  <a:pt x="20935" y="11261"/>
                </a:cubicBezTo>
                <a:cubicBezTo>
                  <a:pt x="20945" y="11208"/>
                  <a:pt x="20933" y="11074"/>
                  <a:pt x="20935" y="11063"/>
                </a:cubicBezTo>
              </a:path>
              <a:path w="21805" h="7442">
                <a:moveTo>
                  <a:pt x="2853" y="11906"/>
                </a:moveTo>
                <a:cubicBezTo>
                  <a:pt x="2869" y="11906"/>
                  <a:pt x="2886" y="11906"/>
                  <a:pt x="2902" y="11906"/>
                </a:cubicBezTo>
                <a:cubicBezTo>
                  <a:pt x="2893" y="11942"/>
                  <a:pt x="2876" y="11995"/>
                  <a:pt x="2853" y="12030"/>
                </a:cubicBezTo>
                <a:cubicBezTo>
                  <a:pt x="2806" y="12101"/>
                  <a:pt x="2774" y="12181"/>
                  <a:pt x="2729" y="12254"/>
                </a:cubicBezTo>
                <a:cubicBezTo>
                  <a:pt x="2673" y="12346"/>
                  <a:pt x="2644" y="12426"/>
                  <a:pt x="2604" y="12526"/>
                </a:cubicBezTo>
                <a:cubicBezTo>
                  <a:pt x="2573" y="12602"/>
                  <a:pt x="2542" y="12677"/>
                  <a:pt x="2505" y="12750"/>
                </a:cubicBezTo>
                <a:cubicBezTo>
                  <a:pt x="2484" y="12792"/>
                  <a:pt x="2465" y="12856"/>
                  <a:pt x="2456" y="12874"/>
                </a:cubicBezTo>
                <a:cubicBezTo>
                  <a:pt x="2456" y="12882"/>
                  <a:pt x="2456" y="12890"/>
                  <a:pt x="2456" y="12898"/>
                </a:cubicBezTo>
              </a:path>
              <a:path w="21805" h="7442">
                <a:moveTo>
                  <a:pt x="2183" y="12601"/>
                </a:moveTo>
                <a:cubicBezTo>
                  <a:pt x="2163" y="12673"/>
                  <a:pt x="2145" y="12753"/>
                  <a:pt x="2133" y="12824"/>
                </a:cubicBezTo>
                <a:cubicBezTo>
                  <a:pt x="2120" y="12903"/>
                  <a:pt x="2138" y="12982"/>
                  <a:pt x="2158" y="13047"/>
                </a:cubicBezTo>
                <a:cubicBezTo>
                  <a:pt x="2169" y="13083"/>
                  <a:pt x="2193" y="13109"/>
                  <a:pt x="2232" y="13122"/>
                </a:cubicBezTo>
                <a:cubicBezTo>
                  <a:pt x="2279" y="13138"/>
                  <a:pt x="2362" y="13109"/>
                  <a:pt x="2406" y="13097"/>
                </a:cubicBezTo>
                <a:cubicBezTo>
                  <a:pt x="2510" y="13070"/>
                  <a:pt x="2582" y="13050"/>
                  <a:pt x="2679" y="12998"/>
                </a:cubicBezTo>
                <a:cubicBezTo>
                  <a:pt x="2696" y="12990"/>
                  <a:pt x="2712" y="12981"/>
                  <a:pt x="2729" y="12973"/>
                </a:cubicBezTo>
              </a:path>
              <a:path w="21805" h="7442">
                <a:moveTo>
                  <a:pt x="2828" y="11956"/>
                </a:moveTo>
                <a:cubicBezTo>
                  <a:pt x="2815" y="11990"/>
                  <a:pt x="2780" y="12065"/>
                  <a:pt x="2803" y="12105"/>
                </a:cubicBezTo>
                <a:cubicBezTo>
                  <a:pt x="2825" y="12144"/>
                  <a:pt x="2840" y="12185"/>
                  <a:pt x="2877" y="12204"/>
                </a:cubicBezTo>
                <a:cubicBezTo>
                  <a:pt x="2950" y="12241"/>
                  <a:pt x="2960" y="12224"/>
                  <a:pt x="3026" y="12204"/>
                </a:cubicBezTo>
                <a:cubicBezTo>
                  <a:pt x="3068" y="12191"/>
                  <a:pt x="3128" y="12178"/>
                  <a:pt x="3150" y="12129"/>
                </a:cubicBezTo>
                <a:cubicBezTo>
                  <a:pt x="3161" y="12105"/>
                  <a:pt x="3168" y="12082"/>
                  <a:pt x="3175" y="12055"/>
                </a:cubicBezTo>
                <a:cubicBezTo>
                  <a:pt x="3137" y="12004"/>
                  <a:pt x="3151" y="11985"/>
                  <a:pt x="3076" y="11981"/>
                </a:cubicBezTo>
                <a:cubicBezTo>
                  <a:pt x="3008" y="11977"/>
                  <a:pt x="2989" y="11990"/>
                  <a:pt x="2927" y="12005"/>
                </a:cubicBezTo>
                <a:cubicBezTo>
                  <a:pt x="2885" y="12015"/>
                  <a:pt x="2858" y="12034"/>
                  <a:pt x="2853" y="12080"/>
                </a:cubicBezTo>
                <a:cubicBezTo>
                  <a:pt x="2850" y="12104"/>
                  <a:pt x="2853" y="12130"/>
                  <a:pt x="2853" y="12154"/>
                </a:cubicBezTo>
                <a:cubicBezTo>
                  <a:pt x="2896" y="12187"/>
                  <a:pt x="2919" y="12179"/>
                  <a:pt x="2977" y="12179"/>
                </a:cubicBezTo>
                <a:cubicBezTo>
                  <a:pt x="3007" y="12179"/>
                  <a:pt x="3063" y="12135"/>
                  <a:pt x="3076" y="12105"/>
                </a:cubicBezTo>
                <a:cubicBezTo>
                  <a:pt x="3095" y="12062"/>
                  <a:pt x="3079" y="11987"/>
                  <a:pt x="3051" y="11956"/>
                </a:cubicBezTo>
                <a:cubicBezTo>
                  <a:pt x="3006" y="11906"/>
                  <a:pt x="2994" y="11906"/>
                  <a:pt x="2927" y="11906"/>
                </a:cubicBezTo>
                <a:cubicBezTo>
                  <a:pt x="2885" y="11906"/>
                  <a:pt x="2804" y="11922"/>
                  <a:pt x="2778" y="11956"/>
                </a:cubicBezTo>
                <a:cubicBezTo>
                  <a:pt x="2762" y="11977"/>
                  <a:pt x="2719" y="12080"/>
                  <a:pt x="2729" y="12105"/>
                </a:cubicBezTo>
                <a:cubicBezTo>
                  <a:pt x="2747" y="12150"/>
                  <a:pt x="2770" y="12157"/>
                  <a:pt x="2803" y="12179"/>
                </a:cubicBezTo>
                <a:cubicBezTo>
                  <a:pt x="2854" y="12213"/>
                  <a:pt x="2896" y="12220"/>
                  <a:pt x="2952" y="12179"/>
                </a:cubicBezTo>
                <a:cubicBezTo>
                  <a:pt x="2981" y="12158"/>
                  <a:pt x="3016" y="12110"/>
                  <a:pt x="3026" y="12080"/>
                </a:cubicBezTo>
                <a:cubicBezTo>
                  <a:pt x="3043" y="12030"/>
                  <a:pt x="3007" y="12031"/>
                  <a:pt x="2977" y="12005"/>
                </a:cubicBezTo>
                <a:cubicBezTo>
                  <a:pt x="2956" y="11987"/>
                  <a:pt x="2909" y="11964"/>
                  <a:pt x="2877" y="11981"/>
                </a:cubicBezTo>
                <a:cubicBezTo>
                  <a:pt x="2855" y="12003"/>
                  <a:pt x="2850" y="12011"/>
                  <a:pt x="2828" y="12005"/>
                </a:cubicBezTo>
                <a:cubicBezTo>
                  <a:pt x="2828" y="12057"/>
                  <a:pt x="2825" y="12055"/>
                  <a:pt x="2877" y="12055"/>
                </a:cubicBezTo>
                <a:cubicBezTo>
                  <a:pt x="2923" y="12055"/>
                  <a:pt x="2942" y="12062"/>
                  <a:pt x="2977" y="12030"/>
                </a:cubicBezTo>
                <a:cubicBezTo>
                  <a:pt x="2999" y="12008"/>
                  <a:pt x="3007" y="12003"/>
                  <a:pt x="3001" y="11981"/>
                </a:cubicBezTo>
                <a:cubicBezTo>
                  <a:pt x="2987" y="11922"/>
                  <a:pt x="2963" y="11910"/>
                  <a:pt x="2902" y="11906"/>
                </a:cubicBezTo>
                <a:cubicBezTo>
                  <a:pt x="2843" y="11903"/>
                  <a:pt x="2816" y="11881"/>
                  <a:pt x="2753" y="11881"/>
                </a:cubicBezTo>
                <a:cubicBezTo>
                  <a:pt x="2727" y="11881"/>
                  <a:pt x="2708" y="11909"/>
                  <a:pt x="2679" y="11931"/>
                </a:cubicBezTo>
              </a:path>
              <a:path w="21805" h="7442">
                <a:moveTo>
                  <a:pt x="20414" y="11981"/>
                </a:moveTo>
                <a:cubicBezTo>
                  <a:pt x="20420" y="12006"/>
                  <a:pt x="20454" y="12050"/>
                  <a:pt x="20464" y="12055"/>
                </a:cubicBezTo>
                <a:cubicBezTo>
                  <a:pt x="20494" y="12070"/>
                  <a:pt x="20541" y="12039"/>
                  <a:pt x="20563" y="12030"/>
                </a:cubicBezTo>
                <a:cubicBezTo>
                  <a:pt x="20616" y="12007"/>
                  <a:pt x="20649" y="11983"/>
                  <a:pt x="20662" y="11931"/>
                </a:cubicBezTo>
                <a:cubicBezTo>
                  <a:pt x="20636" y="11895"/>
                  <a:pt x="20638" y="11862"/>
                  <a:pt x="20588" y="11857"/>
                </a:cubicBezTo>
                <a:cubicBezTo>
                  <a:pt x="20539" y="11852"/>
                  <a:pt x="20528" y="11868"/>
                  <a:pt x="20489" y="11881"/>
                </a:cubicBezTo>
                <a:cubicBezTo>
                  <a:pt x="20429" y="11900"/>
                  <a:pt x="20439" y="11916"/>
                  <a:pt x="20439" y="11981"/>
                </a:cubicBezTo>
                <a:cubicBezTo>
                  <a:pt x="20439" y="12005"/>
                  <a:pt x="20439" y="12014"/>
                  <a:pt x="20439" y="12030"/>
                </a:cubicBezTo>
                <a:cubicBezTo>
                  <a:pt x="20490" y="12043"/>
                  <a:pt x="20502" y="12055"/>
                  <a:pt x="20563" y="12055"/>
                </a:cubicBezTo>
                <a:cubicBezTo>
                  <a:pt x="20656" y="12055"/>
                  <a:pt x="20657" y="12005"/>
                  <a:pt x="20662" y="11931"/>
                </a:cubicBezTo>
                <a:cubicBezTo>
                  <a:pt x="20665" y="11890"/>
                  <a:pt x="20662" y="11889"/>
                  <a:pt x="20638" y="11857"/>
                </a:cubicBezTo>
                <a:cubicBezTo>
                  <a:pt x="20582" y="11857"/>
                  <a:pt x="20531" y="11844"/>
                  <a:pt x="20489" y="11881"/>
                </a:cubicBezTo>
                <a:cubicBezTo>
                  <a:pt x="20460" y="11906"/>
                  <a:pt x="20448" y="11947"/>
                  <a:pt x="20439" y="11981"/>
                </a:cubicBezTo>
                <a:cubicBezTo>
                  <a:pt x="20474" y="11992"/>
                  <a:pt x="20464" y="12024"/>
                  <a:pt x="20513" y="12030"/>
                </a:cubicBezTo>
                <a:cubicBezTo>
                  <a:pt x="20570" y="12036"/>
                  <a:pt x="20593" y="12020"/>
                  <a:pt x="20638" y="12005"/>
                </a:cubicBezTo>
                <a:cubicBezTo>
                  <a:pt x="20672" y="11993"/>
                  <a:pt x="20662" y="11998"/>
                  <a:pt x="20662" y="11956"/>
                </a:cubicBezTo>
                <a:cubicBezTo>
                  <a:pt x="20617" y="11893"/>
                  <a:pt x="20638" y="11906"/>
                  <a:pt x="20538" y="11906"/>
                </a:cubicBezTo>
                <a:cubicBezTo>
                  <a:pt x="20491" y="11906"/>
                  <a:pt x="20449" y="11907"/>
                  <a:pt x="20414" y="11931"/>
                </a:cubicBezTo>
                <a:cubicBezTo>
                  <a:pt x="20383" y="11952"/>
                  <a:pt x="20370" y="11958"/>
                  <a:pt x="20340" y="11981"/>
                </a:cubicBezTo>
              </a:path>
              <a:path w="21805" h="7442">
                <a:moveTo>
                  <a:pt x="11509" y="11757"/>
                </a:moveTo>
                <a:cubicBezTo>
                  <a:pt x="11452" y="11757"/>
                  <a:pt x="11431" y="11766"/>
                  <a:pt x="11385" y="11782"/>
                </a:cubicBezTo>
                <a:cubicBezTo>
                  <a:pt x="11343" y="11796"/>
                  <a:pt x="11352" y="11776"/>
                  <a:pt x="11311" y="11807"/>
                </a:cubicBezTo>
                <a:cubicBezTo>
                  <a:pt x="11311" y="11859"/>
                  <a:pt x="11325" y="11860"/>
                  <a:pt x="11336" y="11881"/>
                </a:cubicBezTo>
                <a:cubicBezTo>
                  <a:pt x="11349" y="11908"/>
                  <a:pt x="11367" y="11926"/>
                  <a:pt x="11410" y="11931"/>
                </a:cubicBezTo>
                <a:cubicBezTo>
                  <a:pt x="11438" y="11931"/>
                  <a:pt x="11449" y="11929"/>
                  <a:pt x="11460" y="11906"/>
                </a:cubicBezTo>
                <a:cubicBezTo>
                  <a:pt x="11502" y="11851"/>
                  <a:pt x="11478" y="11861"/>
                  <a:pt x="11460" y="11807"/>
                </a:cubicBezTo>
                <a:cubicBezTo>
                  <a:pt x="11450" y="11778"/>
                  <a:pt x="11426" y="11762"/>
                  <a:pt x="11385" y="11757"/>
                </a:cubicBezTo>
                <a:cubicBezTo>
                  <a:pt x="11317" y="11749"/>
                  <a:pt x="11274" y="11766"/>
                  <a:pt x="11212" y="11782"/>
                </a:cubicBezTo>
                <a:cubicBezTo>
                  <a:pt x="11171" y="11792"/>
                  <a:pt x="11142" y="11811"/>
                  <a:pt x="11137" y="11857"/>
                </a:cubicBezTo>
                <a:cubicBezTo>
                  <a:pt x="11134" y="11887"/>
                  <a:pt x="11148" y="11924"/>
                  <a:pt x="11162" y="11931"/>
                </a:cubicBezTo>
                <a:cubicBezTo>
                  <a:pt x="11209" y="11955"/>
                  <a:pt x="11252" y="11956"/>
                  <a:pt x="11311" y="11956"/>
                </a:cubicBezTo>
                <a:cubicBezTo>
                  <a:pt x="11363" y="11956"/>
                  <a:pt x="11364" y="11942"/>
                  <a:pt x="11385" y="11931"/>
                </a:cubicBezTo>
                <a:cubicBezTo>
                  <a:pt x="11402" y="11923"/>
                  <a:pt x="11467" y="11888"/>
                  <a:pt x="11460" y="11857"/>
                </a:cubicBezTo>
                <a:cubicBezTo>
                  <a:pt x="11452" y="11823"/>
                  <a:pt x="11435" y="11824"/>
                  <a:pt x="11435" y="11782"/>
                </a:cubicBezTo>
                <a:cubicBezTo>
                  <a:pt x="11391" y="11782"/>
                  <a:pt x="11386" y="11788"/>
                  <a:pt x="11361" y="11807"/>
                </a:cubicBezTo>
                <a:cubicBezTo>
                  <a:pt x="11349" y="11816"/>
                  <a:pt x="11290" y="11892"/>
                  <a:pt x="11286" y="11906"/>
                </a:cubicBezTo>
                <a:cubicBezTo>
                  <a:pt x="11286" y="11948"/>
                  <a:pt x="11294" y="11964"/>
                  <a:pt x="11261" y="11956"/>
                </a:cubicBezTo>
                <a:cubicBezTo>
                  <a:pt x="11283" y="11973"/>
                  <a:pt x="11328" y="12000"/>
                  <a:pt x="11361" y="11981"/>
                </a:cubicBezTo>
                <a:cubicBezTo>
                  <a:pt x="11399" y="11960"/>
                  <a:pt x="11426" y="11940"/>
                  <a:pt x="11460" y="11906"/>
                </a:cubicBezTo>
                <a:cubicBezTo>
                  <a:pt x="11498" y="11868"/>
                  <a:pt x="11509" y="11860"/>
                  <a:pt x="11509" y="11807"/>
                </a:cubicBezTo>
                <a:cubicBezTo>
                  <a:pt x="11509" y="11799"/>
                  <a:pt x="11509" y="11790"/>
                  <a:pt x="11509" y="11782"/>
                </a:cubicBezTo>
                <a:cubicBezTo>
                  <a:pt x="11437" y="11782"/>
                  <a:pt x="11419" y="11800"/>
                  <a:pt x="11361" y="11832"/>
                </a:cubicBezTo>
                <a:cubicBezTo>
                  <a:pt x="11284" y="11870"/>
                  <a:pt x="11268" y="11868"/>
                  <a:pt x="11237" y="11906"/>
                </a:cubicBezTo>
              </a:path>
              <a:path w="21805" h="7442">
                <a:moveTo>
                  <a:pt x="7193" y="9922"/>
                </a:moveTo>
                <a:cubicBezTo>
                  <a:pt x="7226" y="9897"/>
                  <a:pt x="7287" y="9865"/>
                  <a:pt x="7218" y="9823"/>
                </a:cubicBezTo>
                <a:cubicBezTo>
                  <a:pt x="7184" y="9802"/>
                  <a:pt x="7121" y="9841"/>
                  <a:pt x="7094" y="9847"/>
                </a:cubicBezTo>
                <a:cubicBezTo>
                  <a:pt x="7047" y="9858"/>
                  <a:pt x="7023" y="9906"/>
                  <a:pt x="7069" y="9922"/>
                </a:cubicBezTo>
                <a:cubicBezTo>
                  <a:pt x="7070" y="9926"/>
                  <a:pt x="7121" y="10028"/>
                  <a:pt x="7144" y="9971"/>
                </a:cubicBezTo>
                <a:cubicBezTo>
                  <a:pt x="7155" y="9945"/>
                  <a:pt x="7186" y="9888"/>
                  <a:pt x="7169" y="9847"/>
                </a:cubicBezTo>
                <a:cubicBezTo>
                  <a:pt x="7161" y="9839"/>
                  <a:pt x="7152" y="9831"/>
                  <a:pt x="7144" y="9823"/>
                </a:cubicBezTo>
                <a:cubicBezTo>
                  <a:pt x="7077" y="9839"/>
                  <a:pt x="7095" y="9863"/>
                  <a:pt x="7045" y="9897"/>
                </a:cubicBezTo>
                <a:cubicBezTo>
                  <a:pt x="7001" y="9927"/>
                  <a:pt x="6996" y="9901"/>
                  <a:pt x="7020" y="9971"/>
                </a:cubicBezTo>
                <a:cubicBezTo>
                  <a:pt x="7087" y="9971"/>
                  <a:pt x="7142" y="9995"/>
                  <a:pt x="7169" y="9922"/>
                </a:cubicBezTo>
                <a:cubicBezTo>
                  <a:pt x="7189" y="9869"/>
                  <a:pt x="7180" y="9929"/>
                  <a:pt x="7193" y="9847"/>
                </a:cubicBezTo>
                <a:cubicBezTo>
                  <a:pt x="7094" y="9847"/>
                  <a:pt x="7134" y="9853"/>
                  <a:pt x="7069" y="9897"/>
                </a:cubicBezTo>
                <a:cubicBezTo>
                  <a:pt x="7033" y="9922"/>
                  <a:pt x="7093" y="9963"/>
                  <a:pt x="7144" y="9971"/>
                </a:cubicBezTo>
                <a:cubicBezTo>
                  <a:pt x="7167" y="9975"/>
                  <a:pt x="7195" y="9971"/>
                  <a:pt x="7218" y="9971"/>
                </a:cubicBezTo>
                <a:cubicBezTo>
                  <a:pt x="7218" y="9926"/>
                  <a:pt x="7236" y="9850"/>
                  <a:pt x="7193" y="9823"/>
                </a:cubicBezTo>
                <a:cubicBezTo>
                  <a:pt x="7168" y="9807"/>
                  <a:pt x="7084" y="9831"/>
                  <a:pt x="7069" y="9847"/>
                </a:cubicBezTo>
                <a:cubicBezTo>
                  <a:pt x="7061" y="9864"/>
                  <a:pt x="7053" y="9880"/>
                  <a:pt x="7045" y="9897"/>
                </a:cubicBezTo>
              </a:path>
              <a:path w="21805" h="7442">
                <a:moveTo>
                  <a:pt x="16371" y="14660"/>
                </a:moveTo>
                <a:cubicBezTo>
                  <a:pt x="16406" y="14648"/>
                  <a:pt x="16396" y="14653"/>
                  <a:pt x="16396" y="14610"/>
                </a:cubicBezTo>
                <a:cubicBezTo>
                  <a:pt x="16369" y="14619"/>
                  <a:pt x="16350" y="14628"/>
                  <a:pt x="16346" y="14660"/>
                </a:cubicBezTo>
                <a:cubicBezTo>
                  <a:pt x="16340" y="14705"/>
                  <a:pt x="16388" y="14726"/>
                  <a:pt x="16421" y="14734"/>
                </a:cubicBezTo>
                <a:cubicBezTo>
                  <a:pt x="16434" y="14696"/>
                  <a:pt x="16446" y="14713"/>
                  <a:pt x="16446" y="14660"/>
                </a:cubicBezTo>
                <a:cubicBezTo>
                  <a:pt x="16446" y="14593"/>
                  <a:pt x="16460" y="14585"/>
                  <a:pt x="16396" y="14585"/>
                </a:cubicBezTo>
                <a:cubicBezTo>
                  <a:pt x="16346" y="14597"/>
                  <a:pt x="16346" y="14609"/>
                  <a:pt x="16346" y="14660"/>
                </a:cubicBezTo>
                <a:cubicBezTo>
                  <a:pt x="16346" y="14696"/>
                  <a:pt x="16383" y="14730"/>
                  <a:pt x="16421" y="14709"/>
                </a:cubicBezTo>
                <a:cubicBezTo>
                  <a:pt x="16448" y="14694"/>
                  <a:pt x="16460" y="14635"/>
                  <a:pt x="16470" y="14610"/>
                </a:cubicBezTo>
                <a:cubicBezTo>
                  <a:pt x="16430" y="14579"/>
                  <a:pt x="16393" y="14582"/>
                  <a:pt x="16346" y="14610"/>
                </a:cubicBezTo>
                <a:cubicBezTo>
                  <a:pt x="16292" y="14642"/>
                  <a:pt x="16327" y="14670"/>
                  <a:pt x="16346" y="14684"/>
                </a:cubicBezTo>
                <a:cubicBezTo>
                  <a:pt x="16354" y="14692"/>
                  <a:pt x="16363" y="14701"/>
                  <a:pt x="16371" y="14709"/>
                </a:cubicBezTo>
              </a:path>
              <a:path w="21805" h="7442">
                <a:moveTo>
                  <a:pt x="3026" y="11981"/>
                </a:moveTo>
                <a:cubicBezTo>
                  <a:pt x="3026" y="11973"/>
                  <a:pt x="3026" y="11964"/>
                  <a:pt x="3026" y="11956"/>
                </a:cubicBezTo>
                <a:cubicBezTo>
                  <a:pt x="2975" y="11969"/>
                  <a:pt x="2942" y="12015"/>
                  <a:pt x="2902" y="12055"/>
                </a:cubicBezTo>
                <a:cubicBezTo>
                  <a:pt x="2849" y="12108"/>
                  <a:pt x="2794" y="12167"/>
                  <a:pt x="2753" y="12229"/>
                </a:cubicBezTo>
                <a:cubicBezTo>
                  <a:pt x="2707" y="12299"/>
                  <a:pt x="2662" y="12365"/>
                  <a:pt x="2604" y="12427"/>
                </a:cubicBezTo>
                <a:cubicBezTo>
                  <a:pt x="2541" y="12494"/>
                  <a:pt x="2481" y="12575"/>
                  <a:pt x="2431" y="12650"/>
                </a:cubicBezTo>
                <a:cubicBezTo>
                  <a:pt x="2410" y="12682"/>
                  <a:pt x="2341" y="12757"/>
                  <a:pt x="2332" y="12774"/>
                </a:cubicBezTo>
                <a:cubicBezTo>
                  <a:pt x="2332" y="12799"/>
                  <a:pt x="2332" y="12807"/>
                  <a:pt x="2332" y="12774"/>
                </a:cubicBezTo>
              </a:path>
              <a:path w="21805" h="7442">
                <a:moveTo>
                  <a:pt x="2307" y="12303"/>
                </a:moveTo>
                <a:cubicBezTo>
                  <a:pt x="2281" y="12373"/>
                  <a:pt x="2301" y="12433"/>
                  <a:pt x="2282" y="12502"/>
                </a:cubicBezTo>
                <a:cubicBezTo>
                  <a:pt x="2262" y="12575"/>
                  <a:pt x="2237" y="12645"/>
                  <a:pt x="2232" y="12725"/>
                </a:cubicBezTo>
                <a:cubicBezTo>
                  <a:pt x="2228" y="12793"/>
                  <a:pt x="2248" y="12799"/>
                  <a:pt x="2307" y="12799"/>
                </a:cubicBezTo>
                <a:cubicBezTo>
                  <a:pt x="2403" y="12799"/>
                  <a:pt x="2453" y="12739"/>
                  <a:pt x="2530" y="12700"/>
                </a:cubicBezTo>
                <a:cubicBezTo>
                  <a:pt x="2555" y="12692"/>
                  <a:pt x="2579" y="12683"/>
                  <a:pt x="2604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46960" y="3946680"/>
            <a:ext cx="322200" cy="188640"/>
          </a:xfrm>
          <a:custGeom>
            <a:avLst/>
            <a:gdLst/>
            <a:ahLst/>
            <a:rect l="l" t="t" r="r" b="b"/>
            <a:pathLst>
              <a:path w="894" h="522">
                <a:moveTo>
                  <a:pt x="20687" y="11187"/>
                </a:moveTo>
                <a:cubicBezTo>
                  <a:pt x="20687" y="11206"/>
                  <a:pt x="20692" y="11203"/>
                  <a:pt x="20737" y="11187"/>
                </a:cubicBezTo>
                <a:cubicBezTo>
                  <a:pt x="20798" y="11165"/>
                  <a:pt x="20861" y="11084"/>
                  <a:pt x="20910" y="11038"/>
                </a:cubicBezTo>
                <a:cubicBezTo>
                  <a:pt x="20943" y="11007"/>
                  <a:pt x="20991" y="10969"/>
                  <a:pt x="21034" y="10964"/>
                </a:cubicBezTo>
                <a:cubicBezTo>
                  <a:pt x="21083" y="10959"/>
                  <a:pt x="21183" y="11105"/>
                  <a:pt x="21208" y="11137"/>
                </a:cubicBezTo>
                <a:cubicBezTo>
                  <a:pt x="21283" y="11234"/>
                  <a:pt x="21341" y="11357"/>
                  <a:pt x="21406" y="11460"/>
                </a:cubicBezTo>
              </a:path>
              <a:path w="894" h="522">
                <a:moveTo>
                  <a:pt x="20861" y="11336"/>
                </a:moveTo>
                <a:cubicBezTo>
                  <a:pt x="20820" y="11336"/>
                  <a:pt x="20894" y="11336"/>
                  <a:pt x="20935" y="11336"/>
                </a:cubicBezTo>
                <a:cubicBezTo>
                  <a:pt x="20982" y="11336"/>
                  <a:pt x="21045" y="11331"/>
                  <a:pt x="21084" y="11311"/>
                </a:cubicBezTo>
                <a:cubicBezTo>
                  <a:pt x="21149" y="11278"/>
                  <a:pt x="21124" y="11261"/>
                  <a:pt x="21208" y="11261"/>
                </a:cubicBezTo>
                <a:cubicBezTo>
                  <a:pt x="21249" y="11261"/>
                  <a:pt x="21294" y="11316"/>
                  <a:pt x="21332" y="11336"/>
                </a:cubicBezTo>
                <a:cubicBezTo>
                  <a:pt x="21403" y="11373"/>
                  <a:pt x="21457" y="11423"/>
                  <a:pt x="21530" y="11460"/>
                </a:cubicBezTo>
                <a:cubicBezTo>
                  <a:pt x="21547" y="11468"/>
                  <a:pt x="21563" y="11477"/>
                  <a:pt x="21580" y="114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80080" y="35449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825" y="9996"/>
                </a:moveTo>
                <a:cubicBezTo>
                  <a:pt x="15890" y="9985"/>
                  <a:pt x="15862" y="9971"/>
                  <a:pt x="15925" y="9971"/>
                </a:cubicBezTo>
                <a:cubicBezTo>
                  <a:pt x="15925" y="9931"/>
                  <a:pt x="15921" y="9868"/>
                  <a:pt x="15900" y="9847"/>
                </a:cubicBezTo>
                <a:cubicBezTo>
                  <a:pt x="15892" y="9847"/>
                  <a:pt x="15883" y="9847"/>
                  <a:pt x="15875" y="9847"/>
                </a:cubicBezTo>
                <a:cubicBezTo>
                  <a:pt x="15836" y="9866"/>
                  <a:pt x="15767" y="9855"/>
                  <a:pt x="15776" y="9897"/>
                </a:cubicBezTo>
                <a:cubicBezTo>
                  <a:pt x="15788" y="9955"/>
                  <a:pt x="15857" y="9910"/>
                  <a:pt x="15875" y="9897"/>
                </a:cubicBezTo>
                <a:cubicBezTo>
                  <a:pt x="15830" y="9897"/>
                  <a:pt x="15813" y="9884"/>
                  <a:pt x="15801" y="99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66000" y="5402160"/>
            <a:ext cx="52200" cy="63720"/>
          </a:xfrm>
          <a:custGeom>
            <a:avLst/>
            <a:gdLst/>
            <a:ahLst/>
            <a:rect l="l" t="t" r="r" b="b"/>
            <a:pathLst>
              <a:path w="149" h="174">
                <a:moveTo>
                  <a:pt x="19397" y="15156"/>
                </a:moveTo>
                <a:cubicBezTo>
                  <a:pt x="19397" y="15164"/>
                  <a:pt x="19397" y="15172"/>
                  <a:pt x="19397" y="15180"/>
                </a:cubicBezTo>
                <a:cubicBezTo>
                  <a:pt x="19414" y="15176"/>
                  <a:pt x="19486" y="15137"/>
                  <a:pt x="19447" y="15106"/>
                </a:cubicBezTo>
                <a:cubicBezTo>
                  <a:pt x="19415" y="15080"/>
                  <a:pt x="19354" y="15112"/>
                  <a:pt x="19348" y="15131"/>
                </a:cubicBezTo>
                <a:cubicBezTo>
                  <a:pt x="19368" y="15138"/>
                  <a:pt x="19386" y="15176"/>
                  <a:pt x="19422" y="15156"/>
                </a:cubicBezTo>
                <a:cubicBezTo>
                  <a:pt x="19467" y="15131"/>
                  <a:pt x="19466" y="15122"/>
                  <a:pt x="19496" y="15081"/>
                </a:cubicBezTo>
                <a:cubicBezTo>
                  <a:pt x="19488" y="15057"/>
                  <a:pt x="19439" y="15016"/>
                  <a:pt x="19397" y="15032"/>
                </a:cubicBezTo>
                <a:cubicBezTo>
                  <a:pt x="19352" y="15049"/>
                  <a:pt x="19348" y="15061"/>
                  <a:pt x="19348" y="15106"/>
                </a:cubicBezTo>
                <a:cubicBezTo>
                  <a:pt x="19389" y="15106"/>
                  <a:pt x="19427" y="15100"/>
                  <a:pt x="19447" y="15056"/>
                </a:cubicBezTo>
                <a:cubicBezTo>
                  <a:pt x="19463" y="15022"/>
                  <a:pt x="19460" y="15044"/>
                  <a:pt x="19472" y="15007"/>
                </a:cubicBezTo>
                <a:cubicBezTo>
                  <a:pt x="19431" y="15007"/>
                  <a:pt x="19389" y="15007"/>
                  <a:pt x="19348" y="1500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4720" y="3537000"/>
            <a:ext cx="6564240" cy="1731960"/>
          </a:xfrm>
          <a:custGeom>
            <a:avLst/>
            <a:gdLst/>
            <a:ahLst/>
            <a:rect l="l" t="t" r="r" b="b"/>
            <a:pathLst>
              <a:path w="18233" h="4813">
                <a:moveTo>
                  <a:pt x="2902" y="12005"/>
                </a:moveTo>
                <a:cubicBezTo>
                  <a:pt x="2932" y="11979"/>
                  <a:pt x="2962" y="11944"/>
                  <a:pt x="2977" y="11931"/>
                </a:cubicBezTo>
                <a:cubicBezTo>
                  <a:pt x="3011" y="11902"/>
                  <a:pt x="3039" y="11890"/>
                  <a:pt x="3076" y="11857"/>
                </a:cubicBezTo>
                <a:cubicBezTo>
                  <a:pt x="3109" y="11827"/>
                  <a:pt x="3139" y="11815"/>
                  <a:pt x="3175" y="11782"/>
                </a:cubicBezTo>
                <a:cubicBezTo>
                  <a:pt x="3255" y="11708"/>
                  <a:pt x="3332" y="11620"/>
                  <a:pt x="3398" y="11559"/>
                </a:cubicBezTo>
                <a:cubicBezTo>
                  <a:pt x="3558" y="11411"/>
                  <a:pt x="3741" y="11265"/>
                  <a:pt x="3894" y="11137"/>
                </a:cubicBezTo>
                <a:cubicBezTo>
                  <a:pt x="4030" y="11023"/>
                  <a:pt x="4168" y="10912"/>
                  <a:pt x="4316" y="10815"/>
                </a:cubicBezTo>
                <a:cubicBezTo>
                  <a:pt x="4404" y="10757"/>
                  <a:pt x="4490" y="10684"/>
                  <a:pt x="4564" y="10641"/>
                </a:cubicBezTo>
                <a:cubicBezTo>
                  <a:pt x="4632" y="10601"/>
                  <a:pt x="4725" y="10536"/>
                  <a:pt x="4812" y="10492"/>
                </a:cubicBezTo>
                <a:cubicBezTo>
                  <a:pt x="4858" y="10469"/>
                  <a:pt x="4908" y="10448"/>
                  <a:pt x="4961" y="10418"/>
                </a:cubicBezTo>
                <a:cubicBezTo>
                  <a:pt x="5005" y="10394"/>
                  <a:pt x="5089" y="10371"/>
                  <a:pt x="5135" y="10344"/>
                </a:cubicBezTo>
                <a:cubicBezTo>
                  <a:pt x="5180" y="10317"/>
                  <a:pt x="5229" y="10250"/>
                  <a:pt x="5283" y="10220"/>
                </a:cubicBezTo>
                <a:cubicBezTo>
                  <a:pt x="5339" y="10189"/>
                  <a:pt x="5397" y="10150"/>
                  <a:pt x="5457" y="10120"/>
                </a:cubicBezTo>
                <a:cubicBezTo>
                  <a:pt x="5514" y="10092"/>
                  <a:pt x="5593" y="10066"/>
                  <a:pt x="5655" y="10046"/>
                </a:cubicBezTo>
                <a:cubicBezTo>
                  <a:pt x="5717" y="10025"/>
                  <a:pt x="5769" y="9991"/>
                  <a:pt x="5829" y="9971"/>
                </a:cubicBezTo>
                <a:cubicBezTo>
                  <a:pt x="5905" y="9946"/>
                  <a:pt x="6006" y="9940"/>
                  <a:pt x="6077" y="9922"/>
                </a:cubicBezTo>
                <a:cubicBezTo>
                  <a:pt x="6169" y="9899"/>
                  <a:pt x="6325" y="9854"/>
                  <a:pt x="6400" y="9847"/>
                </a:cubicBezTo>
                <a:cubicBezTo>
                  <a:pt x="6502" y="9837"/>
                  <a:pt x="6596" y="9828"/>
                  <a:pt x="6697" y="9823"/>
                </a:cubicBezTo>
                <a:cubicBezTo>
                  <a:pt x="6861" y="9814"/>
                  <a:pt x="7044" y="9872"/>
                  <a:pt x="7193" y="9897"/>
                </a:cubicBezTo>
                <a:cubicBezTo>
                  <a:pt x="7297" y="9914"/>
                  <a:pt x="7392" y="9898"/>
                  <a:pt x="7491" y="9922"/>
                </a:cubicBezTo>
                <a:cubicBezTo>
                  <a:pt x="7558" y="9938"/>
                  <a:pt x="7664" y="9972"/>
                  <a:pt x="7739" y="9996"/>
                </a:cubicBezTo>
                <a:cubicBezTo>
                  <a:pt x="7803" y="10017"/>
                  <a:pt x="7818" y="10027"/>
                  <a:pt x="7888" y="10046"/>
                </a:cubicBezTo>
                <a:cubicBezTo>
                  <a:pt x="7942" y="10061"/>
                  <a:pt x="8004" y="10111"/>
                  <a:pt x="8037" y="10120"/>
                </a:cubicBezTo>
                <a:cubicBezTo>
                  <a:pt x="8102" y="10138"/>
                  <a:pt x="8169" y="10122"/>
                  <a:pt x="8235" y="10145"/>
                </a:cubicBezTo>
                <a:cubicBezTo>
                  <a:pt x="8303" y="10169"/>
                  <a:pt x="8389" y="10193"/>
                  <a:pt x="8458" y="10220"/>
                </a:cubicBezTo>
                <a:cubicBezTo>
                  <a:pt x="8506" y="10239"/>
                  <a:pt x="8591" y="10267"/>
                  <a:pt x="8657" y="10294"/>
                </a:cubicBezTo>
                <a:cubicBezTo>
                  <a:pt x="8701" y="10312"/>
                  <a:pt x="8785" y="10347"/>
                  <a:pt x="8830" y="10368"/>
                </a:cubicBezTo>
                <a:cubicBezTo>
                  <a:pt x="8902" y="10402"/>
                  <a:pt x="8963" y="10461"/>
                  <a:pt x="9029" y="10492"/>
                </a:cubicBezTo>
                <a:cubicBezTo>
                  <a:pt x="9137" y="10543"/>
                  <a:pt x="9272" y="10585"/>
                  <a:pt x="9376" y="10641"/>
                </a:cubicBezTo>
                <a:cubicBezTo>
                  <a:pt x="9435" y="10672"/>
                  <a:pt x="9485" y="10708"/>
                  <a:pt x="9550" y="10740"/>
                </a:cubicBezTo>
                <a:cubicBezTo>
                  <a:pt x="9649" y="10790"/>
                  <a:pt x="9758" y="10841"/>
                  <a:pt x="9847" y="10889"/>
                </a:cubicBezTo>
                <a:cubicBezTo>
                  <a:pt x="9925" y="10931"/>
                  <a:pt x="9974" y="10974"/>
                  <a:pt x="10046" y="11013"/>
                </a:cubicBezTo>
                <a:cubicBezTo>
                  <a:pt x="10297" y="11149"/>
                  <a:pt x="10546" y="11261"/>
                  <a:pt x="10790" y="11385"/>
                </a:cubicBezTo>
                <a:cubicBezTo>
                  <a:pt x="10833" y="11407"/>
                  <a:pt x="10890" y="11435"/>
                  <a:pt x="10939" y="11460"/>
                </a:cubicBezTo>
                <a:cubicBezTo>
                  <a:pt x="10972" y="11477"/>
                  <a:pt x="11004" y="11490"/>
                  <a:pt x="11038" y="11509"/>
                </a:cubicBezTo>
                <a:cubicBezTo>
                  <a:pt x="11089" y="11537"/>
                  <a:pt x="11135" y="11577"/>
                  <a:pt x="11187" y="11609"/>
                </a:cubicBezTo>
                <a:cubicBezTo>
                  <a:pt x="11243" y="11644"/>
                  <a:pt x="11304" y="11671"/>
                  <a:pt x="11361" y="11708"/>
                </a:cubicBezTo>
                <a:cubicBezTo>
                  <a:pt x="11576" y="11847"/>
                  <a:pt x="11800" y="11971"/>
                  <a:pt x="12005" y="12105"/>
                </a:cubicBezTo>
                <a:cubicBezTo>
                  <a:pt x="12037" y="12126"/>
                  <a:pt x="12076" y="12135"/>
                  <a:pt x="12105" y="12154"/>
                </a:cubicBezTo>
                <a:cubicBezTo>
                  <a:pt x="12135" y="12173"/>
                  <a:pt x="12178" y="12186"/>
                  <a:pt x="12204" y="12204"/>
                </a:cubicBezTo>
                <a:cubicBezTo>
                  <a:pt x="12285" y="12261"/>
                  <a:pt x="12320" y="12324"/>
                  <a:pt x="12402" y="12378"/>
                </a:cubicBezTo>
                <a:cubicBezTo>
                  <a:pt x="12474" y="12426"/>
                  <a:pt x="12566" y="12484"/>
                  <a:pt x="12626" y="12526"/>
                </a:cubicBezTo>
                <a:cubicBezTo>
                  <a:pt x="12732" y="12600"/>
                  <a:pt x="12839" y="12677"/>
                  <a:pt x="12948" y="12750"/>
                </a:cubicBezTo>
                <a:cubicBezTo>
                  <a:pt x="13111" y="12860"/>
                  <a:pt x="13277" y="12968"/>
                  <a:pt x="13444" y="13072"/>
                </a:cubicBezTo>
                <a:cubicBezTo>
                  <a:pt x="13654" y="13203"/>
                  <a:pt x="13877" y="13316"/>
                  <a:pt x="14089" y="13444"/>
                </a:cubicBezTo>
                <a:cubicBezTo>
                  <a:pt x="14157" y="13485"/>
                  <a:pt x="14222" y="13529"/>
                  <a:pt x="14288" y="13568"/>
                </a:cubicBezTo>
                <a:cubicBezTo>
                  <a:pt x="14361" y="13611"/>
                  <a:pt x="14438" y="13644"/>
                  <a:pt x="14511" y="13692"/>
                </a:cubicBezTo>
                <a:cubicBezTo>
                  <a:pt x="14749" y="13847"/>
                  <a:pt x="14983" y="14008"/>
                  <a:pt x="15230" y="14139"/>
                </a:cubicBezTo>
                <a:cubicBezTo>
                  <a:pt x="15357" y="14206"/>
                  <a:pt x="15478" y="14258"/>
                  <a:pt x="15602" y="14312"/>
                </a:cubicBezTo>
                <a:cubicBezTo>
                  <a:pt x="15659" y="14337"/>
                  <a:pt x="15717" y="14366"/>
                  <a:pt x="15776" y="14387"/>
                </a:cubicBezTo>
                <a:cubicBezTo>
                  <a:pt x="15838" y="14409"/>
                  <a:pt x="15906" y="14437"/>
                  <a:pt x="15974" y="14461"/>
                </a:cubicBezTo>
                <a:cubicBezTo>
                  <a:pt x="16028" y="14480"/>
                  <a:pt x="16091" y="14492"/>
                  <a:pt x="16148" y="14511"/>
                </a:cubicBezTo>
                <a:cubicBezTo>
                  <a:pt x="16277" y="14554"/>
                  <a:pt x="16419" y="14623"/>
                  <a:pt x="16545" y="14635"/>
                </a:cubicBezTo>
                <a:cubicBezTo>
                  <a:pt x="16780" y="14657"/>
                  <a:pt x="17001" y="14599"/>
                  <a:pt x="17214" y="14560"/>
                </a:cubicBezTo>
                <a:cubicBezTo>
                  <a:pt x="17306" y="14543"/>
                  <a:pt x="17394" y="14538"/>
                  <a:pt x="17487" y="14511"/>
                </a:cubicBezTo>
                <a:cubicBezTo>
                  <a:pt x="17538" y="14497"/>
                  <a:pt x="17591" y="14475"/>
                  <a:pt x="17636" y="14461"/>
                </a:cubicBezTo>
                <a:cubicBezTo>
                  <a:pt x="17679" y="14448"/>
                  <a:pt x="17720" y="14449"/>
                  <a:pt x="17760" y="14436"/>
                </a:cubicBezTo>
                <a:cubicBezTo>
                  <a:pt x="17841" y="14409"/>
                  <a:pt x="17926" y="14369"/>
                  <a:pt x="18008" y="14337"/>
                </a:cubicBezTo>
                <a:cubicBezTo>
                  <a:pt x="18067" y="14313"/>
                  <a:pt x="18129" y="14287"/>
                  <a:pt x="18182" y="14263"/>
                </a:cubicBezTo>
                <a:cubicBezTo>
                  <a:pt x="18251" y="14231"/>
                  <a:pt x="18314" y="14196"/>
                  <a:pt x="18380" y="14163"/>
                </a:cubicBezTo>
                <a:cubicBezTo>
                  <a:pt x="18486" y="14110"/>
                  <a:pt x="18603" y="14057"/>
                  <a:pt x="18703" y="13990"/>
                </a:cubicBezTo>
                <a:cubicBezTo>
                  <a:pt x="18804" y="13922"/>
                  <a:pt x="18884" y="13839"/>
                  <a:pt x="18976" y="13767"/>
                </a:cubicBezTo>
                <a:cubicBezTo>
                  <a:pt x="19108" y="13663"/>
                  <a:pt x="19254" y="13551"/>
                  <a:pt x="19372" y="13444"/>
                </a:cubicBezTo>
                <a:cubicBezTo>
                  <a:pt x="19454" y="13369"/>
                  <a:pt x="19540" y="13271"/>
                  <a:pt x="19621" y="13196"/>
                </a:cubicBezTo>
                <a:cubicBezTo>
                  <a:pt x="19719" y="13105"/>
                  <a:pt x="19829" y="13019"/>
                  <a:pt x="19918" y="12923"/>
                </a:cubicBezTo>
                <a:cubicBezTo>
                  <a:pt x="19957" y="12881"/>
                  <a:pt x="20009" y="12815"/>
                  <a:pt x="20042" y="12774"/>
                </a:cubicBezTo>
                <a:cubicBezTo>
                  <a:pt x="20094" y="12710"/>
                  <a:pt x="20141" y="12641"/>
                  <a:pt x="20191" y="12576"/>
                </a:cubicBezTo>
                <a:cubicBezTo>
                  <a:pt x="20315" y="12413"/>
                  <a:pt x="20441" y="12246"/>
                  <a:pt x="20563" y="12080"/>
                </a:cubicBezTo>
                <a:cubicBezTo>
                  <a:pt x="20661" y="11946"/>
                  <a:pt x="20762" y="11805"/>
                  <a:pt x="20861" y="11683"/>
                </a:cubicBezTo>
                <a:cubicBezTo>
                  <a:pt x="20934" y="11592"/>
                  <a:pt x="21008" y="11499"/>
                  <a:pt x="21084" y="11410"/>
                </a:cubicBezTo>
                <a:cubicBezTo>
                  <a:pt x="21109" y="11385"/>
                  <a:pt x="21117" y="11377"/>
                  <a:pt x="21134" y="113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etch the graph of each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)=2cos 2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(x)=-cos 4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3321000" y="1643040"/>
            <a:ext cx="911160" cy="384120"/>
          </a:xfrm>
          <a:custGeom>
            <a:avLst/>
            <a:gdLst/>
            <a:ahLst/>
            <a:rect l="l" t="t" r="r" b="b"/>
            <a:pathLst>
              <a:path w="2531" h="1068">
                <a:moveTo>
                  <a:pt x="9748" y="5110"/>
                </a:moveTo>
                <a:cubicBezTo>
                  <a:pt x="9748" y="5028"/>
                  <a:pt x="9762" y="4937"/>
                  <a:pt x="9723" y="4862"/>
                </a:cubicBezTo>
                <a:cubicBezTo>
                  <a:pt x="9707" y="4832"/>
                  <a:pt x="9651" y="4796"/>
                  <a:pt x="9624" y="4787"/>
                </a:cubicBezTo>
                <a:cubicBezTo>
                  <a:pt x="9579" y="4772"/>
                  <a:pt x="9534" y="4794"/>
                  <a:pt x="9500" y="4812"/>
                </a:cubicBezTo>
                <a:cubicBezTo>
                  <a:pt x="9447" y="4841"/>
                  <a:pt x="9386" y="4885"/>
                  <a:pt x="9351" y="4936"/>
                </a:cubicBezTo>
                <a:cubicBezTo>
                  <a:pt x="9295" y="5015"/>
                  <a:pt x="9275" y="5067"/>
                  <a:pt x="9252" y="5159"/>
                </a:cubicBezTo>
                <a:cubicBezTo>
                  <a:pt x="9234" y="5231"/>
                  <a:pt x="9206" y="5330"/>
                  <a:pt x="9227" y="5407"/>
                </a:cubicBezTo>
                <a:cubicBezTo>
                  <a:pt x="9244" y="5467"/>
                  <a:pt x="9258" y="5538"/>
                  <a:pt x="9327" y="5556"/>
                </a:cubicBezTo>
                <a:cubicBezTo>
                  <a:pt x="9377" y="5569"/>
                  <a:pt x="9482" y="5559"/>
                  <a:pt x="9525" y="5531"/>
                </a:cubicBezTo>
                <a:cubicBezTo>
                  <a:pt x="9586" y="5491"/>
                  <a:pt x="9647" y="5435"/>
                  <a:pt x="9699" y="5383"/>
                </a:cubicBezTo>
                <a:cubicBezTo>
                  <a:pt x="9770" y="5312"/>
                  <a:pt x="9762" y="5256"/>
                  <a:pt x="9798" y="5184"/>
                </a:cubicBezTo>
                <a:cubicBezTo>
                  <a:pt x="9811" y="5158"/>
                  <a:pt x="9859" y="5120"/>
                  <a:pt x="9798" y="5159"/>
                </a:cubicBezTo>
                <a:cubicBezTo>
                  <a:pt x="9798" y="5234"/>
                  <a:pt x="9811" y="5297"/>
                  <a:pt x="9823" y="5358"/>
                </a:cubicBezTo>
                <a:cubicBezTo>
                  <a:pt x="9837" y="5427"/>
                  <a:pt x="9825" y="5445"/>
                  <a:pt x="9872" y="5507"/>
                </a:cubicBezTo>
                <a:cubicBezTo>
                  <a:pt x="9884" y="5523"/>
                  <a:pt x="9952" y="5565"/>
                  <a:pt x="9971" y="5556"/>
                </a:cubicBezTo>
                <a:cubicBezTo>
                  <a:pt x="9979" y="5548"/>
                  <a:pt x="9988" y="5539"/>
                  <a:pt x="9996" y="5531"/>
                </a:cubicBezTo>
              </a:path>
              <a:path w="2531" h="1068">
                <a:moveTo>
                  <a:pt x="10220" y="4986"/>
                </a:moveTo>
                <a:cubicBezTo>
                  <a:pt x="10360" y="4986"/>
                  <a:pt x="10732" y="4986"/>
                  <a:pt x="10592" y="4986"/>
                </a:cubicBezTo>
              </a:path>
              <a:path w="2531" h="1068">
                <a:moveTo>
                  <a:pt x="10244" y="5234"/>
                </a:moveTo>
                <a:cubicBezTo>
                  <a:pt x="10294" y="5264"/>
                  <a:pt x="10331" y="5259"/>
                  <a:pt x="10393" y="5259"/>
                </a:cubicBezTo>
                <a:cubicBezTo>
                  <a:pt x="10455" y="5259"/>
                  <a:pt x="10486" y="5273"/>
                  <a:pt x="10542" y="5283"/>
                </a:cubicBezTo>
                <a:cubicBezTo>
                  <a:pt x="10571" y="5288"/>
                  <a:pt x="10611" y="5283"/>
                  <a:pt x="10641" y="5283"/>
                </a:cubicBezTo>
              </a:path>
              <a:path w="2531" h="1068">
                <a:moveTo>
                  <a:pt x="11187" y="4762"/>
                </a:moveTo>
                <a:cubicBezTo>
                  <a:pt x="11227" y="4664"/>
                  <a:pt x="11233" y="4672"/>
                  <a:pt x="11311" y="4614"/>
                </a:cubicBezTo>
                <a:cubicBezTo>
                  <a:pt x="11362" y="4576"/>
                  <a:pt x="11442" y="4568"/>
                  <a:pt x="11509" y="4564"/>
                </a:cubicBezTo>
                <a:cubicBezTo>
                  <a:pt x="11565" y="4561"/>
                  <a:pt x="11615" y="4555"/>
                  <a:pt x="11658" y="4589"/>
                </a:cubicBezTo>
                <a:cubicBezTo>
                  <a:pt x="11688" y="4613"/>
                  <a:pt x="11739" y="4622"/>
                  <a:pt x="11757" y="4663"/>
                </a:cubicBezTo>
                <a:cubicBezTo>
                  <a:pt x="11776" y="4706"/>
                  <a:pt x="11742" y="4755"/>
                  <a:pt x="11733" y="4787"/>
                </a:cubicBezTo>
                <a:cubicBezTo>
                  <a:pt x="11711" y="4865"/>
                  <a:pt x="11679" y="4871"/>
                  <a:pt x="11633" y="4936"/>
                </a:cubicBezTo>
                <a:cubicBezTo>
                  <a:pt x="11589" y="4998"/>
                  <a:pt x="11551" y="5072"/>
                  <a:pt x="11509" y="5135"/>
                </a:cubicBezTo>
                <a:cubicBezTo>
                  <a:pt x="11458" y="5212"/>
                  <a:pt x="11418" y="5310"/>
                  <a:pt x="11361" y="5383"/>
                </a:cubicBezTo>
                <a:cubicBezTo>
                  <a:pt x="11316" y="5441"/>
                  <a:pt x="11261" y="5502"/>
                  <a:pt x="11212" y="5556"/>
                </a:cubicBezTo>
                <a:cubicBezTo>
                  <a:pt x="11183" y="5588"/>
                  <a:pt x="11187" y="5590"/>
                  <a:pt x="11187" y="5631"/>
                </a:cubicBezTo>
                <a:cubicBezTo>
                  <a:pt x="11237" y="5619"/>
                  <a:pt x="11252" y="5611"/>
                  <a:pt x="11311" y="5606"/>
                </a:cubicBezTo>
                <a:cubicBezTo>
                  <a:pt x="11366" y="5602"/>
                  <a:pt x="11401" y="5581"/>
                  <a:pt x="11460" y="5581"/>
                </a:cubicBezTo>
                <a:cubicBezTo>
                  <a:pt x="11538" y="5581"/>
                  <a:pt x="11593" y="5586"/>
                  <a:pt x="11658" y="5606"/>
                </a:cubicBezTo>
                <a:cubicBezTo>
                  <a:pt x="11697" y="5618"/>
                  <a:pt x="11699" y="5607"/>
                  <a:pt x="11708" y="558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05200" y="1633680"/>
            <a:ext cx="1063800" cy="554040"/>
          </a:xfrm>
          <a:custGeom>
            <a:avLst/>
            <a:gdLst/>
            <a:ahLst/>
            <a:rect l="l" t="t" r="r" b="b"/>
            <a:pathLst>
              <a:path w="2953" h="1539">
                <a:moveTo>
                  <a:pt x="13295" y="5135"/>
                </a:moveTo>
                <a:cubicBezTo>
                  <a:pt x="13261" y="5250"/>
                  <a:pt x="13271" y="5329"/>
                  <a:pt x="13271" y="5457"/>
                </a:cubicBezTo>
                <a:cubicBezTo>
                  <a:pt x="13271" y="5626"/>
                  <a:pt x="13273" y="5792"/>
                  <a:pt x="13246" y="5953"/>
                </a:cubicBezTo>
                <a:cubicBezTo>
                  <a:pt x="13245" y="5956"/>
                  <a:pt x="13235" y="6090"/>
                  <a:pt x="13271" y="6077"/>
                </a:cubicBezTo>
                <a:cubicBezTo>
                  <a:pt x="13271" y="6069"/>
                  <a:pt x="13271" y="6060"/>
                  <a:pt x="13271" y="6052"/>
                </a:cubicBezTo>
              </a:path>
              <a:path w="2953" h="1539">
                <a:moveTo>
                  <a:pt x="13072" y="5011"/>
                </a:moveTo>
                <a:cubicBezTo>
                  <a:pt x="13211" y="4919"/>
                  <a:pt x="13297" y="4830"/>
                  <a:pt x="13469" y="4862"/>
                </a:cubicBezTo>
                <a:cubicBezTo>
                  <a:pt x="13569" y="4881"/>
                  <a:pt x="13607" y="4889"/>
                  <a:pt x="13667" y="4961"/>
                </a:cubicBezTo>
                <a:cubicBezTo>
                  <a:pt x="13697" y="4998"/>
                  <a:pt x="13760" y="5057"/>
                  <a:pt x="13742" y="5110"/>
                </a:cubicBezTo>
                <a:cubicBezTo>
                  <a:pt x="13726" y="5159"/>
                  <a:pt x="13687" y="5224"/>
                  <a:pt x="13643" y="5259"/>
                </a:cubicBezTo>
                <a:cubicBezTo>
                  <a:pt x="13587" y="5303"/>
                  <a:pt x="13506" y="5349"/>
                  <a:pt x="13444" y="5383"/>
                </a:cubicBezTo>
                <a:cubicBezTo>
                  <a:pt x="13383" y="5417"/>
                  <a:pt x="13335" y="5448"/>
                  <a:pt x="13271" y="5457"/>
                </a:cubicBezTo>
                <a:cubicBezTo>
                  <a:pt x="13304" y="5448"/>
                  <a:pt x="13365" y="5422"/>
                  <a:pt x="13395" y="5407"/>
                </a:cubicBezTo>
                <a:cubicBezTo>
                  <a:pt x="13427" y="5391"/>
                  <a:pt x="13461" y="5352"/>
                  <a:pt x="13494" y="5333"/>
                </a:cubicBezTo>
              </a:path>
              <a:path w="2953" h="1539">
                <a:moveTo>
                  <a:pt x="14064" y="5085"/>
                </a:moveTo>
                <a:cubicBezTo>
                  <a:pt x="14132" y="5085"/>
                  <a:pt x="14543" y="5045"/>
                  <a:pt x="14560" y="5110"/>
                </a:cubicBezTo>
                <a:cubicBezTo>
                  <a:pt x="14552" y="5118"/>
                  <a:pt x="14544" y="5127"/>
                  <a:pt x="14536" y="5135"/>
                </a:cubicBezTo>
              </a:path>
              <a:path w="2953" h="1539">
                <a:moveTo>
                  <a:pt x="14064" y="5283"/>
                </a:moveTo>
                <a:cubicBezTo>
                  <a:pt x="14064" y="5291"/>
                  <a:pt x="14064" y="5300"/>
                  <a:pt x="14064" y="5308"/>
                </a:cubicBezTo>
                <a:cubicBezTo>
                  <a:pt x="14153" y="5308"/>
                  <a:pt x="14229" y="5319"/>
                  <a:pt x="14312" y="5333"/>
                </a:cubicBezTo>
                <a:cubicBezTo>
                  <a:pt x="14370" y="5343"/>
                  <a:pt x="14388" y="5342"/>
                  <a:pt x="14436" y="5358"/>
                </a:cubicBezTo>
                <a:cubicBezTo>
                  <a:pt x="14444" y="5358"/>
                  <a:pt x="14453" y="5358"/>
                  <a:pt x="14461" y="5358"/>
                </a:cubicBezTo>
              </a:path>
              <a:path w="2953" h="1539">
                <a:moveTo>
                  <a:pt x="14957" y="4688"/>
                </a:moveTo>
                <a:cubicBezTo>
                  <a:pt x="15034" y="4644"/>
                  <a:pt x="15062" y="4618"/>
                  <a:pt x="15156" y="4614"/>
                </a:cubicBezTo>
                <a:cubicBezTo>
                  <a:pt x="15249" y="4610"/>
                  <a:pt x="15333" y="4589"/>
                  <a:pt x="15429" y="4589"/>
                </a:cubicBezTo>
                <a:cubicBezTo>
                  <a:pt x="15602" y="4589"/>
                  <a:pt x="15776" y="4589"/>
                  <a:pt x="15949" y="4589"/>
                </a:cubicBezTo>
                <a:cubicBezTo>
                  <a:pt x="15931" y="4533"/>
                  <a:pt x="15868" y="4554"/>
                  <a:pt x="15776" y="4539"/>
                </a:cubicBezTo>
              </a:path>
              <a:path w="2953" h="1539">
                <a:moveTo>
                  <a:pt x="15230" y="4688"/>
                </a:moveTo>
                <a:cubicBezTo>
                  <a:pt x="15198" y="4794"/>
                  <a:pt x="15145" y="4927"/>
                  <a:pt x="15131" y="5035"/>
                </a:cubicBezTo>
                <a:cubicBezTo>
                  <a:pt x="15121" y="5113"/>
                  <a:pt x="15126" y="5208"/>
                  <a:pt x="15106" y="5283"/>
                </a:cubicBezTo>
                <a:cubicBezTo>
                  <a:pt x="15095" y="5325"/>
                  <a:pt x="15073" y="5422"/>
                  <a:pt x="15056" y="5457"/>
                </a:cubicBezTo>
                <a:cubicBezTo>
                  <a:pt x="15038" y="5495"/>
                  <a:pt x="15032" y="5486"/>
                  <a:pt x="15032" y="5531"/>
                </a:cubicBezTo>
                <a:cubicBezTo>
                  <a:pt x="15087" y="5517"/>
                  <a:pt x="15103" y="5483"/>
                  <a:pt x="15131" y="5432"/>
                </a:cubicBezTo>
                <a:cubicBezTo>
                  <a:pt x="15139" y="5416"/>
                  <a:pt x="15148" y="5399"/>
                  <a:pt x="15156" y="5383"/>
                </a:cubicBezTo>
              </a:path>
              <a:path w="2953" h="1539">
                <a:moveTo>
                  <a:pt x="15652" y="4614"/>
                </a:moveTo>
                <a:cubicBezTo>
                  <a:pt x="15652" y="4705"/>
                  <a:pt x="15662" y="4857"/>
                  <a:pt x="15652" y="4936"/>
                </a:cubicBezTo>
                <a:cubicBezTo>
                  <a:pt x="15642" y="5016"/>
                  <a:pt x="15634" y="5097"/>
                  <a:pt x="15652" y="5184"/>
                </a:cubicBezTo>
                <a:cubicBezTo>
                  <a:pt x="15671" y="5273"/>
                  <a:pt x="15716" y="5343"/>
                  <a:pt x="15776" y="5407"/>
                </a:cubicBezTo>
                <a:cubicBezTo>
                  <a:pt x="15824" y="5458"/>
                  <a:pt x="15864" y="5499"/>
                  <a:pt x="15925" y="5531"/>
                </a:cubicBezTo>
                <a:cubicBezTo>
                  <a:pt x="15982" y="5561"/>
                  <a:pt x="16028" y="5537"/>
                  <a:pt x="15999" y="558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2276640"/>
            <a:ext cx="268200" cy="482400"/>
          </a:xfrm>
          <a:custGeom>
            <a:avLst/>
            <a:gdLst/>
            <a:ahLst/>
            <a:rect l="l" t="t" r="r" b="b"/>
            <a:pathLst>
              <a:path w="745" h="1341">
                <a:moveTo>
                  <a:pt x="769" y="6970"/>
                </a:moveTo>
                <a:cubicBezTo>
                  <a:pt x="779" y="7032"/>
                  <a:pt x="794" y="7042"/>
                  <a:pt x="868" y="7045"/>
                </a:cubicBezTo>
                <a:cubicBezTo>
                  <a:pt x="893" y="7045"/>
                  <a:pt x="918" y="7045"/>
                  <a:pt x="943" y="7045"/>
                </a:cubicBezTo>
              </a:path>
              <a:path w="745" h="1341">
                <a:moveTo>
                  <a:pt x="794" y="6449"/>
                </a:moveTo>
                <a:cubicBezTo>
                  <a:pt x="952" y="6397"/>
                  <a:pt x="1063" y="6384"/>
                  <a:pt x="1215" y="6350"/>
                </a:cubicBezTo>
                <a:cubicBezTo>
                  <a:pt x="1309" y="6329"/>
                  <a:pt x="1303" y="6318"/>
                  <a:pt x="1389" y="6350"/>
                </a:cubicBezTo>
                <a:cubicBezTo>
                  <a:pt x="1317" y="6398"/>
                  <a:pt x="1225" y="6424"/>
                  <a:pt x="1141" y="6449"/>
                </a:cubicBezTo>
                <a:cubicBezTo>
                  <a:pt x="1041" y="6479"/>
                  <a:pt x="935" y="6486"/>
                  <a:pt x="843" y="6524"/>
                </a:cubicBezTo>
                <a:cubicBezTo>
                  <a:pt x="800" y="6545"/>
                  <a:pt x="779" y="6558"/>
                  <a:pt x="819" y="6524"/>
                </a:cubicBezTo>
                <a:cubicBezTo>
                  <a:pt x="936" y="6516"/>
                  <a:pt x="1048" y="6499"/>
                  <a:pt x="1166" y="6499"/>
                </a:cubicBezTo>
                <a:cubicBezTo>
                  <a:pt x="1191" y="6499"/>
                  <a:pt x="1215" y="6499"/>
                  <a:pt x="1240" y="6499"/>
                </a:cubicBezTo>
                <a:cubicBezTo>
                  <a:pt x="1220" y="6515"/>
                  <a:pt x="1167" y="6566"/>
                  <a:pt x="1116" y="6573"/>
                </a:cubicBezTo>
                <a:cubicBezTo>
                  <a:pt x="1017" y="6587"/>
                  <a:pt x="935" y="6597"/>
                  <a:pt x="843" y="6648"/>
                </a:cubicBezTo>
                <a:cubicBezTo>
                  <a:pt x="819" y="6672"/>
                  <a:pt x="810" y="6681"/>
                  <a:pt x="794" y="6697"/>
                </a:cubicBezTo>
                <a:cubicBezTo>
                  <a:pt x="923" y="6697"/>
                  <a:pt x="1039" y="6687"/>
                  <a:pt x="1166" y="6672"/>
                </a:cubicBezTo>
                <a:cubicBezTo>
                  <a:pt x="1222" y="6665"/>
                  <a:pt x="1281" y="6692"/>
                  <a:pt x="1339" y="6697"/>
                </a:cubicBezTo>
                <a:cubicBezTo>
                  <a:pt x="1307" y="6711"/>
                  <a:pt x="1205" y="6754"/>
                  <a:pt x="1141" y="6772"/>
                </a:cubicBezTo>
                <a:cubicBezTo>
                  <a:pt x="1008" y="6809"/>
                  <a:pt x="897" y="6804"/>
                  <a:pt x="769" y="6871"/>
                </a:cubicBezTo>
                <a:cubicBezTo>
                  <a:pt x="744" y="6871"/>
                  <a:pt x="736" y="6871"/>
                  <a:pt x="744" y="6896"/>
                </a:cubicBezTo>
                <a:cubicBezTo>
                  <a:pt x="832" y="6896"/>
                  <a:pt x="905" y="6881"/>
                  <a:pt x="992" y="6871"/>
                </a:cubicBezTo>
                <a:cubicBezTo>
                  <a:pt x="1084" y="6860"/>
                  <a:pt x="1158" y="6882"/>
                  <a:pt x="1240" y="6896"/>
                </a:cubicBezTo>
                <a:cubicBezTo>
                  <a:pt x="1282" y="6896"/>
                  <a:pt x="1290" y="6896"/>
                  <a:pt x="1315" y="6896"/>
                </a:cubicBezTo>
                <a:cubicBezTo>
                  <a:pt x="1275" y="6928"/>
                  <a:pt x="1237" y="6925"/>
                  <a:pt x="1166" y="6945"/>
                </a:cubicBezTo>
                <a:cubicBezTo>
                  <a:pt x="1069" y="6973"/>
                  <a:pt x="963" y="7007"/>
                  <a:pt x="868" y="7045"/>
                </a:cubicBezTo>
                <a:cubicBezTo>
                  <a:pt x="819" y="7065"/>
                  <a:pt x="786" y="7069"/>
                  <a:pt x="744" y="7094"/>
                </a:cubicBezTo>
                <a:cubicBezTo>
                  <a:pt x="804" y="7145"/>
                  <a:pt x="748" y="7141"/>
                  <a:pt x="868" y="7144"/>
                </a:cubicBezTo>
                <a:cubicBezTo>
                  <a:pt x="1019" y="7148"/>
                  <a:pt x="1178" y="7137"/>
                  <a:pt x="1315" y="7169"/>
                </a:cubicBezTo>
                <a:cubicBezTo>
                  <a:pt x="1323" y="7169"/>
                  <a:pt x="1331" y="7169"/>
                  <a:pt x="1339" y="7169"/>
                </a:cubicBezTo>
                <a:cubicBezTo>
                  <a:pt x="1279" y="7221"/>
                  <a:pt x="1257" y="7222"/>
                  <a:pt x="1166" y="7243"/>
                </a:cubicBezTo>
                <a:cubicBezTo>
                  <a:pt x="1063" y="7267"/>
                  <a:pt x="912" y="7302"/>
                  <a:pt x="819" y="7342"/>
                </a:cubicBezTo>
                <a:cubicBezTo>
                  <a:pt x="796" y="7365"/>
                  <a:pt x="792" y="7373"/>
                  <a:pt x="769" y="7367"/>
                </a:cubicBezTo>
                <a:cubicBezTo>
                  <a:pt x="805" y="7389"/>
                  <a:pt x="841" y="7392"/>
                  <a:pt x="918" y="7392"/>
                </a:cubicBezTo>
                <a:cubicBezTo>
                  <a:pt x="1023" y="7392"/>
                  <a:pt x="1114" y="7406"/>
                  <a:pt x="1215" y="7417"/>
                </a:cubicBezTo>
                <a:cubicBezTo>
                  <a:pt x="1273" y="7424"/>
                  <a:pt x="1310" y="7428"/>
                  <a:pt x="1364" y="7441"/>
                </a:cubicBezTo>
                <a:cubicBezTo>
                  <a:pt x="1289" y="7498"/>
                  <a:pt x="1212" y="7509"/>
                  <a:pt x="1116" y="7541"/>
                </a:cubicBezTo>
                <a:cubicBezTo>
                  <a:pt x="1033" y="7568"/>
                  <a:pt x="947" y="7571"/>
                  <a:pt x="868" y="7615"/>
                </a:cubicBezTo>
                <a:cubicBezTo>
                  <a:pt x="846" y="7637"/>
                  <a:pt x="841" y="7646"/>
                  <a:pt x="819" y="7640"/>
                </a:cubicBezTo>
                <a:cubicBezTo>
                  <a:pt x="842" y="7648"/>
                  <a:pt x="902" y="7656"/>
                  <a:pt x="967" y="7640"/>
                </a:cubicBezTo>
                <a:cubicBezTo>
                  <a:pt x="1073" y="7613"/>
                  <a:pt x="1189" y="7603"/>
                  <a:pt x="1290" y="7565"/>
                </a:cubicBezTo>
                <a:cubicBezTo>
                  <a:pt x="1318" y="7565"/>
                  <a:pt x="1328" y="7563"/>
                  <a:pt x="1339" y="7541"/>
                </a:cubicBezTo>
                <a:cubicBezTo>
                  <a:pt x="1288" y="7515"/>
                  <a:pt x="1181" y="7497"/>
                  <a:pt x="1116" y="7491"/>
                </a:cubicBezTo>
                <a:cubicBezTo>
                  <a:pt x="1004" y="7480"/>
                  <a:pt x="901" y="7502"/>
                  <a:pt x="794" y="7516"/>
                </a:cubicBezTo>
                <a:cubicBezTo>
                  <a:pt x="733" y="7524"/>
                  <a:pt x="702" y="7537"/>
                  <a:pt x="645" y="756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1800" y="3875040"/>
            <a:ext cx="777600" cy="689040"/>
          </a:xfrm>
          <a:custGeom>
            <a:avLst/>
            <a:gdLst/>
            <a:ahLst/>
            <a:rect l="l" t="t" r="r" b="b"/>
            <a:pathLst>
              <a:path w="2159" h="1911">
                <a:moveTo>
                  <a:pt x="3026" y="11088"/>
                </a:moveTo>
                <a:cubicBezTo>
                  <a:pt x="3101" y="11088"/>
                  <a:pt x="3157" y="11103"/>
                  <a:pt x="3225" y="11112"/>
                </a:cubicBezTo>
                <a:cubicBezTo>
                  <a:pt x="3511" y="11148"/>
                  <a:pt x="3864" y="11130"/>
                  <a:pt x="4142" y="11088"/>
                </a:cubicBezTo>
                <a:cubicBezTo>
                  <a:pt x="4189" y="11081"/>
                  <a:pt x="4247" y="11109"/>
                  <a:pt x="4217" y="11088"/>
                </a:cubicBezTo>
                <a:cubicBezTo>
                  <a:pt x="4209" y="11080"/>
                  <a:pt x="4200" y="11071"/>
                  <a:pt x="4192" y="11063"/>
                </a:cubicBezTo>
              </a:path>
              <a:path w="2159" h="1911">
                <a:moveTo>
                  <a:pt x="2505" y="10765"/>
                </a:moveTo>
                <a:cubicBezTo>
                  <a:pt x="2521" y="10873"/>
                  <a:pt x="2539" y="10985"/>
                  <a:pt x="2555" y="11088"/>
                </a:cubicBezTo>
                <a:cubicBezTo>
                  <a:pt x="2570" y="11183"/>
                  <a:pt x="2554" y="11329"/>
                  <a:pt x="2530" y="11385"/>
                </a:cubicBezTo>
                <a:cubicBezTo>
                  <a:pt x="2511" y="11429"/>
                  <a:pt x="2530" y="11387"/>
                  <a:pt x="2530" y="11361"/>
                </a:cubicBezTo>
              </a:path>
              <a:path w="2159" h="1911">
                <a:moveTo>
                  <a:pt x="4614" y="12576"/>
                </a:moveTo>
                <a:cubicBezTo>
                  <a:pt x="4638" y="12601"/>
                  <a:pt x="4646" y="12610"/>
                  <a:pt x="4663" y="12626"/>
                </a:cubicBezTo>
                <a:cubicBezTo>
                  <a:pt x="4663" y="12585"/>
                  <a:pt x="4680" y="12531"/>
                  <a:pt x="4638" y="12526"/>
                </a:cubicBezTo>
                <a:cubicBezTo>
                  <a:pt x="4574" y="12518"/>
                  <a:pt x="4593" y="12557"/>
                  <a:pt x="4564" y="12576"/>
                </a:cubicBezTo>
                <a:cubicBezTo>
                  <a:pt x="4546" y="12588"/>
                  <a:pt x="4508" y="12623"/>
                  <a:pt x="4564" y="12650"/>
                </a:cubicBezTo>
                <a:cubicBezTo>
                  <a:pt x="4600" y="12668"/>
                  <a:pt x="4592" y="12690"/>
                  <a:pt x="4638" y="12650"/>
                </a:cubicBezTo>
                <a:cubicBezTo>
                  <a:pt x="4672" y="12620"/>
                  <a:pt x="4663" y="12594"/>
                  <a:pt x="4663" y="12551"/>
                </a:cubicBezTo>
                <a:cubicBezTo>
                  <a:pt x="4627" y="12551"/>
                  <a:pt x="4591" y="12558"/>
                  <a:pt x="4564" y="12576"/>
                </a:cubicBezTo>
                <a:cubicBezTo>
                  <a:pt x="4521" y="12605"/>
                  <a:pt x="4534" y="12616"/>
                  <a:pt x="4564" y="126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8880" y="3375000"/>
            <a:ext cx="115920" cy="1080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12030" y="9599"/>
                </a:moveTo>
                <a:cubicBezTo>
                  <a:pt x="12118" y="9599"/>
                  <a:pt x="12061" y="9595"/>
                  <a:pt x="12105" y="9550"/>
                </a:cubicBezTo>
                <a:cubicBezTo>
                  <a:pt x="12113" y="9550"/>
                  <a:pt x="12121" y="9550"/>
                  <a:pt x="12129" y="9550"/>
                </a:cubicBezTo>
                <a:cubicBezTo>
                  <a:pt x="12098" y="9507"/>
                  <a:pt x="12111" y="9500"/>
                  <a:pt x="12055" y="9500"/>
                </a:cubicBezTo>
                <a:cubicBezTo>
                  <a:pt x="12014" y="9500"/>
                  <a:pt x="12008" y="9560"/>
                  <a:pt x="12005" y="9599"/>
                </a:cubicBezTo>
                <a:cubicBezTo>
                  <a:pt x="12001" y="9647"/>
                  <a:pt x="12024" y="9658"/>
                  <a:pt x="12055" y="9674"/>
                </a:cubicBezTo>
                <a:cubicBezTo>
                  <a:pt x="12131" y="9674"/>
                  <a:pt x="12091" y="9631"/>
                  <a:pt x="12129" y="9599"/>
                </a:cubicBezTo>
                <a:cubicBezTo>
                  <a:pt x="12175" y="9560"/>
                  <a:pt x="12146" y="9552"/>
                  <a:pt x="12129" y="9500"/>
                </a:cubicBezTo>
                <a:cubicBezTo>
                  <a:pt x="12113" y="9452"/>
                  <a:pt x="12108" y="9451"/>
                  <a:pt x="12055" y="9451"/>
                </a:cubicBezTo>
                <a:cubicBezTo>
                  <a:pt x="12023" y="9451"/>
                  <a:pt x="11970" y="9494"/>
                  <a:pt x="11956" y="9525"/>
                </a:cubicBezTo>
                <a:cubicBezTo>
                  <a:pt x="11956" y="9558"/>
                  <a:pt x="11956" y="9574"/>
                  <a:pt x="11956" y="9599"/>
                </a:cubicBezTo>
                <a:cubicBezTo>
                  <a:pt x="11994" y="9612"/>
                  <a:pt x="11976" y="9624"/>
                  <a:pt x="12030" y="9624"/>
                </a:cubicBezTo>
                <a:cubicBezTo>
                  <a:pt x="12102" y="9624"/>
                  <a:pt x="12147" y="9627"/>
                  <a:pt x="12179" y="9550"/>
                </a:cubicBezTo>
                <a:cubicBezTo>
                  <a:pt x="12187" y="9532"/>
                  <a:pt x="12179" y="9466"/>
                  <a:pt x="12179" y="9451"/>
                </a:cubicBezTo>
                <a:cubicBezTo>
                  <a:pt x="12114" y="9451"/>
                  <a:pt x="12030" y="9431"/>
                  <a:pt x="11981" y="9475"/>
                </a:cubicBezTo>
                <a:cubicBezTo>
                  <a:pt x="11956" y="9500"/>
                  <a:pt x="11948" y="9508"/>
                  <a:pt x="11931" y="9525"/>
                </a:cubicBezTo>
                <a:cubicBezTo>
                  <a:pt x="11962" y="9576"/>
                  <a:pt x="11941" y="9599"/>
                  <a:pt x="12005" y="9599"/>
                </a:cubicBezTo>
                <a:cubicBezTo>
                  <a:pt x="12071" y="9599"/>
                  <a:pt x="12112" y="9616"/>
                  <a:pt x="12154" y="9550"/>
                </a:cubicBezTo>
                <a:cubicBezTo>
                  <a:pt x="12179" y="9511"/>
                  <a:pt x="12175" y="9446"/>
                  <a:pt x="12179" y="9401"/>
                </a:cubicBezTo>
                <a:cubicBezTo>
                  <a:pt x="12119" y="9391"/>
                  <a:pt x="12068" y="9376"/>
                  <a:pt x="12005" y="9376"/>
                </a:cubicBezTo>
                <a:cubicBezTo>
                  <a:pt x="11948" y="9376"/>
                  <a:pt x="11902" y="9422"/>
                  <a:pt x="11857" y="945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16280" y="2205000"/>
            <a:ext cx="1054440" cy="706320"/>
          </a:xfrm>
          <a:custGeom>
            <a:avLst/>
            <a:gdLst/>
            <a:ahLst/>
            <a:rect l="l" t="t" r="r" b="b"/>
            <a:pathLst>
              <a:path w="2928" h="1960">
                <a:moveTo>
                  <a:pt x="13022" y="6697"/>
                </a:moveTo>
                <a:cubicBezTo>
                  <a:pt x="13022" y="6858"/>
                  <a:pt x="13032" y="7010"/>
                  <a:pt x="13047" y="7169"/>
                </a:cubicBezTo>
                <a:cubicBezTo>
                  <a:pt x="13059" y="7302"/>
                  <a:pt x="13084" y="7434"/>
                  <a:pt x="13097" y="7565"/>
                </a:cubicBezTo>
                <a:cubicBezTo>
                  <a:pt x="13107" y="7671"/>
                  <a:pt x="13118" y="7783"/>
                  <a:pt x="13122" y="7888"/>
                </a:cubicBezTo>
                <a:cubicBezTo>
                  <a:pt x="13125" y="7963"/>
                  <a:pt x="13122" y="7995"/>
                  <a:pt x="13097" y="8062"/>
                </a:cubicBezTo>
                <a:cubicBezTo>
                  <a:pt x="13097" y="8120"/>
                  <a:pt x="13085" y="7995"/>
                  <a:pt x="13072" y="7938"/>
                </a:cubicBezTo>
              </a:path>
              <a:path w="2928" h="1960">
                <a:moveTo>
                  <a:pt x="12824" y="6772"/>
                </a:moveTo>
                <a:cubicBezTo>
                  <a:pt x="12865" y="6660"/>
                  <a:pt x="12915" y="6579"/>
                  <a:pt x="13047" y="6548"/>
                </a:cubicBezTo>
                <a:cubicBezTo>
                  <a:pt x="13147" y="6525"/>
                  <a:pt x="13278" y="6564"/>
                  <a:pt x="13370" y="6598"/>
                </a:cubicBezTo>
                <a:cubicBezTo>
                  <a:pt x="13489" y="6641"/>
                  <a:pt x="13520" y="6715"/>
                  <a:pt x="13568" y="6821"/>
                </a:cubicBezTo>
                <a:cubicBezTo>
                  <a:pt x="13601" y="6893"/>
                  <a:pt x="13590" y="6926"/>
                  <a:pt x="13543" y="6995"/>
                </a:cubicBezTo>
                <a:cubicBezTo>
                  <a:pt x="13513" y="7039"/>
                  <a:pt x="13398" y="7073"/>
                  <a:pt x="13345" y="7094"/>
                </a:cubicBezTo>
                <a:cubicBezTo>
                  <a:pt x="13273" y="7122"/>
                  <a:pt x="13222" y="7144"/>
                  <a:pt x="13146" y="7144"/>
                </a:cubicBezTo>
                <a:cubicBezTo>
                  <a:pt x="13081" y="7144"/>
                  <a:pt x="13153" y="7107"/>
                  <a:pt x="13171" y="7094"/>
                </a:cubicBezTo>
              </a:path>
              <a:path w="2928" h="1960">
                <a:moveTo>
                  <a:pt x="13866" y="6871"/>
                </a:moveTo>
                <a:cubicBezTo>
                  <a:pt x="13941" y="6854"/>
                  <a:pt x="14015" y="6825"/>
                  <a:pt x="14089" y="6821"/>
                </a:cubicBezTo>
                <a:cubicBezTo>
                  <a:pt x="14163" y="6817"/>
                  <a:pt x="14238" y="6821"/>
                  <a:pt x="14312" y="6821"/>
                </a:cubicBezTo>
              </a:path>
              <a:path w="2928" h="1960">
                <a:moveTo>
                  <a:pt x="13841" y="7020"/>
                </a:moveTo>
                <a:cubicBezTo>
                  <a:pt x="13960" y="7020"/>
                  <a:pt x="14070" y="7002"/>
                  <a:pt x="14188" y="6995"/>
                </a:cubicBezTo>
                <a:cubicBezTo>
                  <a:pt x="14207" y="6994"/>
                  <a:pt x="14294" y="6970"/>
                  <a:pt x="14238" y="6970"/>
                </a:cubicBezTo>
              </a:path>
              <a:path w="2928" h="1960">
                <a:moveTo>
                  <a:pt x="14784" y="6300"/>
                </a:moveTo>
                <a:cubicBezTo>
                  <a:pt x="14841" y="6255"/>
                  <a:pt x="14909" y="6236"/>
                  <a:pt x="14982" y="6226"/>
                </a:cubicBezTo>
                <a:cubicBezTo>
                  <a:pt x="15078" y="6212"/>
                  <a:pt x="15183" y="6204"/>
                  <a:pt x="15280" y="6201"/>
                </a:cubicBezTo>
                <a:cubicBezTo>
                  <a:pt x="15371" y="6198"/>
                  <a:pt x="15522" y="6214"/>
                  <a:pt x="15602" y="6176"/>
                </a:cubicBezTo>
                <a:cubicBezTo>
                  <a:pt x="15625" y="6154"/>
                  <a:pt x="15633" y="6149"/>
                  <a:pt x="15627" y="6127"/>
                </a:cubicBezTo>
              </a:path>
              <a:path w="2928" h="1960">
                <a:moveTo>
                  <a:pt x="15081" y="6201"/>
                </a:moveTo>
                <a:cubicBezTo>
                  <a:pt x="15062" y="6324"/>
                  <a:pt x="15056" y="6425"/>
                  <a:pt x="15056" y="6548"/>
                </a:cubicBezTo>
                <a:cubicBezTo>
                  <a:pt x="15056" y="6627"/>
                  <a:pt x="15010" y="6884"/>
                  <a:pt x="15081" y="6945"/>
                </a:cubicBezTo>
                <a:cubicBezTo>
                  <a:pt x="15108" y="6968"/>
                  <a:pt x="15117" y="6980"/>
                  <a:pt x="15156" y="6945"/>
                </a:cubicBezTo>
                <a:cubicBezTo>
                  <a:pt x="15164" y="6937"/>
                  <a:pt x="15172" y="6929"/>
                  <a:pt x="15180" y="6921"/>
                </a:cubicBezTo>
              </a:path>
              <a:path w="2928" h="1960">
                <a:moveTo>
                  <a:pt x="15379" y="6276"/>
                </a:moveTo>
                <a:cubicBezTo>
                  <a:pt x="15379" y="6397"/>
                  <a:pt x="15366" y="6505"/>
                  <a:pt x="15354" y="6623"/>
                </a:cubicBezTo>
                <a:cubicBezTo>
                  <a:pt x="15345" y="6711"/>
                  <a:pt x="15392" y="6771"/>
                  <a:pt x="15429" y="6846"/>
                </a:cubicBezTo>
                <a:cubicBezTo>
                  <a:pt x="15456" y="6900"/>
                  <a:pt x="15490" y="6948"/>
                  <a:pt x="15528" y="6995"/>
                </a:cubicBezTo>
              </a:path>
              <a:path w="2928" h="1960">
                <a:moveTo>
                  <a:pt x="14883" y="7020"/>
                </a:moveTo>
                <a:cubicBezTo>
                  <a:pt x="14987" y="7020"/>
                  <a:pt x="15076" y="6998"/>
                  <a:pt x="15180" y="6995"/>
                </a:cubicBezTo>
                <a:cubicBezTo>
                  <a:pt x="15302" y="6991"/>
                  <a:pt x="15435" y="6999"/>
                  <a:pt x="15553" y="6970"/>
                </a:cubicBezTo>
                <a:cubicBezTo>
                  <a:pt x="15603" y="6958"/>
                  <a:pt x="15658" y="6912"/>
                  <a:pt x="15677" y="6970"/>
                </a:cubicBezTo>
              </a:path>
              <a:path w="2928" h="1960">
                <a:moveTo>
                  <a:pt x="15007" y="7317"/>
                </a:moveTo>
                <a:cubicBezTo>
                  <a:pt x="15065" y="7275"/>
                  <a:pt x="15134" y="7270"/>
                  <a:pt x="15205" y="7243"/>
                </a:cubicBezTo>
                <a:cubicBezTo>
                  <a:pt x="15292" y="7210"/>
                  <a:pt x="15318" y="7223"/>
                  <a:pt x="15404" y="7243"/>
                </a:cubicBezTo>
                <a:cubicBezTo>
                  <a:pt x="15453" y="7254"/>
                  <a:pt x="15497" y="7318"/>
                  <a:pt x="15503" y="7367"/>
                </a:cubicBezTo>
                <a:cubicBezTo>
                  <a:pt x="15512" y="7444"/>
                  <a:pt x="15489" y="7522"/>
                  <a:pt x="15453" y="7590"/>
                </a:cubicBezTo>
                <a:cubicBezTo>
                  <a:pt x="15411" y="7669"/>
                  <a:pt x="15337" y="7768"/>
                  <a:pt x="15280" y="7838"/>
                </a:cubicBezTo>
                <a:cubicBezTo>
                  <a:pt x="15234" y="7895"/>
                  <a:pt x="15180" y="7933"/>
                  <a:pt x="15131" y="7987"/>
                </a:cubicBezTo>
                <a:cubicBezTo>
                  <a:pt x="15108" y="8010"/>
                  <a:pt x="15100" y="8014"/>
                  <a:pt x="15106" y="8037"/>
                </a:cubicBezTo>
                <a:cubicBezTo>
                  <a:pt x="15196" y="8076"/>
                  <a:pt x="15257" y="8041"/>
                  <a:pt x="15354" y="8037"/>
                </a:cubicBezTo>
                <a:cubicBezTo>
                  <a:pt x="15454" y="8033"/>
                  <a:pt x="15532" y="8044"/>
                  <a:pt x="15627" y="8062"/>
                </a:cubicBezTo>
                <a:cubicBezTo>
                  <a:pt x="15666" y="8069"/>
                  <a:pt x="15711" y="8062"/>
                  <a:pt x="15751" y="8062"/>
                </a:cubicBezTo>
                <a:cubicBezTo>
                  <a:pt x="15706" y="8028"/>
                  <a:pt x="15685" y="8020"/>
                  <a:pt x="15627" y="8012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8200" y="1633680"/>
            <a:ext cx="258840" cy="474480"/>
          </a:xfrm>
          <a:custGeom>
            <a:avLst/>
            <a:gdLst/>
            <a:ahLst/>
            <a:rect l="l" t="t" r="r" b="b"/>
            <a:pathLst>
              <a:path w="720" h="1316">
                <a:moveTo>
                  <a:pt x="843" y="4589"/>
                </a:moveTo>
                <a:cubicBezTo>
                  <a:pt x="932" y="4557"/>
                  <a:pt x="1036" y="4542"/>
                  <a:pt x="1141" y="4539"/>
                </a:cubicBezTo>
                <a:cubicBezTo>
                  <a:pt x="1224" y="4536"/>
                  <a:pt x="1256" y="4539"/>
                  <a:pt x="1339" y="4539"/>
                </a:cubicBezTo>
                <a:cubicBezTo>
                  <a:pt x="1248" y="4564"/>
                  <a:pt x="1157" y="4569"/>
                  <a:pt x="1067" y="4589"/>
                </a:cubicBezTo>
                <a:cubicBezTo>
                  <a:pt x="996" y="4605"/>
                  <a:pt x="882" y="4605"/>
                  <a:pt x="819" y="4638"/>
                </a:cubicBezTo>
                <a:cubicBezTo>
                  <a:pt x="819" y="4646"/>
                  <a:pt x="819" y="4655"/>
                  <a:pt x="819" y="4663"/>
                </a:cubicBezTo>
                <a:cubicBezTo>
                  <a:pt x="894" y="4663"/>
                  <a:pt x="1365" y="4636"/>
                  <a:pt x="1364" y="4688"/>
                </a:cubicBezTo>
                <a:cubicBezTo>
                  <a:pt x="1356" y="4688"/>
                  <a:pt x="1347" y="4688"/>
                  <a:pt x="1339" y="4688"/>
                </a:cubicBezTo>
                <a:cubicBezTo>
                  <a:pt x="1244" y="4700"/>
                  <a:pt x="1138" y="4720"/>
                  <a:pt x="1042" y="4738"/>
                </a:cubicBezTo>
                <a:cubicBezTo>
                  <a:pt x="953" y="4755"/>
                  <a:pt x="852" y="4759"/>
                  <a:pt x="769" y="4787"/>
                </a:cubicBezTo>
                <a:cubicBezTo>
                  <a:pt x="777" y="4787"/>
                  <a:pt x="786" y="4787"/>
                  <a:pt x="794" y="4787"/>
                </a:cubicBezTo>
                <a:cubicBezTo>
                  <a:pt x="900" y="4823"/>
                  <a:pt x="979" y="4790"/>
                  <a:pt x="1091" y="4787"/>
                </a:cubicBezTo>
                <a:cubicBezTo>
                  <a:pt x="1205" y="4784"/>
                  <a:pt x="1303" y="4803"/>
                  <a:pt x="1414" y="4812"/>
                </a:cubicBezTo>
                <a:cubicBezTo>
                  <a:pt x="1323" y="4840"/>
                  <a:pt x="1235" y="4846"/>
                  <a:pt x="1141" y="4862"/>
                </a:cubicBezTo>
                <a:cubicBezTo>
                  <a:pt x="1041" y="4879"/>
                  <a:pt x="885" y="4899"/>
                  <a:pt x="794" y="4936"/>
                </a:cubicBezTo>
                <a:cubicBezTo>
                  <a:pt x="771" y="4959"/>
                  <a:pt x="767" y="4967"/>
                  <a:pt x="744" y="4961"/>
                </a:cubicBezTo>
                <a:cubicBezTo>
                  <a:pt x="913" y="4961"/>
                  <a:pt x="1076" y="4964"/>
                  <a:pt x="1240" y="4986"/>
                </a:cubicBezTo>
                <a:cubicBezTo>
                  <a:pt x="1298" y="4986"/>
                  <a:pt x="1323" y="4986"/>
                  <a:pt x="1364" y="4986"/>
                </a:cubicBezTo>
                <a:cubicBezTo>
                  <a:pt x="1333" y="4997"/>
                  <a:pt x="1206" y="5051"/>
                  <a:pt x="1141" y="5060"/>
                </a:cubicBezTo>
                <a:cubicBezTo>
                  <a:pt x="1058" y="5071"/>
                  <a:pt x="944" y="5077"/>
                  <a:pt x="868" y="5110"/>
                </a:cubicBezTo>
                <a:cubicBezTo>
                  <a:pt x="860" y="5118"/>
                  <a:pt x="851" y="5127"/>
                  <a:pt x="843" y="5135"/>
                </a:cubicBezTo>
                <a:cubicBezTo>
                  <a:pt x="879" y="5147"/>
                  <a:pt x="972" y="5152"/>
                  <a:pt x="1042" y="5159"/>
                </a:cubicBezTo>
                <a:cubicBezTo>
                  <a:pt x="1131" y="5169"/>
                  <a:pt x="1365" y="5159"/>
                  <a:pt x="1439" y="5209"/>
                </a:cubicBezTo>
                <a:cubicBezTo>
                  <a:pt x="1463" y="5209"/>
                  <a:pt x="1471" y="5209"/>
                  <a:pt x="1463" y="5234"/>
                </a:cubicBezTo>
                <a:cubicBezTo>
                  <a:pt x="1364" y="5247"/>
                  <a:pt x="1265" y="5282"/>
                  <a:pt x="1166" y="5308"/>
                </a:cubicBezTo>
                <a:cubicBezTo>
                  <a:pt x="1054" y="5338"/>
                  <a:pt x="922" y="5338"/>
                  <a:pt x="819" y="5383"/>
                </a:cubicBezTo>
                <a:cubicBezTo>
                  <a:pt x="796" y="5405"/>
                  <a:pt x="788" y="5410"/>
                  <a:pt x="794" y="5432"/>
                </a:cubicBezTo>
                <a:cubicBezTo>
                  <a:pt x="931" y="5432"/>
                  <a:pt x="1058" y="5440"/>
                  <a:pt x="1191" y="5457"/>
                </a:cubicBezTo>
                <a:cubicBezTo>
                  <a:pt x="1235" y="5457"/>
                  <a:pt x="1249" y="5454"/>
                  <a:pt x="1265" y="5482"/>
                </a:cubicBezTo>
                <a:cubicBezTo>
                  <a:pt x="1190" y="5556"/>
                  <a:pt x="1171" y="5534"/>
                  <a:pt x="1067" y="5556"/>
                </a:cubicBezTo>
                <a:cubicBezTo>
                  <a:pt x="987" y="5573"/>
                  <a:pt x="863" y="5592"/>
                  <a:pt x="794" y="5631"/>
                </a:cubicBezTo>
                <a:cubicBezTo>
                  <a:pt x="786" y="5639"/>
                  <a:pt x="777" y="5647"/>
                  <a:pt x="769" y="5655"/>
                </a:cubicBezTo>
                <a:cubicBezTo>
                  <a:pt x="859" y="5689"/>
                  <a:pt x="944" y="5680"/>
                  <a:pt x="1042" y="5680"/>
                </a:cubicBezTo>
                <a:cubicBezTo>
                  <a:pt x="1163" y="5680"/>
                  <a:pt x="1271" y="5695"/>
                  <a:pt x="1389" y="5705"/>
                </a:cubicBezTo>
                <a:cubicBezTo>
                  <a:pt x="1319" y="5747"/>
                  <a:pt x="1249" y="5717"/>
                  <a:pt x="1166" y="5730"/>
                </a:cubicBezTo>
                <a:cubicBezTo>
                  <a:pt x="1070" y="5745"/>
                  <a:pt x="990" y="5755"/>
                  <a:pt x="893" y="5755"/>
                </a:cubicBezTo>
                <a:cubicBezTo>
                  <a:pt x="885" y="5755"/>
                  <a:pt x="876" y="5755"/>
                  <a:pt x="868" y="5755"/>
                </a:cubicBezTo>
                <a:cubicBezTo>
                  <a:pt x="917" y="5730"/>
                  <a:pt x="1007" y="5713"/>
                  <a:pt x="1067" y="5705"/>
                </a:cubicBezTo>
                <a:cubicBezTo>
                  <a:pt x="1193" y="5688"/>
                  <a:pt x="1163" y="5704"/>
                  <a:pt x="1091" y="5730"/>
                </a:cubicBezTo>
                <a:cubicBezTo>
                  <a:pt x="988" y="5767"/>
                  <a:pt x="889" y="5802"/>
                  <a:pt x="794" y="5854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43160" y="2259000"/>
            <a:ext cx="741600" cy="384120"/>
          </a:xfrm>
          <a:custGeom>
            <a:avLst/>
            <a:gdLst/>
            <a:ahLst/>
            <a:rect l="l" t="t" r="r" b="b"/>
            <a:pathLst>
              <a:path w="2060" h="1067">
                <a:moveTo>
                  <a:pt x="9376" y="6697"/>
                </a:moveTo>
                <a:cubicBezTo>
                  <a:pt x="9376" y="6772"/>
                  <a:pt x="9376" y="6796"/>
                  <a:pt x="9376" y="6871"/>
                </a:cubicBezTo>
                <a:cubicBezTo>
                  <a:pt x="9358" y="6835"/>
                  <a:pt x="9334" y="6785"/>
                  <a:pt x="9327" y="6747"/>
                </a:cubicBezTo>
                <a:cubicBezTo>
                  <a:pt x="9316" y="6688"/>
                  <a:pt x="9311" y="6626"/>
                  <a:pt x="9277" y="6573"/>
                </a:cubicBezTo>
                <a:cubicBezTo>
                  <a:pt x="9249" y="6529"/>
                  <a:pt x="9223" y="6527"/>
                  <a:pt x="9178" y="6524"/>
                </a:cubicBezTo>
                <a:cubicBezTo>
                  <a:pt x="9104" y="6520"/>
                  <a:pt x="9046" y="6564"/>
                  <a:pt x="9004" y="6623"/>
                </a:cubicBezTo>
                <a:cubicBezTo>
                  <a:pt x="8952" y="6696"/>
                  <a:pt x="8881" y="6738"/>
                  <a:pt x="8830" y="6821"/>
                </a:cubicBezTo>
                <a:cubicBezTo>
                  <a:pt x="8774" y="6912"/>
                  <a:pt x="8736" y="7041"/>
                  <a:pt x="8731" y="7144"/>
                </a:cubicBezTo>
                <a:cubicBezTo>
                  <a:pt x="8728" y="7202"/>
                  <a:pt x="8731" y="7266"/>
                  <a:pt x="8756" y="7317"/>
                </a:cubicBezTo>
                <a:cubicBezTo>
                  <a:pt x="8778" y="7361"/>
                  <a:pt x="8887" y="7352"/>
                  <a:pt x="8930" y="7342"/>
                </a:cubicBezTo>
                <a:cubicBezTo>
                  <a:pt x="8998" y="7326"/>
                  <a:pt x="9056" y="7240"/>
                  <a:pt x="9103" y="7193"/>
                </a:cubicBezTo>
                <a:cubicBezTo>
                  <a:pt x="9172" y="7124"/>
                  <a:pt x="9176" y="7079"/>
                  <a:pt x="9203" y="6995"/>
                </a:cubicBezTo>
                <a:cubicBezTo>
                  <a:pt x="9218" y="6950"/>
                  <a:pt x="9267" y="6888"/>
                  <a:pt x="9277" y="6871"/>
                </a:cubicBezTo>
                <a:cubicBezTo>
                  <a:pt x="9277" y="6973"/>
                  <a:pt x="9262" y="7076"/>
                  <a:pt x="9302" y="7169"/>
                </a:cubicBezTo>
                <a:cubicBezTo>
                  <a:pt x="9326" y="7226"/>
                  <a:pt x="9369" y="7277"/>
                  <a:pt x="9426" y="7293"/>
                </a:cubicBezTo>
                <a:cubicBezTo>
                  <a:pt x="9499" y="7314"/>
                  <a:pt x="9529" y="7265"/>
                  <a:pt x="9575" y="7218"/>
                </a:cubicBezTo>
                <a:cubicBezTo>
                  <a:pt x="9604" y="7188"/>
                  <a:pt x="9615" y="7174"/>
                  <a:pt x="9624" y="7144"/>
                </a:cubicBezTo>
              </a:path>
              <a:path w="2060" h="1067">
                <a:moveTo>
                  <a:pt x="9798" y="6747"/>
                </a:moveTo>
                <a:cubicBezTo>
                  <a:pt x="9864" y="6727"/>
                  <a:pt x="9935" y="6741"/>
                  <a:pt x="9996" y="6722"/>
                </a:cubicBezTo>
                <a:cubicBezTo>
                  <a:pt x="10076" y="6697"/>
                  <a:pt x="10133" y="6697"/>
                  <a:pt x="10220" y="6697"/>
                </a:cubicBezTo>
              </a:path>
              <a:path w="2060" h="1067">
                <a:moveTo>
                  <a:pt x="9773" y="6896"/>
                </a:moveTo>
                <a:cubicBezTo>
                  <a:pt x="9817" y="6929"/>
                  <a:pt x="9839" y="6921"/>
                  <a:pt x="9897" y="6921"/>
                </a:cubicBezTo>
                <a:cubicBezTo>
                  <a:pt x="9996" y="6921"/>
                  <a:pt x="10096" y="6921"/>
                  <a:pt x="10195" y="6921"/>
                </a:cubicBezTo>
              </a:path>
              <a:path w="2060" h="1067">
                <a:moveTo>
                  <a:pt x="10790" y="6276"/>
                </a:moveTo>
                <a:cubicBezTo>
                  <a:pt x="10756" y="6320"/>
                  <a:pt x="10743" y="6365"/>
                  <a:pt x="10740" y="6424"/>
                </a:cubicBezTo>
                <a:cubicBezTo>
                  <a:pt x="10735" y="6510"/>
                  <a:pt x="10716" y="6584"/>
                  <a:pt x="10716" y="6672"/>
                </a:cubicBezTo>
                <a:cubicBezTo>
                  <a:pt x="10716" y="6762"/>
                  <a:pt x="10716" y="6861"/>
                  <a:pt x="10740" y="6945"/>
                </a:cubicBezTo>
                <a:cubicBezTo>
                  <a:pt x="10763" y="7025"/>
                  <a:pt x="10784" y="7110"/>
                  <a:pt x="10790" y="7193"/>
                </a:cubicBezTo>
                <a:cubicBezTo>
                  <a:pt x="10791" y="7201"/>
                  <a:pt x="10790" y="7285"/>
                  <a:pt x="10790" y="721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0960" y="3321000"/>
            <a:ext cx="704880" cy="349200"/>
          </a:xfrm>
          <a:custGeom>
            <a:avLst/>
            <a:gdLst/>
            <a:ahLst/>
            <a:rect l="l" t="t" r="r" b="b"/>
            <a:pathLst>
              <a:path w="1960" h="969">
                <a:moveTo>
                  <a:pt x="3349" y="9475"/>
                </a:moveTo>
                <a:cubicBezTo>
                  <a:pt x="3395" y="9441"/>
                  <a:pt x="3437" y="9451"/>
                  <a:pt x="3497" y="9451"/>
                </a:cubicBezTo>
                <a:cubicBezTo>
                  <a:pt x="3606" y="9451"/>
                  <a:pt x="3678" y="9401"/>
                  <a:pt x="3795" y="9401"/>
                </a:cubicBezTo>
                <a:cubicBezTo>
                  <a:pt x="3876" y="9401"/>
                  <a:pt x="3935" y="9376"/>
                  <a:pt x="4018" y="9376"/>
                </a:cubicBezTo>
                <a:cubicBezTo>
                  <a:pt x="4026" y="9376"/>
                  <a:pt x="4035" y="9376"/>
                  <a:pt x="4043" y="9376"/>
                </a:cubicBezTo>
              </a:path>
              <a:path w="1960" h="969">
                <a:moveTo>
                  <a:pt x="2084" y="9252"/>
                </a:moveTo>
                <a:cubicBezTo>
                  <a:pt x="2134" y="9239"/>
                  <a:pt x="2147" y="9227"/>
                  <a:pt x="2208" y="9227"/>
                </a:cubicBezTo>
                <a:cubicBezTo>
                  <a:pt x="2291" y="9227"/>
                  <a:pt x="2420" y="9199"/>
                  <a:pt x="2480" y="9252"/>
                </a:cubicBezTo>
                <a:cubicBezTo>
                  <a:pt x="2525" y="9292"/>
                  <a:pt x="2597" y="9318"/>
                  <a:pt x="2555" y="9401"/>
                </a:cubicBezTo>
                <a:cubicBezTo>
                  <a:pt x="2524" y="9463"/>
                  <a:pt x="2438" y="9558"/>
                  <a:pt x="2381" y="9599"/>
                </a:cubicBezTo>
                <a:cubicBezTo>
                  <a:pt x="2350" y="9621"/>
                  <a:pt x="2243" y="9665"/>
                  <a:pt x="2232" y="9699"/>
                </a:cubicBezTo>
                <a:cubicBezTo>
                  <a:pt x="2232" y="9715"/>
                  <a:pt x="2232" y="9732"/>
                  <a:pt x="2232" y="9748"/>
                </a:cubicBezTo>
                <a:cubicBezTo>
                  <a:pt x="2317" y="9748"/>
                  <a:pt x="2682" y="9708"/>
                  <a:pt x="2704" y="9773"/>
                </a:cubicBezTo>
              </a:path>
              <a:path w="1960" h="969">
                <a:moveTo>
                  <a:pt x="3721" y="9302"/>
                </a:moveTo>
                <a:cubicBezTo>
                  <a:pt x="3665" y="9316"/>
                  <a:pt x="3680" y="9317"/>
                  <a:pt x="3671" y="9376"/>
                </a:cubicBezTo>
                <a:cubicBezTo>
                  <a:pt x="3713" y="9408"/>
                  <a:pt x="3739" y="9401"/>
                  <a:pt x="3795" y="9401"/>
                </a:cubicBezTo>
                <a:cubicBezTo>
                  <a:pt x="3840" y="9401"/>
                  <a:pt x="3879" y="9368"/>
                  <a:pt x="3894" y="9327"/>
                </a:cubicBezTo>
                <a:cubicBezTo>
                  <a:pt x="3909" y="9285"/>
                  <a:pt x="3888" y="9258"/>
                  <a:pt x="3870" y="9227"/>
                </a:cubicBezTo>
                <a:cubicBezTo>
                  <a:pt x="3794" y="9227"/>
                  <a:pt x="3812" y="9263"/>
                  <a:pt x="3746" y="9302"/>
                </a:cubicBezTo>
                <a:cubicBezTo>
                  <a:pt x="3700" y="9329"/>
                  <a:pt x="3706" y="9316"/>
                  <a:pt x="3671" y="9376"/>
                </a:cubicBezTo>
                <a:cubicBezTo>
                  <a:pt x="3683" y="9435"/>
                  <a:pt x="3698" y="9448"/>
                  <a:pt x="3746" y="9475"/>
                </a:cubicBezTo>
                <a:cubicBezTo>
                  <a:pt x="3804" y="9508"/>
                  <a:pt x="3853" y="9500"/>
                  <a:pt x="3919" y="9500"/>
                </a:cubicBezTo>
                <a:cubicBezTo>
                  <a:pt x="3997" y="9500"/>
                  <a:pt x="4033" y="9452"/>
                  <a:pt x="4018" y="9376"/>
                </a:cubicBezTo>
                <a:cubicBezTo>
                  <a:pt x="4005" y="9307"/>
                  <a:pt x="3933" y="9278"/>
                  <a:pt x="3870" y="9302"/>
                </a:cubicBezTo>
                <a:cubicBezTo>
                  <a:pt x="3830" y="9317"/>
                  <a:pt x="3738" y="9359"/>
                  <a:pt x="3721" y="9401"/>
                </a:cubicBezTo>
                <a:cubicBezTo>
                  <a:pt x="3721" y="9418"/>
                  <a:pt x="3721" y="9434"/>
                  <a:pt x="3721" y="9451"/>
                </a:cubicBezTo>
                <a:cubicBezTo>
                  <a:pt x="3759" y="9460"/>
                  <a:pt x="3797" y="9494"/>
                  <a:pt x="3845" y="9475"/>
                </a:cubicBezTo>
                <a:cubicBezTo>
                  <a:pt x="3881" y="9461"/>
                  <a:pt x="3932" y="9425"/>
                  <a:pt x="3919" y="9376"/>
                </a:cubicBezTo>
                <a:cubicBezTo>
                  <a:pt x="3902" y="9314"/>
                  <a:pt x="3900" y="9302"/>
                  <a:pt x="3845" y="9302"/>
                </a:cubicBezTo>
                <a:cubicBezTo>
                  <a:pt x="3800" y="9302"/>
                  <a:pt x="3732" y="9301"/>
                  <a:pt x="3696" y="9327"/>
                </a:cubicBezTo>
                <a:cubicBezTo>
                  <a:pt x="3635" y="9371"/>
                  <a:pt x="3609" y="9385"/>
                  <a:pt x="3572" y="9451"/>
                </a:cubicBezTo>
              </a:path>
              <a:path w="1960" h="969">
                <a:moveTo>
                  <a:pt x="3795" y="9302"/>
                </a:moveTo>
                <a:cubicBezTo>
                  <a:pt x="3750" y="9313"/>
                  <a:pt x="3707" y="9355"/>
                  <a:pt x="3671" y="9376"/>
                </a:cubicBezTo>
                <a:cubicBezTo>
                  <a:pt x="3633" y="9398"/>
                  <a:pt x="3605" y="9446"/>
                  <a:pt x="3572" y="9475"/>
                </a:cubicBezTo>
                <a:cubicBezTo>
                  <a:pt x="3499" y="9539"/>
                  <a:pt x="3467" y="9668"/>
                  <a:pt x="3423" y="9748"/>
                </a:cubicBezTo>
                <a:cubicBezTo>
                  <a:pt x="3382" y="9823"/>
                  <a:pt x="3325" y="9903"/>
                  <a:pt x="3274" y="9971"/>
                </a:cubicBezTo>
                <a:cubicBezTo>
                  <a:pt x="3245" y="10009"/>
                  <a:pt x="3253" y="10027"/>
                  <a:pt x="3225" y="10046"/>
                </a:cubicBezTo>
              </a:path>
              <a:path w="1960" h="969">
                <a:moveTo>
                  <a:pt x="3026" y="9897"/>
                </a:moveTo>
                <a:cubicBezTo>
                  <a:pt x="3026" y="9981"/>
                  <a:pt x="3006" y="10037"/>
                  <a:pt x="3001" y="10120"/>
                </a:cubicBezTo>
                <a:cubicBezTo>
                  <a:pt x="3001" y="10153"/>
                  <a:pt x="3001" y="10170"/>
                  <a:pt x="3001" y="10195"/>
                </a:cubicBezTo>
                <a:cubicBezTo>
                  <a:pt x="3071" y="10195"/>
                  <a:pt x="3066" y="10200"/>
                  <a:pt x="3125" y="10145"/>
                </a:cubicBezTo>
                <a:cubicBezTo>
                  <a:pt x="3168" y="10105"/>
                  <a:pt x="3220" y="10107"/>
                  <a:pt x="3274" y="100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62080" y="3938760"/>
            <a:ext cx="730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5829" y="11088"/>
                </a:moveTo>
                <a:cubicBezTo>
                  <a:pt x="5829" y="11043"/>
                  <a:pt x="5842" y="11026"/>
                  <a:pt x="5804" y="11013"/>
                </a:cubicBezTo>
                <a:cubicBezTo>
                  <a:pt x="5761" y="11045"/>
                  <a:pt x="5755" y="11032"/>
                  <a:pt x="5755" y="11088"/>
                </a:cubicBezTo>
                <a:cubicBezTo>
                  <a:pt x="5755" y="11122"/>
                  <a:pt x="5764" y="11135"/>
                  <a:pt x="5804" y="11137"/>
                </a:cubicBezTo>
                <a:cubicBezTo>
                  <a:pt x="5854" y="11100"/>
                  <a:pt x="5854" y="11108"/>
                  <a:pt x="5854" y="11038"/>
                </a:cubicBezTo>
                <a:cubicBezTo>
                  <a:pt x="5854" y="10990"/>
                  <a:pt x="5858" y="10977"/>
                  <a:pt x="5829" y="10939"/>
                </a:cubicBezTo>
                <a:cubicBezTo>
                  <a:pt x="5788" y="10949"/>
                  <a:pt x="5760" y="10967"/>
                  <a:pt x="5755" y="11013"/>
                </a:cubicBezTo>
                <a:cubicBezTo>
                  <a:pt x="5749" y="11067"/>
                  <a:pt x="5801" y="11070"/>
                  <a:pt x="5829" y="11088"/>
                </a:cubicBezTo>
                <a:cubicBezTo>
                  <a:pt x="5874" y="11117"/>
                  <a:pt x="5859" y="11121"/>
                  <a:pt x="5904" y="11088"/>
                </a:cubicBezTo>
                <a:cubicBezTo>
                  <a:pt x="5915" y="11043"/>
                  <a:pt x="5949" y="11004"/>
                  <a:pt x="5879" y="10988"/>
                </a:cubicBezTo>
                <a:cubicBezTo>
                  <a:pt x="5834" y="10978"/>
                  <a:pt x="5786" y="10985"/>
                  <a:pt x="5755" y="11013"/>
                </a:cubicBezTo>
                <a:cubicBezTo>
                  <a:pt x="5747" y="11021"/>
                  <a:pt x="5738" y="11030"/>
                  <a:pt x="5730" y="1103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73200" y="3402000"/>
            <a:ext cx="2563920" cy="2697120"/>
          </a:xfrm>
          <a:custGeom>
            <a:avLst/>
            <a:gdLst/>
            <a:ahLst/>
            <a:rect l="l" t="t" r="r" b="b"/>
            <a:pathLst>
              <a:path w="7120" h="7492">
                <a:moveTo>
                  <a:pt x="12452" y="12129"/>
                </a:moveTo>
                <a:cubicBezTo>
                  <a:pt x="12428" y="12250"/>
                  <a:pt x="12427" y="12356"/>
                  <a:pt x="12452" y="12477"/>
                </a:cubicBezTo>
                <a:cubicBezTo>
                  <a:pt x="12479" y="12609"/>
                  <a:pt x="12519" y="12743"/>
                  <a:pt x="12551" y="12874"/>
                </a:cubicBezTo>
                <a:cubicBezTo>
                  <a:pt x="12580" y="12994"/>
                  <a:pt x="12597" y="13123"/>
                  <a:pt x="12601" y="13246"/>
                </a:cubicBezTo>
                <a:cubicBezTo>
                  <a:pt x="12601" y="13362"/>
                  <a:pt x="12604" y="13412"/>
                  <a:pt x="12626" y="13494"/>
                </a:cubicBezTo>
              </a:path>
              <a:path w="7120" h="7492">
                <a:moveTo>
                  <a:pt x="12427" y="14139"/>
                </a:moveTo>
                <a:cubicBezTo>
                  <a:pt x="12537" y="14069"/>
                  <a:pt x="12551" y="14057"/>
                  <a:pt x="12675" y="14089"/>
                </a:cubicBezTo>
                <a:cubicBezTo>
                  <a:pt x="12779" y="14116"/>
                  <a:pt x="12891" y="14135"/>
                  <a:pt x="12998" y="14139"/>
                </a:cubicBezTo>
                <a:cubicBezTo>
                  <a:pt x="13064" y="14139"/>
                  <a:pt x="13081" y="14139"/>
                  <a:pt x="13122" y="14139"/>
                </a:cubicBezTo>
              </a:path>
              <a:path w="7120" h="7492">
                <a:moveTo>
                  <a:pt x="12675" y="14139"/>
                </a:moveTo>
                <a:cubicBezTo>
                  <a:pt x="12669" y="14197"/>
                  <a:pt x="12624" y="14420"/>
                  <a:pt x="12650" y="14511"/>
                </a:cubicBezTo>
                <a:cubicBezTo>
                  <a:pt x="12665" y="14564"/>
                  <a:pt x="12676" y="14598"/>
                  <a:pt x="12725" y="14610"/>
                </a:cubicBezTo>
              </a:path>
              <a:path w="7120" h="7492">
                <a:moveTo>
                  <a:pt x="13022" y="14089"/>
                </a:moveTo>
                <a:cubicBezTo>
                  <a:pt x="13030" y="14325"/>
                  <a:pt x="13034" y="14335"/>
                  <a:pt x="13122" y="14511"/>
                </a:cubicBezTo>
                <a:cubicBezTo>
                  <a:pt x="13167" y="14601"/>
                  <a:pt x="13184" y="14678"/>
                  <a:pt x="13246" y="14759"/>
                </a:cubicBezTo>
                <a:cubicBezTo>
                  <a:pt x="13254" y="14767"/>
                  <a:pt x="13263" y="14776"/>
                  <a:pt x="13271" y="14784"/>
                </a:cubicBezTo>
              </a:path>
              <a:path w="7120" h="7492">
                <a:moveTo>
                  <a:pt x="10071" y="12923"/>
                </a:moveTo>
                <a:cubicBezTo>
                  <a:pt x="10157" y="12914"/>
                  <a:pt x="10141" y="12927"/>
                  <a:pt x="10195" y="12874"/>
                </a:cubicBezTo>
                <a:cubicBezTo>
                  <a:pt x="10174" y="12867"/>
                  <a:pt x="10156" y="12829"/>
                  <a:pt x="10120" y="12849"/>
                </a:cubicBezTo>
                <a:cubicBezTo>
                  <a:pt x="10086" y="12869"/>
                  <a:pt x="10056" y="12870"/>
                  <a:pt x="10046" y="12898"/>
                </a:cubicBezTo>
                <a:cubicBezTo>
                  <a:pt x="10046" y="12941"/>
                  <a:pt x="10051" y="12958"/>
                  <a:pt x="10096" y="12973"/>
                </a:cubicBezTo>
                <a:cubicBezTo>
                  <a:pt x="10144" y="12989"/>
                  <a:pt x="10156" y="12955"/>
                  <a:pt x="10170" y="12948"/>
                </a:cubicBezTo>
                <a:cubicBezTo>
                  <a:pt x="10180" y="12943"/>
                  <a:pt x="10262" y="12907"/>
                  <a:pt x="10220" y="12874"/>
                </a:cubicBezTo>
                <a:cubicBezTo>
                  <a:pt x="10187" y="12848"/>
                  <a:pt x="10121" y="12880"/>
                  <a:pt x="10096" y="12898"/>
                </a:cubicBezTo>
                <a:cubicBezTo>
                  <a:pt x="10112" y="12920"/>
                  <a:pt x="10135" y="12968"/>
                  <a:pt x="10145" y="12973"/>
                </a:cubicBezTo>
                <a:cubicBezTo>
                  <a:pt x="10184" y="12993"/>
                  <a:pt x="10190" y="12944"/>
                  <a:pt x="10195" y="12923"/>
                </a:cubicBezTo>
              </a:path>
              <a:path w="7120" h="7492">
                <a:moveTo>
                  <a:pt x="6871" y="15652"/>
                </a:moveTo>
                <a:cubicBezTo>
                  <a:pt x="6879" y="15657"/>
                  <a:pt x="6918" y="15629"/>
                  <a:pt x="6945" y="15652"/>
                </a:cubicBezTo>
                <a:cubicBezTo>
                  <a:pt x="6964" y="15669"/>
                  <a:pt x="6988" y="15697"/>
                  <a:pt x="7020" y="15726"/>
                </a:cubicBezTo>
                <a:cubicBezTo>
                  <a:pt x="7044" y="15747"/>
                  <a:pt x="7064" y="15797"/>
                  <a:pt x="7094" y="15825"/>
                </a:cubicBezTo>
                <a:cubicBezTo>
                  <a:pt x="7139" y="15866"/>
                  <a:pt x="7185" y="15915"/>
                  <a:pt x="7218" y="15949"/>
                </a:cubicBezTo>
                <a:cubicBezTo>
                  <a:pt x="7251" y="15983"/>
                  <a:pt x="7313" y="16045"/>
                  <a:pt x="7342" y="16073"/>
                </a:cubicBezTo>
                <a:cubicBezTo>
                  <a:pt x="7400" y="16129"/>
                  <a:pt x="7469" y="16204"/>
                  <a:pt x="7516" y="16247"/>
                </a:cubicBezTo>
                <a:cubicBezTo>
                  <a:pt x="7574" y="16300"/>
                  <a:pt x="7617" y="16325"/>
                  <a:pt x="7665" y="16371"/>
                </a:cubicBezTo>
                <a:cubicBezTo>
                  <a:pt x="7781" y="16481"/>
                  <a:pt x="7901" y="16626"/>
                  <a:pt x="8012" y="16718"/>
                </a:cubicBezTo>
                <a:cubicBezTo>
                  <a:pt x="8045" y="16745"/>
                  <a:pt x="8074" y="16766"/>
                  <a:pt x="8111" y="16793"/>
                </a:cubicBezTo>
                <a:cubicBezTo>
                  <a:pt x="8143" y="16816"/>
                  <a:pt x="8181" y="16822"/>
                  <a:pt x="8210" y="16842"/>
                </a:cubicBezTo>
                <a:cubicBezTo>
                  <a:pt x="8226" y="16853"/>
                  <a:pt x="8251" y="16877"/>
                  <a:pt x="8285" y="16892"/>
                </a:cubicBezTo>
                <a:cubicBezTo>
                  <a:pt x="8326" y="16911"/>
                  <a:pt x="8353" y="16938"/>
                  <a:pt x="8384" y="16942"/>
                </a:cubicBezTo>
                <a:cubicBezTo>
                  <a:pt x="8459" y="16952"/>
                  <a:pt x="8546" y="16927"/>
                  <a:pt x="8582" y="16917"/>
                </a:cubicBezTo>
                <a:cubicBezTo>
                  <a:pt x="8618" y="16907"/>
                  <a:pt x="8650" y="16910"/>
                  <a:pt x="8682" y="16892"/>
                </a:cubicBezTo>
                <a:cubicBezTo>
                  <a:pt x="8718" y="16872"/>
                  <a:pt x="8748" y="16840"/>
                  <a:pt x="8781" y="16818"/>
                </a:cubicBezTo>
                <a:cubicBezTo>
                  <a:pt x="8829" y="16786"/>
                  <a:pt x="8893" y="16733"/>
                  <a:pt x="8930" y="16694"/>
                </a:cubicBezTo>
                <a:cubicBezTo>
                  <a:pt x="8958" y="16664"/>
                  <a:pt x="8958" y="16622"/>
                  <a:pt x="8979" y="16594"/>
                </a:cubicBezTo>
                <a:cubicBezTo>
                  <a:pt x="9043" y="16507"/>
                  <a:pt x="9084" y="16462"/>
                  <a:pt x="9128" y="16371"/>
                </a:cubicBezTo>
                <a:cubicBezTo>
                  <a:pt x="9155" y="16314"/>
                  <a:pt x="9179" y="16251"/>
                  <a:pt x="9203" y="16197"/>
                </a:cubicBezTo>
                <a:cubicBezTo>
                  <a:pt x="9219" y="16160"/>
                  <a:pt x="9238" y="16109"/>
                  <a:pt x="9252" y="16073"/>
                </a:cubicBezTo>
                <a:cubicBezTo>
                  <a:pt x="9271" y="16024"/>
                  <a:pt x="9281" y="15979"/>
                  <a:pt x="9302" y="15925"/>
                </a:cubicBezTo>
                <a:cubicBezTo>
                  <a:pt x="9324" y="15869"/>
                  <a:pt x="9331" y="15809"/>
                  <a:pt x="9351" y="15751"/>
                </a:cubicBezTo>
                <a:cubicBezTo>
                  <a:pt x="9368" y="15701"/>
                  <a:pt x="9385" y="15654"/>
                  <a:pt x="9401" y="15602"/>
                </a:cubicBezTo>
                <a:cubicBezTo>
                  <a:pt x="9421" y="15538"/>
                  <a:pt x="9460" y="15485"/>
                  <a:pt x="9475" y="15429"/>
                </a:cubicBezTo>
                <a:cubicBezTo>
                  <a:pt x="9491" y="15370"/>
                  <a:pt x="9487" y="15312"/>
                  <a:pt x="9500" y="15255"/>
                </a:cubicBezTo>
                <a:cubicBezTo>
                  <a:pt x="9514" y="15193"/>
                  <a:pt x="9540" y="15145"/>
                  <a:pt x="9550" y="15081"/>
                </a:cubicBezTo>
                <a:cubicBezTo>
                  <a:pt x="9560" y="15020"/>
                  <a:pt x="9566" y="14974"/>
                  <a:pt x="9575" y="14908"/>
                </a:cubicBezTo>
                <a:cubicBezTo>
                  <a:pt x="9584" y="14842"/>
                  <a:pt x="9591" y="14795"/>
                  <a:pt x="9599" y="14734"/>
                </a:cubicBezTo>
                <a:cubicBezTo>
                  <a:pt x="9607" y="14672"/>
                  <a:pt x="9615" y="14619"/>
                  <a:pt x="9624" y="14560"/>
                </a:cubicBezTo>
                <a:cubicBezTo>
                  <a:pt x="9639" y="14464"/>
                  <a:pt x="9653" y="14388"/>
                  <a:pt x="9674" y="14288"/>
                </a:cubicBezTo>
                <a:cubicBezTo>
                  <a:pt x="9686" y="14230"/>
                  <a:pt x="9687" y="14172"/>
                  <a:pt x="9699" y="14114"/>
                </a:cubicBezTo>
                <a:cubicBezTo>
                  <a:pt x="9714" y="14040"/>
                  <a:pt x="9731" y="13964"/>
                  <a:pt x="9748" y="13891"/>
                </a:cubicBezTo>
                <a:cubicBezTo>
                  <a:pt x="9759" y="13842"/>
                  <a:pt x="9762" y="13792"/>
                  <a:pt x="9773" y="13742"/>
                </a:cubicBezTo>
                <a:cubicBezTo>
                  <a:pt x="9789" y="13667"/>
                  <a:pt x="9810" y="13595"/>
                  <a:pt x="9823" y="13519"/>
                </a:cubicBezTo>
                <a:cubicBezTo>
                  <a:pt x="9832" y="13463"/>
                  <a:pt x="9840" y="13424"/>
                  <a:pt x="9847" y="13370"/>
                </a:cubicBezTo>
                <a:cubicBezTo>
                  <a:pt x="9854" y="13316"/>
                  <a:pt x="9861" y="13276"/>
                  <a:pt x="9872" y="13221"/>
                </a:cubicBezTo>
                <a:cubicBezTo>
                  <a:pt x="9883" y="13167"/>
                  <a:pt x="9886" y="13128"/>
                  <a:pt x="9897" y="13072"/>
                </a:cubicBezTo>
                <a:cubicBezTo>
                  <a:pt x="9906" y="13022"/>
                  <a:pt x="9912" y="12973"/>
                  <a:pt x="9922" y="12923"/>
                </a:cubicBezTo>
                <a:cubicBezTo>
                  <a:pt x="9935" y="12855"/>
                  <a:pt x="9956" y="12790"/>
                  <a:pt x="9971" y="12725"/>
                </a:cubicBezTo>
                <a:cubicBezTo>
                  <a:pt x="9982" y="12678"/>
                  <a:pt x="9983" y="12643"/>
                  <a:pt x="9996" y="12601"/>
                </a:cubicBezTo>
                <a:cubicBezTo>
                  <a:pt x="10012" y="12548"/>
                  <a:pt x="10027" y="12498"/>
                  <a:pt x="10046" y="12452"/>
                </a:cubicBezTo>
                <a:cubicBezTo>
                  <a:pt x="10070" y="12394"/>
                  <a:pt x="10097" y="12361"/>
                  <a:pt x="10120" y="12303"/>
                </a:cubicBezTo>
                <a:cubicBezTo>
                  <a:pt x="10137" y="12262"/>
                  <a:pt x="10154" y="12220"/>
                  <a:pt x="10170" y="12179"/>
                </a:cubicBezTo>
                <a:cubicBezTo>
                  <a:pt x="10189" y="12128"/>
                  <a:pt x="10197" y="12056"/>
                  <a:pt x="10220" y="12005"/>
                </a:cubicBezTo>
                <a:cubicBezTo>
                  <a:pt x="10249" y="11941"/>
                  <a:pt x="10291" y="11875"/>
                  <a:pt x="10319" y="11807"/>
                </a:cubicBezTo>
                <a:cubicBezTo>
                  <a:pt x="10347" y="11739"/>
                  <a:pt x="10366" y="11677"/>
                  <a:pt x="10393" y="11609"/>
                </a:cubicBezTo>
                <a:cubicBezTo>
                  <a:pt x="10420" y="11540"/>
                  <a:pt x="10436" y="11480"/>
                  <a:pt x="10468" y="11410"/>
                </a:cubicBezTo>
                <a:cubicBezTo>
                  <a:pt x="10496" y="11347"/>
                  <a:pt x="10538" y="11298"/>
                  <a:pt x="10567" y="11237"/>
                </a:cubicBezTo>
                <a:cubicBezTo>
                  <a:pt x="10602" y="11163"/>
                  <a:pt x="10625" y="11086"/>
                  <a:pt x="10666" y="11013"/>
                </a:cubicBezTo>
                <a:cubicBezTo>
                  <a:pt x="10704" y="10944"/>
                  <a:pt x="10750" y="10885"/>
                  <a:pt x="10790" y="10815"/>
                </a:cubicBezTo>
                <a:cubicBezTo>
                  <a:pt x="10844" y="10721"/>
                  <a:pt x="10889" y="10653"/>
                  <a:pt x="10939" y="10567"/>
                </a:cubicBezTo>
                <a:cubicBezTo>
                  <a:pt x="10970" y="10515"/>
                  <a:pt x="11006" y="10468"/>
                  <a:pt x="11038" y="10418"/>
                </a:cubicBezTo>
                <a:cubicBezTo>
                  <a:pt x="11086" y="10342"/>
                  <a:pt x="11106" y="10288"/>
                  <a:pt x="11162" y="10220"/>
                </a:cubicBezTo>
                <a:cubicBezTo>
                  <a:pt x="11206" y="10166"/>
                  <a:pt x="11242" y="10121"/>
                  <a:pt x="11286" y="10071"/>
                </a:cubicBezTo>
                <a:cubicBezTo>
                  <a:pt x="11320" y="10032"/>
                  <a:pt x="11369" y="10015"/>
                  <a:pt x="11410" y="9971"/>
                </a:cubicBezTo>
                <a:cubicBezTo>
                  <a:pt x="11452" y="9926"/>
                  <a:pt x="11470" y="9888"/>
                  <a:pt x="11509" y="9847"/>
                </a:cubicBezTo>
                <a:cubicBezTo>
                  <a:pt x="11536" y="9819"/>
                  <a:pt x="11633" y="9693"/>
                  <a:pt x="11658" y="9674"/>
                </a:cubicBezTo>
                <a:cubicBezTo>
                  <a:pt x="11692" y="9647"/>
                  <a:pt x="11770" y="9627"/>
                  <a:pt x="11807" y="9599"/>
                </a:cubicBezTo>
                <a:cubicBezTo>
                  <a:pt x="11830" y="9584"/>
                  <a:pt x="11825" y="9519"/>
                  <a:pt x="11881" y="9500"/>
                </a:cubicBezTo>
                <a:cubicBezTo>
                  <a:pt x="11918" y="9487"/>
                  <a:pt x="11940" y="9460"/>
                  <a:pt x="11981" y="9451"/>
                </a:cubicBezTo>
                <a:cubicBezTo>
                  <a:pt x="12247" y="9395"/>
                  <a:pt x="12483" y="9500"/>
                  <a:pt x="12700" y="9599"/>
                </a:cubicBezTo>
                <a:cubicBezTo>
                  <a:pt x="12765" y="9628"/>
                  <a:pt x="12830" y="9651"/>
                  <a:pt x="12898" y="9699"/>
                </a:cubicBezTo>
                <a:cubicBezTo>
                  <a:pt x="12952" y="9737"/>
                  <a:pt x="12983" y="9790"/>
                  <a:pt x="13022" y="9823"/>
                </a:cubicBezTo>
                <a:cubicBezTo>
                  <a:pt x="13038" y="9839"/>
                  <a:pt x="13088" y="9824"/>
                  <a:pt x="13097" y="9847"/>
                </a:cubicBezTo>
                <a:cubicBezTo>
                  <a:pt x="13097" y="9864"/>
                  <a:pt x="13097" y="9880"/>
                  <a:pt x="13097" y="9897"/>
                </a:cubicBezTo>
              </a:path>
              <a:path w="7120" h="7492">
                <a:moveTo>
                  <a:pt x="13171" y="9475"/>
                </a:moveTo>
                <a:cubicBezTo>
                  <a:pt x="13196" y="9566"/>
                  <a:pt x="13200" y="9602"/>
                  <a:pt x="13246" y="9674"/>
                </a:cubicBezTo>
                <a:cubicBezTo>
                  <a:pt x="13277" y="9722"/>
                  <a:pt x="13310" y="9778"/>
                  <a:pt x="13345" y="9823"/>
                </a:cubicBezTo>
                <a:cubicBezTo>
                  <a:pt x="13384" y="9873"/>
                  <a:pt x="13387" y="9890"/>
                  <a:pt x="13370" y="9897"/>
                </a:cubicBezTo>
                <a:cubicBezTo>
                  <a:pt x="13282" y="9934"/>
                  <a:pt x="13193" y="9922"/>
                  <a:pt x="13097" y="9922"/>
                </a:cubicBezTo>
                <a:cubicBezTo>
                  <a:pt x="13006" y="9922"/>
                  <a:pt x="12915" y="9922"/>
                  <a:pt x="12824" y="9922"/>
                </a:cubicBezTo>
              </a:path>
              <a:path w="7120" h="7492">
                <a:moveTo>
                  <a:pt x="12774" y="15429"/>
                </a:moveTo>
                <a:cubicBezTo>
                  <a:pt x="12730" y="15429"/>
                  <a:pt x="12713" y="15417"/>
                  <a:pt x="12700" y="15453"/>
                </a:cubicBezTo>
                <a:cubicBezTo>
                  <a:pt x="12720" y="15468"/>
                  <a:pt x="12806" y="15491"/>
                  <a:pt x="12799" y="15429"/>
                </a:cubicBezTo>
                <a:cubicBezTo>
                  <a:pt x="12795" y="15395"/>
                  <a:pt x="12688" y="15391"/>
                  <a:pt x="12675" y="15404"/>
                </a:cubicBezTo>
                <a:cubicBezTo>
                  <a:pt x="12675" y="15429"/>
                  <a:pt x="12675" y="15437"/>
                  <a:pt x="12650" y="15429"/>
                </a:cubicBezTo>
                <a:cubicBezTo>
                  <a:pt x="12668" y="15482"/>
                  <a:pt x="12686" y="15441"/>
                  <a:pt x="12725" y="15429"/>
                </a:cubicBezTo>
                <a:cubicBezTo>
                  <a:pt x="12768" y="15415"/>
                  <a:pt x="12759" y="15450"/>
                  <a:pt x="12774" y="15404"/>
                </a:cubicBezTo>
                <a:cubicBezTo>
                  <a:pt x="12729" y="15412"/>
                  <a:pt x="12698" y="15412"/>
                  <a:pt x="12750" y="15429"/>
                </a:cubicBezTo>
              </a:path>
              <a:path w="7120" h="7492">
                <a:moveTo>
                  <a:pt x="10096" y="11187"/>
                </a:moveTo>
                <a:cubicBezTo>
                  <a:pt x="10096" y="11120"/>
                  <a:pt x="10096" y="11226"/>
                  <a:pt x="10096" y="11237"/>
                </a:cubicBezTo>
                <a:cubicBezTo>
                  <a:pt x="10142" y="11237"/>
                  <a:pt x="10160" y="11243"/>
                  <a:pt x="10195" y="11212"/>
                </a:cubicBezTo>
                <a:cubicBezTo>
                  <a:pt x="10244" y="11168"/>
                  <a:pt x="10181" y="11191"/>
                  <a:pt x="10170" y="11237"/>
                </a:cubicBezTo>
              </a:path>
              <a:path w="7120" h="7492">
                <a:moveTo>
                  <a:pt x="8434" y="14833"/>
                </a:moveTo>
                <a:cubicBezTo>
                  <a:pt x="8504" y="14824"/>
                  <a:pt x="8568" y="14825"/>
                  <a:pt x="8607" y="14808"/>
                </a:cubicBezTo>
                <a:cubicBezTo>
                  <a:pt x="8646" y="14791"/>
                  <a:pt x="8665" y="14782"/>
                  <a:pt x="8706" y="14759"/>
                </a:cubicBezTo>
                <a:cubicBezTo>
                  <a:pt x="8745" y="14737"/>
                  <a:pt x="8772" y="14718"/>
                  <a:pt x="8806" y="14684"/>
                </a:cubicBezTo>
                <a:cubicBezTo>
                  <a:pt x="8825" y="14666"/>
                  <a:pt x="8835" y="14639"/>
                  <a:pt x="8855" y="14610"/>
                </a:cubicBezTo>
                <a:cubicBezTo>
                  <a:pt x="8867" y="14593"/>
                  <a:pt x="8889" y="14570"/>
                  <a:pt x="8905" y="14536"/>
                </a:cubicBezTo>
                <a:cubicBezTo>
                  <a:pt x="8926" y="14492"/>
                  <a:pt x="8936" y="14451"/>
                  <a:pt x="8954" y="14412"/>
                </a:cubicBezTo>
                <a:cubicBezTo>
                  <a:pt x="8971" y="14375"/>
                  <a:pt x="8988" y="14332"/>
                  <a:pt x="9004" y="14288"/>
                </a:cubicBezTo>
                <a:cubicBezTo>
                  <a:pt x="9021" y="14240"/>
                  <a:pt x="9036" y="14188"/>
                  <a:pt x="9054" y="14139"/>
                </a:cubicBezTo>
                <a:cubicBezTo>
                  <a:pt x="9069" y="14098"/>
                  <a:pt x="9090" y="14055"/>
                  <a:pt x="9103" y="14015"/>
                </a:cubicBezTo>
                <a:cubicBezTo>
                  <a:pt x="9121" y="13960"/>
                  <a:pt x="9134" y="13899"/>
                  <a:pt x="9153" y="13841"/>
                </a:cubicBezTo>
                <a:cubicBezTo>
                  <a:pt x="9169" y="13792"/>
                  <a:pt x="9189" y="13736"/>
                  <a:pt x="9203" y="13692"/>
                </a:cubicBezTo>
                <a:cubicBezTo>
                  <a:pt x="9232" y="13602"/>
                  <a:pt x="9272" y="13511"/>
                  <a:pt x="9302" y="13419"/>
                </a:cubicBezTo>
                <a:cubicBezTo>
                  <a:pt x="9319" y="13368"/>
                  <a:pt x="9328" y="13296"/>
                  <a:pt x="9351" y="13246"/>
                </a:cubicBezTo>
                <a:cubicBezTo>
                  <a:pt x="9378" y="13186"/>
                  <a:pt x="9403" y="13124"/>
                  <a:pt x="9426" y="13072"/>
                </a:cubicBezTo>
                <a:cubicBezTo>
                  <a:pt x="9452" y="13014"/>
                  <a:pt x="9478" y="12955"/>
                  <a:pt x="9500" y="12898"/>
                </a:cubicBezTo>
                <a:cubicBezTo>
                  <a:pt x="9526" y="12830"/>
                  <a:pt x="9528" y="12763"/>
                  <a:pt x="9550" y="12700"/>
                </a:cubicBezTo>
                <a:cubicBezTo>
                  <a:pt x="9573" y="12635"/>
                  <a:pt x="9601" y="12590"/>
                  <a:pt x="9624" y="12526"/>
                </a:cubicBezTo>
                <a:cubicBezTo>
                  <a:pt x="9641" y="12479"/>
                  <a:pt x="9661" y="12421"/>
                  <a:pt x="9674" y="12378"/>
                </a:cubicBezTo>
                <a:cubicBezTo>
                  <a:pt x="9692" y="12320"/>
                  <a:pt x="9705" y="12267"/>
                  <a:pt x="9723" y="12204"/>
                </a:cubicBezTo>
                <a:cubicBezTo>
                  <a:pt x="9736" y="12159"/>
                  <a:pt x="9753" y="12076"/>
                  <a:pt x="9773" y="12030"/>
                </a:cubicBezTo>
                <a:cubicBezTo>
                  <a:pt x="9787" y="11998"/>
                  <a:pt x="9808" y="11962"/>
                  <a:pt x="9823" y="11931"/>
                </a:cubicBezTo>
                <a:cubicBezTo>
                  <a:pt x="9839" y="11898"/>
                  <a:pt x="9856" y="11863"/>
                  <a:pt x="9872" y="11832"/>
                </a:cubicBezTo>
                <a:cubicBezTo>
                  <a:pt x="9890" y="11797"/>
                  <a:pt x="9907" y="11769"/>
                  <a:pt x="9922" y="11733"/>
                </a:cubicBezTo>
                <a:cubicBezTo>
                  <a:pt x="9936" y="11699"/>
                  <a:pt x="9957" y="11667"/>
                  <a:pt x="9971" y="11633"/>
                </a:cubicBezTo>
                <a:cubicBezTo>
                  <a:pt x="9985" y="11600"/>
                  <a:pt x="10008" y="11567"/>
                  <a:pt x="10021" y="11534"/>
                </a:cubicBezTo>
                <a:cubicBezTo>
                  <a:pt x="10033" y="11501"/>
                  <a:pt x="10033" y="11467"/>
                  <a:pt x="10046" y="11435"/>
                </a:cubicBezTo>
                <a:cubicBezTo>
                  <a:pt x="10057" y="11408"/>
                  <a:pt x="10058" y="11361"/>
                  <a:pt x="10071" y="11336"/>
                </a:cubicBezTo>
                <a:cubicBezTo>
                  <a:pt x="10083" y="11314"/>
                  <a:pt x="10107" y="11251"/>
                  <a:pt x="10120" y="11237"/>
                </a:cubicBezTo>
                <a:cubicBezTo>
                  <a:pt x="10132" y="11224"/>
                  <a:pt x="10167" y="11201"/>
                  <a:pt x="10195" y="11187"/>
                </a:cubicBezTo>
                <a:cubicBezTo>
                  <a:pt x="10228" y="11170"/>
                  <a:pt x="10254" y="11166"/>
                  <a:pt x="10294" y="11162"/>
                </a:cubicBezTo>
                <a:cubicBezTo>
                  <a:pt x="10363" y="11155"/>
                  <a:pt x="10410" y="11174"/>
                  <a:pt x="10468" y="11187"/>
                </a:cubicBezTo>
                <a:cubicBezTo>
                  <a:pt x="10531" y="11201"/>
                  <a:pt x="10562" y="11228"/>
                  <a:pt x="10616" y="11261"/>
                </a:cubicBezTo>
                <a:cubicBezTo>
                  <a:pt x="10685" y="11304"/>
                  <a:pt x="10733" y="11371"/>
                  <a:pt x="10765" y="11410"/>
                </a:cubicBezTo>
                <a:cubicBezTo>
                  <a:pt x="10795" y="11447"/>
                  <a:pt x="10818" y="11471"/>
                  <a:pt x="10840" y="11509"/>
                </a:cubicBezTo>
                <a:cubicBezTo>
                  <a:pt x="10871" y="11564"/>
                  <a:pt x="10886" y="11603"/>
                  <a:pt x="10914" y="11658"/>
                </a:cubicBezTo>
                <a:cubicBezTo>
                  <a:pt x="10938" y="11707"/>
                  <a:pt x="10963" y="11757"/>
                  <a:pt x="10988" y="11807"/>
                </a:cubicBezTo>
                <a:cubicBezTo>
                  <a:pt x="11013" y="11858"/>
                  <a:pt x="11035" y="11900"/>
                  <a:pt x="11063" y="11956"/>
                </a:cubicBezTo>
                <a:cubicBezTo>
                  <a:pt x="11088" y="12006"/>
                  <a:pt x="11109" y="12049"/>
                  <a:pt x="11137" y="12105"/>
                </a:cubicBezTo>
                <a:cubicBezTo>
                  <a:pt x="11163" y="12156"/>
                  <a:pt x="11190" y="12205"/>
                  <a:pt x="11212" y="12254"/>
                </a:cubicBezTo>
                <a:cubicBezTo>
                  <a:pt x="11250" y="12338"/>
                  <a:pt x="11283" y="12424"/>
                  <a:pt x="11311" y="12502"/>
                </a:cubicBezTo>
                <a:cubicBezTo>
                  <a:pt x="11339" y="12580"/>
                  <a:pt x="11363" y="12626"/>
                  <a:pt x="11385" y="12725"/>
                </a:cubicBezTo>
                <a:cubicBezTo>
                  <a:pt x="11394" y="12765"/>
                  <a:pt x="11398" y="12806"/>
                  <a:pt x="11410" y="12849"/>
                </a:cubicBezTo>
                <a:cubicBezTo>
                  <a:pt x="11426" y="12906"/>
                  <a:pt x="11436" y="12939"/>
                  <a:pt x="11460" y="12998"/>
                </a:cubicBezTo>
                <a:cubicBezTo>
                  <a:pt x="11476" y="13039"/>
                  <a:pt x="11492" y="13084"/>
                  <a:pt x="11509" y="13122"/>
                </a:cubicBezTo>
                <a:cubicBezTo>
                  <a:pt x="11525" y="13158"/>
                  <a:pt x="11542" y="13208"/>
                  <a:pt x="11559" y="13246"/>
                </a:cubicBezTo>
                <a:cubicBezTo>
                  <a:pt x="11573" y="13279"/>
                  <a:pt x="11594" y="13314"/>
                  <a:pt x="11609" y="13345"/>
                </a:cubicBezTo>
                <a:cubicBezTo>
                  <a:pt x="11634" y="13398"/>
                  <a:pt x="11662" y="13446"/>
                  <a:pt x="11683" y="13494"/>
                </a:cubicBezTo>
                <a:cubicBezTo>
                  <a:pt x="11705" y="13544"/>
                  <a:pt x="11734" y="13592"/>
                  <a:pt x="11757" y="13643"/>
                </a:cubicBezTo>
                <a:cubicBezTo>
                  <a:pt x="11772" y="13677"/>
                  <a:pt x="11791" y="13708"/>
                  <a:pt x="11807" y="13742"/>
                </a:cubicBezTo>
                <a:cubicBezTo>
                  <a:pt x="11823" y="13776"/>
                  <a:pt x="11839" y="13806"/>
                  <a:pt x="11857" y="13841"/>
                </a:cubicBezTo>
                <a:cubicBezTo>
                  <a:pt x="11876" y="13878"/>
                  <a:pt x="11886" y="13928"/>
                  <a:pt x="11906" y="13965"/>
                </a:cubicBezTo>
                <a:cubicBezTo>
                  <a:pt x="11924" y="13998"/>
                  <a:pt x="11939" y="14034"/>
                  <a:pt x="11956" y="14064"/>
                </a:cubicBezTo>
                <a:cubicBezTo>
                  <a:pt x="11980" y="14106"/>
                  <a:pt x="12006" y="14139"/>
                  <a:pt x="12030" y="14188"/>
                </a:cubicBezTo>
                <a:cubicBezTo>
                  <a:pt x="12047" y="14222"/>
                  <a:pt x="12060" y="14253"/>
                  <a:pt x="12080" y="14288"/>
                </a:cubicBezTo>
                <a:cubicBezTo>
                  <a:pt x="12096" y="14317"/>
                  <a:pt x="12119" y="14347"/>
                  <a:pt x="12129" y="14362"/>
                </a:cubicBezTo>
                <a:cubicBezTo>
                  <a:pt x="12147" y="14387"/>
                  <a:pt x="12196" y="14448"/>
                  <a:pt x="12204" y="14461"/>
                </a:cubicBezTo>
                <a:cubicBezTo>
                  <a:pt x="12222" y="14491"/>
                  <a:pt x="12214" y="14510"/>
                  <a:pt x="12229" y="14536"/>
                </a:cubicBezTo>
                <a:cubicBezTo>
                  <a:pt x="12244" y="14563"/>
                  <a:pt x="12260" y="14593"/>
                  <a:pt x="12278" y="14635"/>
                </a:cubicBezTo>
                <a:cubicBezTo>
                  <a:pt x="12294" y="14671"/>
                  <a:pt x="12311" y="14726"/>
                  <a:pt x="12328" y="14759"/>
                </a:cubicBezTo>
                <a:cubicBezTo>
                  <a:pt x="12332" y="14766"/>
                  <a:pt x="12366" y="14809"/>
                  <a:pt x="12378" y="14833"/>
                </a:cubicBezTo>
                <a:cubicBezTo>
                  <a:pt x="12400" y="14875"/>
                  <a:pt x="12425" y="14916"/>
                  <a:pt x="12452" y="14957"/>
                </a:cubicBezTo>
                <a:cubicBezTo>
                  <a:pt x="12471" y="14986"/>
                  <a:pt x="12516" y="15040"/>
                  <a:pt x="12526" y="15056"/>
                </a:cubicBezTo>
                <a:cubicBezTo>
                  <a:pt x="12551" y="15094"/>
                  <a:pt x="12571" y="15143"/>
                  <a:pt x="12601" y="15180"/>
                </a:cubicBezTo>
                <a:cubicBezTo>
                  <a:pt x="12628" y="15213"/>
                  <a:pt x="12652" y="15232"/>
                  <a:pt x="12675" y="15255"/>
                </a:cubicBezTo>
                <a:cubicBezTo>
                  <a:pt x="12702" y="15283"/>
                  <a:pt x="12727" y="15307"/>
                  <a:pt x="12750" y="15329"/>
                </a:cubicBezTo>
                <a:cubicBezTo>
                  <a:pt x="12788" y="15366"/>
                  <a:pt x="12774" y="15379"/>
                  <a:pt x="12824" y="15404"/>
                </a:cubicBezTo>
                <a:cubicBezTo>
                  <a:pt x="12868" y="15426"/>
                  <a:pt x="12918" y="15449"/>
                  <a:pt x="12973" y="15453"/>
                </a:cubicBezTo>
                <a:cubicBezTo>
                  <a:pt x="13034" y="15457"/>
                  <a:pt x="13118" y="15446"/>
                  <a:pt x="13171" y="15429"/>
                </a:cubicBezTo>
                <a:cubicBezTo>
                  <a:pt x="13228" y="15411"/>
                  <a:pt x="13268" y="15386"/>
                  <a:pt x="13320" y="15354"/>
                </a:cubicBezTo>
                <a:cubicBezTo>
                  <a:pt x="13365" y="15326"/>
                  <a:pt x="13406" y="15293"/>
                  <a:pt x="13444" y="15255"/>
                </a:cubicBezTo>
                <a:cubicBezTo>
                  <a:pt x="13479" y="15221"/>
                  <a:pt x="13487" y="15185"/>
                  <a:pt x="13519" y="15156"/>
                </a:cubicBezTo>
                <a:cubicBezTo>
                  <a:pt x="13552" y="15126"/>
                  <a:pt x="13582" y="15114"/>
                  <a:pt x="13618" y="15081"/>
                </a:cubicBezTo>
              </a:path>
              <a:path w="7120" h="7492">
                <a:moveTo>
                  <a:pt x="13370" y="14982"/>
                </a:moveTo>
                <a:cubicBezTo>
                  <a:pt x="13392" y="14999"/>
                  <a:pt x="13435" y="15026"/>
                  <a:pt x="13469" y="15007"/>
                </a:cubicBezTo>
                <a:cubicBezTo>
                  <a:pt x="13507" y="14986"/>
                  <a:pt x="13552" y="14948"/>
                  <a:pt x="13593" y="14932"/>
                </a:cubicBezTo>
                <a:cubicBezTo>
                  <a:pt x="13621" y="14932"/>
                  <a:pt x="13632" y="14930"/>
                  <a:pt x="13643" y="14908"/>
                </a:cubicBezTo>
                <a:cubicBezTo>
                  <a:pt x="13683" y="14921"/>
                  <a:pt x="13737" y="15008"/>
                  <a:pt x="13767" y="15056"/>
                </a:cubicBezTo>
                <a:cubicBezTo>
                  <a:pt x="13827" y="15153"/>
                  <a:pt x="13899" y="15208"/>
                  <a:pt x="13990" y="152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84320" y="4375080"/>
            <a:ext cx="446400" cy="1054080"/>
          </a:xfrm>
          <a:custGeom>
            <a:avLst/>
            <a:gdLst/>
            <a:ahLst/>
            <a:rect l="l" t="t" r="r" b="b"/>
            <a:pathLst>
              <a:path w="1241" h="2928">
                <a:moveTo>
                  <a:pt x="8285" y="12154"/>
                </a:moveTo>
                <a:cubicBezTo>
                  <a:pt x="8285" y="12329"/>
                  <a:pt x="8275" y="12503"/>
                  <a:pt x="8310" y="12675"/>
                </a:cubicBezTo>
                <a:cubicBezTo>
                  <a:pt x="8330" y="12776"/>
                  <a:pt x="8319" y="12872"/>
                  <a:pt x="8334" y="12973"/>
                </a:cubicBezTo>
                <a:cubicBezTo>
                  <a:pt x="8342" y="13014"/>
                  <a:pt x="8351" y="13056"/>
                  <a:pt x="8359" y="13097"/>
                </a:cubicBezTo>
              </a:path>
              <a:path w="1241" h="2928">
                <a:moveTo>
                  <a:pt x="8012" y="13643"/>
                </a:moveTo>
                <a:cubicBezTo>
                  <a:pt x="8123" y="13648"/>
                  <a:pt x="8248" y="13682"/>
                  <a:pt x="8359" y="13667"/>
                </a:cubicBezTo>
                <a:cubicBezTo>
                  <a:pt x="8435" y="13656"/>
                  <a:pt x="8500" y="13653"/>
                  <a:pt x="8558" y="13618"/>
                </a:cubicBezTo>
              </a:path>
              <a:path w="1241" h="2928">
                <a:moveTo>
                  <a:pt x="8136" y="13618"/>
                </a:moveTo>
                <a:cubicBezTo>
                  <a:pt x="8118" y="13707"/>
                  <a:pt x="8097" y="13805"/>
                  <a:pt x="8086" y="13891"/>
                </a:cubicBezTo>
                <a:cubicBezTo>
                  <a:pt x="8080" y="13940"/>
                  <a:pt x="8091" y="14086"/>
                  <a:pt x="8136" y="14114"/>
                </a:cubicBezTo>
                <a:cubicBezTo>
                  <a:pt x="8144" y="14114"/>
                  <a:pt x="8153" y="14114"/>
                  <a:pt x="8161" y="14114"/>
                </a:cubicBezTo>
              </a:path>
              <a:path w="1241" h="2928">
                <a:moveTo>
                  <a:pt x="8483" y="13643"/>
                </a:moveTo>
                <a:cubicBezTo>
                  <a:pt x="8483" y="13741"/>
                  <a:pt x="8497" y="13824"/>
                  <a:pt x="8508" y="13915"/>
                </a:cubicBezTo>
                <a:cubicBezTo>
                  <a:pt x="8520" y="14007"/>
                  <a:pt x="8541" y="14076"/>
                  <a:pt x="8582" y="14163"/>
                </a:cubicBezTo>
                <a:cubicBezTo>
                  <a:pt x="8607" y="14213"/>
                  <a:pt x="8615" y="14230"/>
                  <a:pt x="8657" y="14238"/>
                </a:cubicBezTo>
              </a:path>
              <a:path w="1241" h="2928">
                <a:moveTo>
                  <a:pt x="8806" y="13742"/>
                </a:moveTo>
                <a:cubicBezTo>
                  <a:pt x="8748" y="13865"/>
                  <a:pt x="8687" y="13989"/>
                  <a:pt x="8632" y="14114"/>
                </a:cubicBezTo>
                <a:cubicBezTo>
                  <a:pt x="8581" y="14229"/>
                  <a:pt x="8526" y="14345"/>
                  <a:pt x="8483" y="14461"/>
                </a:cubicBezTo>
                <a:cubicBezTo>
                  <a:pt x="8451" y="14547"/>
                  <a:pt x="8425" y="14627"/>
                  <a:pt x="8384" y="14709"/>
                </a:cubicBezTo>
                <a:cubicBezTo>
                  <a:pt x="8358" y="14761"/>
                  <a:pt x="8334" y="14776"/>
                  <a:pt x="8334" y="14833"/>
                </a:cubicBezTo>
              </a:path>
              <a:path w="1241" h="2928">
                <a:moveTo>
                  <a:pt x="8632" y="14486"/>
                </a:moveTo>
                <a:cubicBezTo>
                  <a:pt x="8692" y="14495"/>
                  <a:pt x="8897" y="14467"/>
                  <a:pt x="8905" y="14585"/>
                </a:cubicBezTo>
                <a:cubicBezTo>
                  <a:pt x="8908" y="14629"/>
                  <a:pt x="8864" y="14704"/>
                  <a:pt x="8830" y="14734"/>
                </a:cubicBezTo>
                <a:cubicBezTo>
                  <a:pt x="8790" y="14769"/>
                  <a:pt x="8745" y="14793"/>
                  <a:pt x="8706" y="14833"/>
                </a:cubicBezTo>
                <a:cubicBezTo>
                  <a:pt x="8668" y="14871"/>
                  <a:pt x="8681" y="14920"/>
                  <a:pt x="8706" y="14957"/>
                </a:cubicBezTo>
                <a:cubicBezTo>
                  <a:pt x="8732" y="14996"/>
                  <a:pt x="8859" y="15013"/>
                  <a:pt x="8905" y="15032"/>
                </a:cubicBezTo>
                <a:cubicBezTo>
                  <a:pt x="8963" y="15057"/>
                  <a:pt x="9064" y="15095"/>
                  <a:pt x="9128" y="15081"/>
                </a:cubicBezTo>
                <a:cubicBezTo>
                  <a:pt x="9172" y="15072"/>
                  <a:pt x="9216" y="15053"/>
                  <a:pt x="9252" y="15032"/>
                </a:cubicBezTo>
              </a:path>
              <a:path w="1241" h="2928">
                <a:moveTo>
                  <a:pt x="8508" y="15007"/>
                </a:moveTo>
                <a:cubicBezTo>
                  <a:pt x="8526" y="15062"/>
                  <a:pt x="8543" y="15020"/>
                  <a:pt x="8582" y="15007"/>
                </a:cubicBezTo>
                <a:cubicBezTo>
                  <a:pt x="8614" y="14996"/>
                  <a:pt x="8621" y="14989"/>
                  <a:pt x="8632" y="14957"/>
                </a:cubicBezTo>
                <a:cubicBezTo>
                  <a:pt x="8618" y="14915"/>
                  <a:pt x="8584" y="14932"/>
                  <a:pt x="8533" y="14932"/>
                </a:cubicBezTo>
                <a:cubicBezTo>
                  <a:pt x="8502" y="14932"/>
                  <a:pt x="8487" y="14974"/>
                  <a:pt x="8483" y="15007"/>
                </a:cubicBezTo>
                <a:cubicBezTo>
                  <a:pt x="8483" y="15015"/>
                  <a:pt x="8483" y="15024"/>
                  <a:pt x="8483" y="15032"/>
                </a:cubicBezTo>
                <a:cubicBezTo>
                  <a:pt x="8520" y="15044"/>
                  <a:pt x="8505" y="15056"/>
                  <a:pt x="8558" y="15056"/>
                </a:cubicBezTo>
                <a:cubicBezTo>
                  <a:pt x="8612" y="15056"/>
                  <a:pt x="8612" y="15013"/>
                  <a:pt x="8632" y="14982"/>
                </a:cubicBezTo>
                <a:cubicBezTo>
                  <a:pt x="8658" y="14942"/>
                  <a:pt x="8657" y="14932"/>
                  <a:pt x="8657" y="14883"/>
                </a:cubicBezTo>
                <a:cubicBezTo>
                  <a:pt x="8601" y="14883"/>
                  <a:pt x="8582" y="14876"/>
                  <a:pt x="8558" y="14908"/>
                </a:cubicBezTo>
                <a:cubicBezTo>
                  <a:pt x="8526" y="14950"/>
                  <a:pt x="8533" y="14976"/>
                  <a:pt x="8533" y="15032"/>
                </a:cubicBezTo>
                <a:cubicBezTo>
                  <a:pt x="8579" y="15032"/>
                  <a:pt x="8597" y="15038"/>
                  <a:pt x="8632" y="15007"/>
                </a:cubicBezTo>
                <a:cubicBezTo>
                  <a:pt x="8652" y="14989"/>
                  <a:pt x="8720" y="14940"/>
                  <a:pt x="8706" y="14908"/>
                </a:cubicBezTo>
                <a:cubicBezTo>
                  <a:pt x="8698" y="14890"/>
                  <a:pt x="8625" y="14850"/>
                  <a:pt x="8607" y="14858"/>
                </a:cubicBezTo>
                <a:cubicBezTo>
                  <a:pt x="8585" y="14880"/>
                  <a:pt x="8580" y="14889"/>
                  <a:pt x="8558" y="14883"/>
                </a:cubicBezTo>
                <a:cubicBezTo>
                  <a:pt x="8558" y="14916"/>
                  <a:pt x="8545" y="14963"/>
                  <a:pt x="8582" y="14982"/>
                </a:cubicBezTo>
                <a:cubicBezTo>
                  <a:pt x="8605" y="14994"/>
                  <a:pt x="8673" y="14985"/>
                  <a:pt x="8682" y="14957"/>
                </a:cubicBezTo>
                <a:cubicBezTo>
                  <a:pt x="8704" y="14887"/>
                  <a:pt x="8670" y="14883"/>
                  <a:pt x="8632" y="14858"/>
                </a:cubicBezTo>
                <a:cubicBezTo>
                  <a:pt x="8609" y="14835"/>
                  <a:pt x="8605" y="14827"/>
                  <a:pt x="8582" y="148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20840" y="3187800"/>
            <a:ext cx="90360" cy="2884320"/>
          </a:xfrm>
          <a:custGeom>
            <a:avLst/>
            <a:gdLst/>
            <a:ahLst/>
            <a:rect l="l" t="t" r="r" b="b"/>
            <a:pathLst>
              <a:path w="249" h="8013">
                <a:moveTo>
                  <a:pt x="3671" y="8855"/>
                </a:moveTo>
                <a:cubicBezTo>
                  <a:pt x="3678" y="8895"/>
                  <a:pt x="3689" y="8953"/>
                  <a:pt x="3696" y="9004"/>
                </a:cubicBezTo>
                <a:cubicBezTo>
                  <a:pt x="3701" y="9041"/>
                  <a:pt x="3715" y="9104"/>
                  <a:pt x="3721" y="9153"/>
                </a:cubicBezTo>
                <a:cubicBezTo>
                  <a:pt x="3728" y="9211"/>
                  <a:pt x="3742" y="9270"/>
                  <a:pt x="3746" y="9327"/>
                </a:cubicBezTo>
                <a:cubicBezTo>
                  <a:pt x="3752" y="9416"/>
                  <a:pt x="3765" y="9516"/>
                  <a:pt x="3770" y="9599"/>
                </a:cubicBezTo>
                <a:cubicBezTo>
                  <a:pt x="3826" y="10581"/>
                  <a:pt x="3765" y="11574"/>
                  <a:pt x="3820" y="12551"/>
                </a:cubicBezTo>
                <a:cubicBezTo>
                  <a:pt x="3829" y="12707"/>
                  <a:pt x="3837" y="12868"/>
                  <a:pt x="3845" y="13022"/>
                </a:cubicBezTo>
                <a:cubicBezTo>
                  <a:pt x="3855" y="13212"/>
                  <a:pt x="3860" y="13406"/>
                  <a:pt x="3870" y="13593"/>
                </a:cubicBezTo>
                <a:cubicBezTo>
                  <a:pt x="3879" y="13759"/>
                  <a:pt x="3890" y="13924"/>
                  <a:pt x="3894" y="14089"/>
                </a:cubicBezTo>
                <a:cubicBezTo>
                  <a:pt x="3897" y="14250"/>
                  <a:pt x="3872" y="14401"/>
                  <a:pt x="3870" y="14560"/>
                </a:cubicBezTo>
                <a:cubicBezTo>
                  <a:pt x="3864" y="14991"/>
                  <a:pt x="3877" y="15424"/>
                  <a:pt x="3894" y="15850"/>
                </a:cubicBezTo>
                <a:cubicBezTo>
                  <a:pt x="3899" y="15984"/>
                  <a:pt x="3913" y="16114"/>
                  <a:pt x="3919" y="16247"/>
                </a:cubicBezTo>
                <a:cubicBezTo>
                  <a:pt x="3926" y="16413"/>
                  <a:pt x="3919" y="16760"/>
                  <a:pt x="3919" y="168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3120" y="4456080"/>
            <a:ext cx="5788080" cy="357120"/>
          </a:xfrm>
          <a:custGeom>
            <a:avLst/>
            <a:gdLst/>
            <a:ahLst/>
            <a:rect l="l" t="t" r="r" b="b"/>
            <a:pathLst>
              <a:path w="16075" h="993">
                <a:moveTo>
                  <a:pt x="843" y="12402"/>
                </a:moveTo>
                <a:cubicBezTo>
                  <a:pt x="883" y="12400"/>
                  <a:pt x="875" y="12381"/>
                  <a:pt x="943" y="12378"/>
                </a:cubicBezTo>
                <a:cubicBezTo>
                  <a:pt x="1113" y="12371"/>
                  <a:pt x="1274" y="12389"/>
                  <a:pt x="1439" y="12402"/>
                </a:cubicBezTo>
                <a:cubicBezTo>
                  <a:pt x="1639" y="12418"/>
                  <a:pt x="1833" y="12416"/>
                  <a:pt x="2034" y="12427"/>
                </a:cubicBezTo>
                <a:cubicBezTo>
                  <a:pt x="2142" y="12433"/>
                  <a:pt x="2246" y="12445"/>
                  <a:pt x="2356" y="12452"/>
                </a:cubicBezTo>
                <a:cubicBezTo>
                  <a:pt x="2472" y="12460"/>
                  <a:pt x="2587" y="12467"/>
                  <a:pt x="2704" y="12477"/>
                </a:cubicBezTo>
                <a:cubicBezTo>
                  <a:pt x="2867" y="12491"/>
                  <a:pt x="3035" y="12512"/>
                  <a:pt x="3200" y="12526"/>
                </a:cubicBezTo>
                <a:cubicBezTo>
                  <a:pt x="3366" y="12540"/>
                  <a:pt x="3532" y="12560"/>
                  <a:pt x="3696" y="12576"/>
                </a:cubicBezTo>
                <a:cubicBezTo>
                  <a:pt x="3837" y="12590"/>
                  <a:pt x="3976" y="12612"/>
                  <a:pt x="4118" y="12626"/>
                </a:cubicBezTo>
                <a:cubicBezTo>
                  <a:pt x="4266" y="12641"/>
                  <a:pt x="4416" y="12661"/>
                  <a:pt x="4564" y="12675"/>
                </a:cubicBezTo>
                <a:cubicBezTo>
                  <a:pt x="4721" y="12689"/>
                  <a:pt x="4879" y="12711"/>
                  <a:pt x="5035" y="12725"/>
                </a:cubicBezTo>
                <a:cubicBezTo>
                  <a:pt x="5192" y="12740"/>
                  <a:pt x="5351" y="12760"/>
                  <a:pt x="5507" y="12774"/>
                </a:cubicBezTo>
                <a:cubicBezTo>
                  <a:pt x="5671" y="12788"/>
                  <a:pt x="5839" y="12788"/>
                  <a:pt x="6003" y="12799"/>
                </a:cubicBezTo>
                <a:cubicBezTo>
                  <a:pt x="6169" y="12810"/>
                  <a:pt x="6332" y="12813"/>
                  <a:pt x="6499" y="12824"/>
                </a:cubicBezTo>
                <a:cubicBezTo>
                  <a:pt x="6754" y="12841"/>
                  <a:pt x="7012" y="12854"/>
                  <a:pt x="7268" y="12874"/>
                </a:cubicBezTo>
                <a:cubicBezTo>
                  <a:pt x="7450" y="12888"/>
                  <a:pt x="7630" y="12889"/>
                  <a:pt x="7813" y="12898"/>
                </a:cubicBezTo>
                <a:cubicBezTo>
                  <a:pt x="8037" y="12909"/>
                  <a:pt x="8259" y="12911"/>
                  <a:pt x="8483" y="12923"/>
                </a:cubicBezTo>
                <a:cubicBezTo>
                  <a:pt x="8674" y="12934"/>
                  <a:pt x="8863" y="12937"/>
                  <a:pt x="9054" y="12948"/>
                </a:cubicBezTo>
                <a:cubicBezTo>
                  <a:pt x="9391" y="12967"/>
                  <a:pt x="9733" y="12988"/>
                  <a:pt x="10071" y="12998"/>
                </a:cubicBezTo>
                <a:cubicBezTo>
                  <a:pt x="10469" y="13009"/>
                  <a:pt x="10864" y="13018"/>
                  <a:pt x="11261" y="13022"/>
                </a:cubicBezTo>
                <a:cubicBezTo>
                  <a:pt x="11462" y="13024"/>
                  <a:pt x="11657" y="13041"/>
                  <a:pt x="11857" y="13047"/>
                </a:cubicBezTo>
                <a:cubicBezTo>
                  <a:pt x="12246" y="13058"/>
                  <a:pt x="12633" y="13055"/>
                  <a:pt x="13022" y="13072"/>
                </a:cubicBezTo>
                <a:cubicBezTo>
                  <a:pt x="13360" y="13087"/>
                  <a:pt x="13703" y="13112"/>
                  <a:pt x="14039" y="13122"/>
                </a:cubicBezTo>
                <a:cubicBezTo>
                  <a:pt x="14365" y="13131"/>
                  <a:pt x="14684" y="13147"/>
                  <a:pt x="15007" y="13171"/>
                </a:cubicBezTo>
                <a:cubicBezTo>
                  <a:pt x="15182" y="13184"/>
                  <a:pt x="15354" y="13201"/>
                  <a:pt x="15528" y="13221"/>
                </a:cubicBezTo>
                <a:cubicBezTo>
                  <a:pt x="15767" y="13248"/>
                  <a:pt x="16008" y="13263"/>
                  <a:pt x="16247" y="13295"/>
                </a:cubicBezTo>
                <a:cubicBezTo>
                  <a:pt x="16374" y="13312"/>
                  <a:pt x="16492" y="13338"/>
                  <a:pt x="16619" y="13345"/>
                </a:cubicBezTo>
                <a:cubicBezTo>
                  <a:pt x="16699" y="13349"/>
                  <a:pt x="16761" y="13377"/>
                  <a:pt x="16842" y="13370"/>
                </a:cubicBezTo>
                <a:cubicBezTo>
                  <a:pt x="16882" y="13367"/>
                  <a:pt x="16852" y="13322"/>
                  <a:pt x="16892" y="133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1280" y="5160960"/>
            <a:ext cx="312840" cy="46080"/>
          </a:xfrm>
          <a:custGeom>
            <a:avLst/>
            <a:gdLst/>
            <a:ahLst/>
            <a:rect l="l" t="t" r="r" b="b"/>
            <a:pathLst>
              <a:path w="869" h="125">
                <a:moveTo>
                  <a:pt x="3448" y="14337"/>
                </a:moveTo>
                <a:cubicBezTo>
                  <a:pt x="3553" y="14345"/>
                  <a:pt x="3642" y="14375"/>
                  <a:pt x="3746" y="14387"/>
                </a:cubicBezTo>
                <a:cubicBezTo>
                  <a:pt x="3888" y="14403"/>
                  <a:pt x="4027" y="14442"/>
                  <a:pt x="4167" y="14461"/>
                </a:cubicBezTo>
                <a:cubicBezTo>
                  <a:pt x="4213" y="14467"/>
                  <a:pt x="4335" y="14485"/>
                  <a:pt x="4291" y="14436"/>
                </a:cubicBezTo>
                <a:cubicBezTo>
                  <a:pt x="4266" y="14412"/>
                  <a:pt x="4258" y="14404"/>
                  <a:pt x="4242" y="14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5062680"/>
            <a:ext cx="179640" cy="36360"/>
          </a:xfrm>
          <a:custGeom>
            <a:avLst/>
            <a:gdLst/>
            <a:ahLst/>
            <a:rect l="l" t="t" r="r" b="b"/>
            <a:pathLst>
              <a:path w="498" h="100">
                <a:moveTo>
                  <a:pt x="2480" y="14064"/>
                </a:moveTo>
                <a:cubicBezTo>
                  <a:pt x="2528" y="14102"/>
                  <a:pt x="2593" y="14131"/>
                  <a:pt x="2654" y="14139"/>
                </a:cubicBezTo>
                <a:cubicBezTo>
                  <a:pt x="2768" y="14154"/>
                  <a:pt x="2866" y="14152"/>
                  <a:pt x="2977" y="141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98720" y="5010120"/>
            <a:ext cx="2664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3125" y="13915"/>
                </a:moveTo>
                <a:cubicBezTo>
                  <a:pt x="3110" y="14011"/>
                  <a:pt x="3106" y="14124"/>
                  <a:pt x="3076" y="14213"/>
                </a:cubicBezTo>
                <a:cubicBezTo>
                  <a:pt x="3050" y="14290"/>
                  <a:pt x="3051" y="14354"/>
                  <a:pt x="3051" y="144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41280" y="5680080"/>
            <a:ext cx="347760" cy="61920"/>
          </a:xfrm>
          <a:custGeom>
            <a:avLst/>
            <a:gdLst/>
            <a:ahLst/>
            <a:rect l="l" t="t" r="r" b="b"/>
            <a:pathLst>
              <a:path w="968" h="174">
                <a:moveTo>
                  <a:pt x="3448" y="15776"/>
                </a:moveTo>
                <a:cubicBezTo>
                  <a:pt x="3602" y="15801"/>
                  <a:pt x="3745" y="15830"/>
                  <a:pt x="3894" y="15875"/>
                </a:cubicBezTo>
                <a:cubicBezTo>
                  <a:pt x="4011" y="15910"/>
                  <a:pt x="4120" y="15945"/>
                  <a:pt x="4242" y="15949"/>
                </a:cubicBezTo>
                <a:cubicBezTo>
                  <a:pt x="4308" y="15951"/>
                  <a:pt x="4364" y="15962"/>
                  <a:pt x="4415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4880" y="5545080"/>
            <a:ext cx="152280" cy="19080"/>
          </a:xfrm>
          <a:custGeom>
            <a:avLst/>
            <a:gdLst/>
            <a:ahLst/>
            <a:rect l="l" t="t" r="r" b="b"/>
            <a:pathLst>
              <a:path w="422" h="50">
                <a:moveTo>
                  <a:pt x="1960" y="15404"/>
                </a:moveTo>
                <a:cubicBezTo>
                  <a:pt x="2003" y="15404"/>
                  <a:pt x="2045" y="15416"/>
                  <a:pt x="2084" y="15429"/>
                </a:cubicBezTo>
                <a:cubicBezTo>
                  <a:pt x="2190" y="15466"/>
                  <a:pt x="2239" y="15444"/>
                  <a:pt x="2356" y="15429"/>
                </a:cubicBezTo>
                <a:cubicBezTo>
                  <a:pt x="2364" y="15429"/>
                  <a:pt x="2373" y="15429"/>
                  <a:pt x="2381" y="154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9080" y="5527800"/>
            <a:ext cx="152640" cy="285480"/>
          </a:xfrm>
          <a:custGeom>
            <a:avLst/>
            <a:gdLst/>
            <a:ahLst/>
            <a:rect l="l" t="t" r="r" b="b"/>
            <a:pathLst>
              <a:path w="423" h="795">
                <a:moveTo>
                  <a:pt x="2604" y="15354"/>
                </a:moveTo>
                <a:cubicBezTo>
                  <a:pt x="2736" y="15392"/>
                  <a:pt x="2817" y="15440"/>
                  <a:pt x="2877" y="15577"/>
                </a:cubicBezTo>
                <a:cubicBezTo>
                  <a:pt x="2916" y="15667"/>
                  <a:pt x="2842" y="15702"/>
                  <a:pt x="2803" y="15751"/>
                </a:cubicBezTo>
                <a:cubicBezTo>
                  <a:pt x="2763" y="15802"/>
                  <a:pt x="2712" y="15859"/>
                  <a:pt x="2654" y="15900"/>
                </a:cubicBezTo>
                <a:cubicBezTo>
                  <a:pt x="2614" y="15928"/>
                  <a:pt x="2590" y="15939"/>
                  <a:pt x="2555" y="15974"/>
                </a:cubicBezTo>
                <a:cubicBezTo>
                  <a:pt x="2608" y="16027"/>
                  <a:pt x="2641" y="16011"/>
                  <a:pt x="2704" y="16049"/>
                </a:cubicBezTo>
                <a:cubicBezTo>
                  <a:pt x="2753" y="16078"/>
                  <a:pt x="2805" y="16074"/>
                  <a:pt x="2853" y="16098"/>
                </a:cubicBezTo>
                <a:cubicBezTo>
                  <a:pt x="2867" y="16105"/>
                  <a:pt x="2964" y="16161"/>
                  <a:pt x="2977" y="16148"/>
                </a:cubicBezTo>
                <a:cubicBezTo>
                  <a:pt x="2977" y="16140"/>
                  <a:pt x="2977" y="16131"/>
                  <a:pt x="2977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36960" y="6062760"/>
            <a:ext cx="61920" cy="90360"/>
          </a:xfrm>
          <a:custGeom>
            <a:avLst/>
            <a:gdLst/>
            <a:ahLst/>
            <a:rect l="l" t="t" r="r" b="b"/>
            <a:pathLst>
              <a:path w="174" h="249">
                <a:moveTo>
                  <a:pt x="8483" y="17016"/>
                </a:moveTo>
                <a:cubicBezTo>
                  <a:pt x="8483" y="17059"/>
                  <a:pt x="8473" y="17054"/>
                  <a:pt x="8508" y="17066"/>
                </a:cubicBezTo>
                <a:cubicBezTo>
                  <a:pt x="8560" y="17066"/>
                  <a:pt x="8558" y="17068"/>
                  <a:pt x="8558" y="17016"/>
                </a:cubicBezTo>
                <a:cubicBezTo>
                  <a:pt x="8558" y="16964"/>
                  <a:pt x="8560" y="16966"/>
                  <a:pt x="8508" y="16966"/>
                </a:cubicBezTo>
                <a:cubicBezTo>
                  <a:pt x="8462" y="16966"/>
                  <a:pt x="8440" y="16964"/>
                  <a:pt x="8434" y="17016"/>
                </a:cubicBezTo>
                <a:cubicBezTo>
                  <a:pt x="8431" y="17044"/>
                  <a:pt x="8434" y="17111"/>
                  <a:pt x="8483" y="17090"/>
                </a:cubicBezTo>
                <a:cubicBezTo>
                  <a:pt x="8516" y="17076"/>
                  <a:pt x="8526" y="17044"/>
                  <a:pt x="8533" y="17016"/>
                </a:cubicBezTo>
                <a:cubicBezTo>
                  <a:pt x="8520" y="16978"/>
                  <a:pt x="8503" y="16991"/>
                  <a:pt x="8458" y="16991"/>
                </a:cubicBezTo>
                <a:cubicBezTo>
                  <a:pt x="8458" y="17032"/>
                  <a:pt x="8463" y="17071"/>
                  <a:pt x="8508" y="17090"/>
                </a:cubicBezTo>
                <a:cubicBezTo>
                  <a:pt x="8551" y="17109"/>
                  <a:pt x="8603" y="17020"/>
                  <a:pt x="8607" y="16991"/>
                </a:cubicBezTo>
                <a:cubicBezTo>
                  <a:pt x="8616" y="16923"/>
                  <a:pt x="8590" y="16899"/>
                  <a:pt x="8558" y="1684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27160" y="455436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5730" y="12774"/>
                </a:moveTo>
                <a:cubicBezTo>
                  <a:pt x="5775" y="12752"/>
                  <a:pt x="5779" y="12729"/>
                  <a:pt x="5779" y="12675"/>
                </a:cubicBezTo>
                <a:cubicBezTo>
                  <a:pt x="5779" y="12667"/>
                  <a:pt x="5779" y="12658"/>
                  <a:pt x="5779" y="12650"/>
                </a:cubicBezTo>
                <a:cubicBezTo>
                  <a:pt x="5739" y="12650"/>
                  <a:pt x="5699" y="12656"/>
                  <a:pt x="5680" y="12700"/>
                </a:cubicBezTo>
                <a:cubicBezTo>
                  <a:pt x="5661" y="12743"/>
                  <a:pt x="5693" y="12770"/>
                  <a:pt x="5730" y="12774"/>
                </a:cubicBezTo>
                <a:cubicBezTo>
                  <a:pt x="5771" y="12778"/>
                  <a:pt x="5790" y="12765"/>
                  <a:pt x="5804" y="12725"/>
                </a:cubicBezTo>
                <a:cubicBezTo>
                  <a:pt x="5804" y="12700"/>
                  <a:pt x="5804" y="12692"/>
                  <a:pt x="5804" y="12675"/>
                </a:cubicBezTo>
                <a:cubicBezTo>
                  <a:pt x="5759" y="12641"/>
                  <a:pt x="5728" y="12637"/>
                  <a:pt x="5680" y="12675"/>
                </a:cubicBezTo>
                <a:cubicBezTo>
                  <a:pt x="5638" y="12709"/>
                  <a:pt x="5631" y="12693"/>
                  <a:pt x="5631" y="12750"/>
                </a:cubicBezTo>
                <a:cubicBezTo>
                  <a:pt x="5636" y="12765"/>
                  <a:pt x="5672" y="12795"/>
                  <a:pt x="5680" y="12799"/>
                </a:cubicBezTo>
                <a:cubicBezTo>
                  <a:pt x="5715" y="12799"/>
                  <a:pt x="5728" y="12790"/>
                  <a:pt x="5730" y="12750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4840" y="3321000"/>
            <a:ext cx="1098360" cy="2332080"/>
          </a:xfrm>
          <a:custGeom>
            <a:avLst/>
            <a:gdLst/>
            <a:ahLst/>
            <a:rect l="l" t="t" r="r" b="b"/>
            <a:pathLst>
              <a:path w="3052" h="6475">
                <a:moveTo>
                  <a:pt x="3820" y="9302"/>
                </a:moveTo>
                <a:cubicBezTo>
                  <a:pt x="3943" y="9249"/>
                  <a:pt x="3916" y="9215"/>
                  <a:pt x="4043" y="9227"/>
                </a:cubicBezTo>
                <a:cubicBezTo>
                  <a:pt x="4125" y="9235"/>
                  <a:pt x="4145" y="9271"/>
                  <a:pt x="4217" y="9302"/>
                </a:cubicBezTo>
                <a:cubicBezTo>
                  <a:pt x="4291" y="9334"/>
                  <a:pt x="4342" y="9325"/>
                  <a:pt x="4415" y="9376"/>
                </a:cubicBezTo>
                <a:cubicBezTo>
                  <a:pt x="4455" y="9404"/>
                  <a:pt x="4480" y="9444"/>
                  <a:pt x="4514" y="9475"/>
                </a:cubicBezTo>
                <a:cubicBezTo>
                  <a:pt x="4565" y="9523"/>
                  <a:pt x="4595" y="9544"/>
                  <a:pt x="4638" y="9599"/>
                </a:cubicBezTo>
                <a:cubicBezTo>
                  <a:pt x="4686" y="9660"/>
                  <a:pt x="4697" y="9687"/>
                  <a:pt x="4738" y="9748"/>
                </a:cubicBezTo>
                <a:cubicBezTo>
                  <a:pt x="4760" y="9781"/>
                  <a:pt x="4808" y="9850"/>
                  <a:pt x="4837" y="9897"/>
                </a:cubicBezTo>
                <a:cubicBezTo>
                  <a:pt x="4866" y="9944"/>
                  <a:pt x="4908" y="9994"/>
                  <a:pt x="4936" y="10046"/>
                </a:cubicBezTo>
                <a:cubicBezTo>
                  <a:pt x="4962" y="10095"/>
                  <a:pt x="4989" y="10151"/>
                  <a:pt x="5011" y="10195"/>
                </a:cubicBezTo>
                <a:cubicBezTo>
                  <a:pt x="5049" y="10269"/>
                  <a:pt x="5074" y="10343"/>
                  <a:pt x="5110" y="10418"/>
                </a:cubicBezTo>
                <a:cubicBezTo>
                  <a:pt x="5146" y="10493"/>
                  <a:pt x="5196" y="10566"/>
                  <a:pt x="5234" y="10641"/>
                </a:cubicBezTo>
                <a:cubicBezTo>
                  <a:pt x="5284" y="10739"/>
                  <a:pt x="5319" y="10843"/>
                  <a:pt x="5358" y="10939"/>
                </a:cubicBezTo>
                <a:cubicBezTo>
                  <a:pt x="5384" y="11004"/>
                  <a:pt x="5409" y="11045"/>
                  <a:pt x="5432" y="11112"/>
                </a:cubicBezTo>
                <a:cubicBezTo>
                  <a:pt x="5451" y="11169"/>
                  <a:pt x="5464" y="11224"/>
                  <a:pt x="5482" y="11286"/>
                </a:cubicBezTo>
                <a:cubicBezTo>
                  <a:pt x="5501" y="11351"/>
                  <a:pt x="5540" y="11436"/>
                  <a:pt x="5556" y="11509"/>
                </a:cubicBezTo>
                <a:cubicBezTo>
                  <a:pt x="5569" y="11567"/>
                  <a:pt x="5567" y="11625"/>
                  <a:pt x="5581" y="11683"/>
                </a:cubicBezTo>
                <a:cubicBezTo>
                  <a:pt x="5595" y="11739"/>
                  <a:pt x="5615" y="11803"/>
                  <a:pt x="5631" y="11857"/>
                </a:cubicBezTo>
                <a:cubicBezTo>
                  <a:pt x="5645" y="11904"/>
                  <a:pt x="5670" y="11964"/>
                  <a:pt x="5680" y="12005"/>
                </a:cubicBezTo>
                <a:cubicBezTo>
                  <a:pt x="5693" y="12061"/>
                  <a:pt x="5720" y="12130"/>
                  <a:pt x="5730" y="12179"/>
                </a:cubicBezTo>
                <a:cubicBezTo>
                  <a:pt x="5743" y="12241"/>
                  <a:pt x="5745" y="12294"/>
                  <a:pt x="5755" y="12353"/>
                </a:cubicBezTo>
                <a:cubicBezTo>
                  <a:pt x="5765" y="12409"/>
                  <a:pt x="5770" y="12448"/>
                  <a:pt x="5779" y="12502"/>
                </a:cubicBezTo>
                <a:cubicBezTo>
                  <a:pt x="5788" y="12559"/>
                  <a:pt x="5796" y="12595"/>
                  <a:pt x="5804" y="12650"/>
                </a:cubicBezTo>
                <a:cubicBezTo>
                  <a:pt x="5813" y="12707"/>
                  <a:pt x="5816" y="12768"/>
                  <a:pt x="5829" y="12824"/>
                </a:cubicBezTo>
                <a:cubicBezTo>
                  <a:pt x="5843" y="12886"/>
                  <a:pt x="5863" y="12940"/>
                  <a:pt x="5879" y="12998"/>
                </a:cubicBezTo>
                <a:cubicBezTo>
                  <a:pt x="5892" y="13047"/>
                  <a:pt x="5912" y="13116"/>
                  <a:pt x="5928" y="13171"/>
                </a:cubicBezTo>
                <a:cubicBezTo>
                  <a:pt x="5949" y="13242"/>
                  <a:pt x="5976" y="13325"/>
                  <a:pt x="6003" y="13395"/>
                </a:cubicBezTo>
                <a:cubicBezTo>
                  <a:pt x="6027" y="13457"/>
                  <a:pt x="6056" y="13506"/>
                  <a:pt x="6077" y="13568"/>
                </a:cubicBezTo>
                <a:cubicBezTo>
                  <a:pt x="6096" y="13623"/>
                  <a:pt x="6108" y="13684"/>
                  <a:pt x="6127" y="13742"/>
                </a:cubicBezTo>
                <a:cubicBezTo>
                  <a:pt x="6149" y="13810"/>
                  <a:pt x="6178" y="13871"/>
                  <a:pt x="6201" y="13940"/>
                </a:cubicBezTo>
                <a:cubicBezTo>
                  <a:pt x="6228" y="14020"/>
                  <a:pt x="6245" y="14107"/>
                  <a:pt x="6276" y="14188"/>
                </a:cubicBezTo>
                <a:cubicBezTo>
                  <a:pt x="6299" y="14247"/>
                  <a:pt x="6328" y="14302"/>
                  <a:pt x="6350" y="14362"/>
                </a:cubicBezTo>
                <a:cubicBezTo>
                  <a:pt x="6376" y="14433"/>
                  <a:pt x="6393" y="14512"/>
                  <a:pt x="6424" y="14585"/>
                </a:cubicBezTo>
                <a:cubicBezTo>
                  <a:pt x="6466" y="14685"/>
                  <a:pt x="6510" y="14782"/>
                  <a:pt x="6548" y="14883"/>
                </a:cubicBezTo>
                <a:cubicBezTo>
                  <a:pt x="6566" y="14932"/>
                  <a:pt x="6580" y="14981"/>
                  <a:pt x="6598" y="15032"/>
                </a:cubicBezTo>
                <a:cubicBezTo>
                  <a:pt x="6612" y="15072"/>
                  <a:pt x="6631" y="15141"/>
                  <a:pt x="6648" y="15180"/>
                </a:cubicBezTo>
                <a:cubicBezTo>
                  <a:pt x="6665" y="15220"/>
                  <a:pt x="6683" y="15259"/>
                  <a:pt x="6697" y="15304"/>
                </a:cubicBezTo>
                <a:cubicBezTo>
                  <a:pt x="6713" y="15354"/>
                  <a:pt x="6726" y="15424"/>
                  <a:pt x="6747" y="15478"/>
                </a:cubicBezTo>
                <a:cubicBezTo>
                  <a:pt x="6767" y="15530"/>
                  <a:pt x="6793" y="15572"/>
                  <a:pt x="6821" y="15627"/>
                </a:cubicBezTo>
                <a:cubicBezTo>
                  <a:pt x="6834" y="15652"/>
                  <a:pt x="6856" y="15674"/>
                  <a:pt x="6871" y="1570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4840" y="5133960"/>
            <a:ext cx="108000" cy="7308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3944" y="14312"/>
                </a:moveTo>
                <a:cubicBezTo>
                  <a:pt x="3882" y="14297"/>
                  <a:pt x="3902" y="14294"/>
                  <a:pt x="3845" y="14312"/>
                </a:cubicBezTo>
                <a:cubicBezTo>
                  <a:pt x="3837" y="14312"/>
                  <a:pt x="3828" y="14312"/>
                  <a:pt x="3820" y="14312"/>
                </a:cubicBezTo>
                <a:cubicBezTo>
                  <a:pt x="3820" y="14355"/>
                  <a:pt x="3825" y="14372"/>
                  <a:pt x="3870" y="14387"/>
                </a:cubicBezTo>
                <a:cubicBezTo>
                  <a:pt x="3883" y="14391"/>
                  <a:pt x="3952" y="14433"/>
                  <a:pt x="3969" y="14412"/>
                </a:cubicBezTo>
                <a:cubicBezTo>
                  <a:pt x="3988" y="14389"/>
                  <a:pt x="3994" y="14346"/>
                  <a:pt x="3994" y="14312"/>
                </a:cubicBezTo>
                <a:cubicBezTo>
                  <a:pt x="3971" y="14296"/>
                  <a:pt x="3927" y="14270"/>
                  <a:pt x="3894" y="14288"/>
                </a:cubicBezTo>
                <a:cubicBezTo>
                  <a:pt x="3870" y="14312"/>
                  <a:pt x="3861" y="14321"/>
                  <a:pt x="3845" y="14337"/>
                </a:cubicBezTo>
                <a:cubicBezTo>
                  <a:pt x="3858" y="14389"/>
                  <a:pt x="3881" y="14379"/>
                  <a:pt x="3919" y="14412"/>
                </a:cubicBezTo>
                <a:cubicBezTo>
                  <a:pt x="3957" y="14445"/>
                  <a:pt x="3980" y="14446"/>
                  <a:pt x="4018" y="14412"/>
                </a:cubicBezTo>
                <a:cubicBezTo>
                  <a:pt x="4041" y="14389"/>
                  <a:pt x="4049" y="14385"/>
                  <a:pt x="4043" y="14362"/>
                </a:cubicBezTo>
                <a:cubicBezTo>
                  <a:pt x="3990" y="14362"/>
                  <a:pt x="3961" y="14356"/>
                  <a:pt x="3919" y="14387"/>
                </a:cubicBezTo>
                <a:cubicBezTo>
                  <a:pt x="3929" y="14428"/>
                  <a:pt x="3948" y="14456"/>
                  <a:pt x="3994" y="14461"/>
                </a:cubicBezTo>
                <a:cubicBezTo>
                  <a:pt x="4049" y="14467"/>
                  <a:pt x="4073" y="14391"/>
                  <a:pt x="4093" y="14362"/>
                </a:cubicBezTo>
                <a:cubicBezTo>
                  <a:pt x="4101" y="14354"/>
                  <a:pt x="4110" y="14345"/>
                  <a:pt x="4118" y="14337"/>
                </a:cubicBezTo>
                <a:cubicBezTo>
                  <a:pt x="4084" y="14326"/>
                  <a:pt x="4087" y="14302"/>
                  <a:pt x="4043" y="14288"/>
                </a:cubicBezTo>
                <a:cubicBezTo>
                  <a:pt x="4009" y="14277"/>
                  <a:pt x="3977" y="14271"/>
                  <a:pt x="3944" y="1426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01920" y="4572000"/>
            <a:ext cx="54000" cy="442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6747" y="12700"/>
                </a:moveTo>
                <a:cubicBezTo>
                  <a:pt x="6695" y="12722"/>
                  <a:pt x="6684" y="12714"/>
                  <a:pt x="6672" y="12750"/>
                </a:cubicBezTo>
                <a:cubicBezTo>
                  <a:pt x="6681" y="12785"/>
                  <a:pt x="6687" y="12836"/>
                  <a:pt x="6722" y="12824"/>
                </a:cubicBezTo>
                <a:cubicBezTo>
                  <a:pt x="6766" y="12809"/>
                  <a:pt x="6772" y="12762"/>
                  <a:pt x="6772" y="12725"/>
                </a:cubicBezTo>
                <a:cubicBezTo>
                  <a:pt x="6772" y="12717"/>
                  <a:pt x="6772" y="12708"/>
                  <a:pt x="6772" y="12700"/>
                </a:cubicBezTo>
                <a:cubicBezTo>
                  <a:pt x="6729" y="12700"/>
                  <a:pt x="6712" y="12705"/>
                  <a:pt x="6697" y="12750"/>
                </a:cubicBezTo>
                <a:cubicBezTo>
                  <a:pt x="6697" y="12774"/>
                  <a:pt x="6697" y="12783"/>
                  <a:pt x="6697" y="12799"/>
                </a:cubicBezTo>
                <a:cubicBezTo>
                  <a:pt x="6766" y="12799"/>
                  <a:pt x="6722" y="12812"/>
                  <a:pt x="6772" y="12799"/>
                </a:cubicBezTo>
                <a:cubicBezTo>
                  <a:pt x="6782" y="12797"/>
                  <a:pt x="6825" y="12742"/>
                  <a:pt x="6821" y="12725"/>
                </a:cubicBezTo>
                <a:cubicBezTo>
                  <a:pt x="6812" y="12686"/>
                  <a:pt x="6748" y="12700"/>
                  <a:pt x="6722" y="12700"/>
                </a:cubicBezTo>
                <a:cubicBezTo>
                  <a:pt x="6714" y="12700"/>
                  <a:pt x="6705" y="12700"/>
                  <a:pt x="6697" y="1270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3120" y="3946680"/>
            <a:ext cx="876240" cy="1223640"/>
          </a:xfrm>
          <a:custGeom>
            <a:avLst/>
            <a:gdLst/>
            <a:ahLst/>
            <a:rect l="l" t="t" r="r" b="b"/>
            <a:pathLst>
              <a:path w="2432" h="3399">
                <a:moveTo>
                  <a:pt x="4093" y="14362"/>
                </a:moveTo>
                <a:cubicBezTo>
                  <a:pt x="4098" y="14336"/>
                  <a:pt x="4117" y="14278"/>
                  <a:pt x="4118" y="14263"/>
                </a:cubicBezTo>
                <a:cubicBezTo>
                  <a:pt x="4125" y="14194"/>
                  <a:pt x="4134" y="14100"/>
                  <a:pt x="4142" y="14064"/>
                </a:cubicBezTo>
                <a:cubicBezTo>
                  <a:pt x="4144" y="14040"/>
                  <a:pt x="4135" y="14008"/>
                  <a:pt x="4142" y="13965"/>
                </a:cubicBezTo>
                <a:cubicBezTo>
                  <a:pt x="4145" y="13945"/>
                  <a:pt x="4161" y="13894"/>
                  <a:pt x="4167" y="13866"/>
                </a:cubicBezTo>
                <a:cubicBezTo>
                  <a:pt x="4173" y="13841"/>
                  <a:pt x="4184" y="13798"/>
                  <a:pt x="4192" y="13767"/>
                </a:cubicBezTo>
                <a:cubicBezTo>
                  <a:pt x="4201" y="13731"/>
                  <a:pt x="4208" y="13705"/>
                  <a:pt x="4217" y="13667"/>
                </a:cubicBezTo>
                <a:cubicBezTo>
                  <a:pt x="4226" y="13630"/>
                  <a:pt x="4233" y="13603"/>
                  <a:pt x="4242" y="13568"/>
                </a:cubicBezTo>
                <a:cubicBezTo>
                  <a:pt x="4250" y="13535"/>
                  <a:pt x="4259" y="13497"/>
                  <a:pt x="4266" y="13469"/>
                </a:cubicBezTo>
                <a:cubicBezTo>
                  <a:pt x="4274" y="13436"/>
                  <a:pt x="4284" y="13398"/>
                  <a:pt x="4291" y="13370"/>
                </a:cubicBezTo>
                <a:cubicBezTo>
                  <a:pt x="4300" y="13333"/>
                  <a:pt x="4307" y="13306"/>
                  <a:pt x="4316" y="13271"/>
                </a:cubicBezTo>
                <a:cubicBezTo>
                  <a:pt x="4325" y="13235"/>
                  <a:pt x="4332" y="13209"/>
                  <a:pt x="4341" y="13171"/>
                </a:cubicBezTo>
                <a:cubicBezTo>
                  <a:pt x="4352" y="13126"/>
                  <a:pt x="4377" y="13087"/>
                  <a:pt x="4390" y="13047"/>
                </a:cubicBezTo>
                <a:cubicBezTo>
                  <a:pt x="4399" y="13019"/>
                  <a:pt x="4408" y="12973"/>
                  <a:pt x="4415" y="12948"/>
                </a:cubicBezTo>
                <a:cubicBezTo>
                  <a:pt x="4425" y="12912"/>
                  <a:pt x="4431" y="12884"/>
                  <a:pt x="4440" y="12849"/>
                </a:cubicBezTo>
                <a:cubicBezTo>
                  <a:pt x="4449" y="12812"/>
                  <a:pt x="4456" y="12785"/>
                  <a:pt x="4465" y="12750"/>
                </a:cubicBezTo>
                <a:cubicBezTo>
                  <a:pt x="4472" y="12722"/>
                  <a:pt x="4478" y="12677"/>
                  <a:pt x="4490" y="12650"/>
                </a:cubicBezTo>
                <a:cubicBezTo>
                  <a:pt x="4506" y="12614"/>
                  <a:pt x="4526" y="12589"/>
                  <a:pt x="4539" y="12551"/>
                </a:cubicBezTo>
                <a:cubicBezTo>
                  <a:pt x="4551" y="12516"/>
                  <a:pt x="4554" y="12489"/>
                  <a:pt x="4564" y="12452"/>
                </a:cubicBezTo>
                <a:cubicBezTo>
                  <a:pt x="4572" y="12425"/>
                  <a:pt x="4580" y="12385"/>
                  <a:pt x="4589" y="12353"/>
                </a:cubicBezTo>
                <a:cubicBezTo>
                  <a:pt x="4596" y="12328"/>
                  <a:pt x="4607" y="12308"/>
                  <a:pt x="4614" y="12278"/>
                </a:cubicBezTo>
                <a:cubicBezTo>
                  <a:pt x="4624" y="12247"/>
                  <a:pt x="4628" y="12235"/>
                  <a:pt x="4638" y="12204"/>
                </a:cubicBezTo>
                <a:cubicBezTo>
                  <a:pt x="4646" y="12191"/>
                  <a:pt x="4671" y="12159"/>
                  <a:pt x="4688" y="12129"/>
                </a:cubicBezTo>
                <a:cubicBezTo>
                  <a:pt x="4703" y="12102"/>
                  <a:pt x="4725" y="12060"/>
                  <a:pt x="4738" y="12030"/>
                </a:cubicBezTo>
                <a:cubicBezTo>
                  <a:pt x="4748" y="12007"/>
                  <a:pt x="4751" y="11978"/>
                  <a:pt x="4762" y="11956"/>
                </a:cubicBezTo>
                <a:cubicBezTo>
                  <a:pt x="4773" y="11940"/>
                  <a:pt x="4810" y="11888"/>
                  <a:pt x="4837" y="11857"/>
                </a:cubicBezTo>
                <a:cubicBezTo>
                  <a:pt x="4848" y="11844"/>
                  <a:pt x="4878" y="11817"/>
                  <a:pt x="4887" y="11807"/>
                </a:cubicBezTo>
                <a:cubicBezTo>
                  <a:pt x="4906" y="11768"/>
                  <a:pt x="4904" y="11779"/>
                  <a:pt x="4936" y="11757"/>
                </a:cubicBezTo>
                <a:cubicBezTo>
                  <a:pt x="4942" y="11730"/>
                  <a:pt x="4951" y="11707"/>
                  <a:pt x="4961" y="11683"/>
                </a:cubicBezTo>
                <a:cubicBezTo>
                  <a:pt x="4975" y="11667"/>
                  <a:pt x="5012" y="11642"/>
                  <a:pt x="5035" y="11609"/>
                </a:cubicBezTo>
                <a:cubicBezTo>
                  <a:pt x="5053" y="11584"/>
                  <a:pt x="5071" y="11554"/>
                  <a:pt x="5085" y="11534"/>
                </a:cubicBezTo>
                <a:cubicBezTo>
                  <a:pt x="5109" y="11516"/>
                  <a:pt x="5141" y="11475"/>
                  <a:pt x="5159" y="11460"/>
                </a:cubicBezTo>
                <a:cubicBezTo>
                  <a:pt x="5193" y="11430"/>
                  <a:pt x="5222" y="11419"/>
                  <a:pt x="5259" y="11385"/>
                </a:cubicBezTo>
                <a:cubicBezTo>
                  <a:pt x="5295" y="11351"/>
                  <a:pt x="5323" y="11337"/>
                  <a:pt x="5358" y="11311"/>
                </a:cubicBezTo>
                <a:cubicBezTo>
                  <a:pt x="5376" y="11283"/>
                  <a:pt x="5412" y="11245"/>
                  <a:pt x="5432" y="11212"/>
                </a:cubicBezTo>
                <a:cubicBezTo>
                  <a:pt x="5432" y="11204"/>
                  <a:pt x="5432" y="11195"/>
                  <a:pt x="5432" y="11187"/>
                </a:cubicBezTo>
                <a:cubicBezTo>
                  <a:pt x="5458" y="11168"/>
                  <a:pt x="5472" y="11168"/>
                  <a:pt x="5507" y="11137"/>
                </a:cubicBezTo>
                <a:cubicBezTo>
                  <a:pt x="5549" y="11100"/>
                  <a:pt x="5592" y="11065"/>
                  <a:pt x="5631" y="11038"/>
                </a:cubicBezTo>
                <a:cubicBezTo>
                  <a:pt x="5677" y="11005"/>
                  <a:pt x="5682" y="11006"/>
                  <a:pt x="5730" y="10988"/>
                </a:cubicBezTo>
                <a:cubicBezTo>
                  <a:pt x="5771" y="10973"/>
                  <a:pt x="5779" y="10964"/>
                  <a:pt x="5829" y="10964"/>
                </a:cubicBezTo>
                <a:cubicBezTo>
                  <a:pt x="5854" y="10964"/>
                  <a:pt x="5901" y="10979"/>
                  <a:pt x="5928" y="10988"/>
                </a:cubicBezTo>
                <a:cubicBezTo>
                  <a:pt x="5968" y="11001"/>
                  <a:pt x="5991" y="11019"/>
                  <a:pt x="6028" y="11038"/>
                </a:cubicBezTo>
                <a:cubicBezTo>
                  <a:pt x="6062" y="11056"/>
                  <a:pt x="6097" y="11058"/>
                  <a:pt x="6127" y="11088"/>
                </a:cubicBezTo>
                <a:cubicBezTo>
                  <a:pt x="6155" y="11116"/>
                  <a:pt x="6176" y="11153"/>
                  <a:pt x="6201" y="11187"/>
                </a:cubicBezTo>
                <a:cubicBezTo>
                  <a:pt x="6226" y="11221"/>
                  <a:pt x="6250" y="11273"/>
                  <a:pt x="6276" y="11311"/>
                </a:cubicBezTo>
                <a:cubicBezTo>
                  <a:pt x="6307" y="11358"/>
                  <a:pt x="6321" y="11386"/>
                  <a:pt x="6350" y="11435"/>
                </a:cubicBezTo>
                <a:cubicBezTo>
                  <a:pt x="6378" y="11482"/>
                  <a:pt x="6399" y="11535"/>
                  <a:pt x="6424" y="11584"/>
                </a:cubicBezTo>
                <a:cubicBezTo>
                  <a:pt x="6448" y="11631"/>
                  <a:pt x="6465" y="11686"/>
                  <a:pt x="6499" y="11733"/>
                </a:cubicBezTo>
                <a:cubicBezTo>
                  <a:pt x="6507" y="11741"/>
                  <a:pt x="6516" y="11749"/>
                  <a:pt x="6524" y="11757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7920" y="4187880"/>
            <a:ext cx="90360" cy="465120"/>
          </a:xfrm>
          <a:custGeom>
            <a:avLst/>
            <a:gdLst/>
            <a:ahLst/>
            <a:rect l="l" t="t" r="r" b="b"/>
            <a:pathLst>
              <a:path w="249" h="1291">
                <a:moveTo>
                  <a:pt x="6524" y="11633"/>
                </a:moveTo>
                <a:cubicBezTo>
                  <a:pt x="6524" y="11722"/>
                  <a:pt x="6532" y="11805"/>
                  <a:pt x="6548" y="11881"/>
                </a:cubicBezTo>
                <a:cubicBezTo>
                  <a:pt x="6560" y="11940"/>
                  <a:pt x="6568" y="11999"/>
                  <a:pt x="6573" y="12055"/>
                </a:cubicBezTo>
                <a:cubicBezTo>
                  <a:pt x="6579" y="12121"/>
                  <a:pt x="6584" y="12167"/>
                  <a:pt x="6598" y="12229"/>
                </a:cubicBezTo>
                <a:cubicBezTo>
                  <a:pt x="6613" y="12295"/>
                  <a:pt x="6606" y="12361"/>
                  <a:pt x="6623" y="12427"/>
                </a:cubicBezTo>
                <a:cubicBezTo>
                  <a:pt x="6635" y="12475"/>
                  <a:pt x="6636" y="12527"/>
                  <a:pt x="6648" y="12576"/>
                </a:cubicBezTo>
                <a:cubicBezTo>
                  <a:pt x="6657" y="12614"/>
                  <a:pt x="6665" y="12668"/>
                  <a:pt x="6672" y="12700"/>
                </a:cubicBezTo>
                <a:cubicBezTo>
                  <a:pt x="6684" y="12757"/>
                  <a:pt x="6706" y="12775"/>
                  <a:pt x="6722" y="12824"/>
                </a:cubicBezTo>
                <a:cubicBezTo>
                  <a:pt x="6725" y="12833"/>
                  <a:pt x="6743" y="12920"/>
                  <a:pt x="6747" y="12923"/>
                </a:cubicBezTo>
                <a:cubicBezTo>
                  <a:pt x="6755" y="12923"/>
                  <a:pt x="6764" y="12923"/>
                  <a:pt x="6772" y="1292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06920"/>
            <a:ext cx="303480" cy="501480"/>
          </a:xfrm>
          <a:custGeom>
            <a:avLst/>
            <a:gdLst/>
            <a:ahLst/>
            <a:rect l="l" t="t" r="r" b="b"/>
            <a:pathLst>
              <a:path w="844" h="1390">
                <a:moveTo>
                  <a:pt x="6772" y="12799"/>
                </a:moveTo>
                <a:cubicBezTo>
                  <a:pt x="6803" y="12855"/>
                  <a:pt x="6843" y="12894"/>
                  <a:pt x="6871" y="12948"/>
                </a:cubicBezTo>
                <a:cubicBezTo>
                  <a:pt x="6895" y="12994"/>
                  <a:pt x="6904" y="13031"/>
                  <a:pt x="6945" y="13072"/>
                </a:cubicBezTo>
                <a:cubicBezTo>
                  <a:pt x="6992" y="13119"/>
                  <a:pt x="6986" y="13168"/>
                  <a:pt x="7020" y="13221"/>
                </a:cubicBezTo>
                <a:cubicBezTo>
                  <a:pt x="7053" y="13272"/>
                  <a:pt x="7090" y="13316"/>
                  <a:pt x="7119" y="13370"/>
                </a:cubicBezTo>
                <a:cubicBezTo>
                  <a:pt x="7154" y="13435"/>
                  <a:pt x="7171" y="13477"/>
                  <a:pt x="7193" y="13543"/>
                </a:cubicBezTo>
                <a:cubicBezTo>
                  <a:pt x="7220" y="13623"/>
                  <a:pt x="7272" y="13653"/>
                  <a:pt x="7317" y="13717"/>
                </a:cubicBezTo>
                <a:cubicBezTo>
                  <a:pt x="7371" y="13794"/>
                  <a:pt x="7414" y="13887"/>
                  <a:pt x="7466" y="13965"/>
                </a:cubicBezTo>
                <a:cubicBezTo>
                  <a:pt x="7503" y="14021"/>
                  <a:pt x="7525" y="14086"/>
                  <a:pt x="7565" y="14139"/>
                </a:cubicBezTo>
                <a:cubicBezTo>
                  <a:pt x="7590" y="14163"/>
                  <a:pt x="7599" y="14171"/>
                  <a:pt x="7615" y="1418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24120" y="5089680"/>
            <a:ext cx="196920" cy="26028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7565" y="14139"/>
                </a:moveTo>
                <a:cubicBezTo>
                  <a:pt x="7591" y="14198"/>
                  <a:pt x="7603" y="14213"/>
                  <a:pt x="7640" y="14263"/>
                </a:cubicBezTo>
                <a:cubicBezTo>
                  <a:pt x="7682" y="14320"/>
                  <a:pt x="7717" y="14385"/>
                  <a:pt x="7764" y="14436"/>
                </a:cubicBezTo>
                <a:cubicBezTo>
                  <a:pt x="7819" y="14496"/>
                  <a:pt x="7843" y="14545"/>
                  <a:pt x="7888" y="14610"/>
                </a:cubicBezTo>
                <a:cubicBezTo>
                  <a:pt x="7921" y="14658"/>
                  <a:pt x="7952" y="14712"/>
                  <a:pt x="7987" y="14759"/>
                </a:cubicBezTo>
                <a:cubicBezTo>
                  <a:pt x="8012" y="14793"/>
                  <a:pt x="8027" y="14794"/>
                  <a:pt x="8037" y="14833"/>
                </a:cubicBezTo>
                <a:cubicBezTo>
                  <a:pt x="8067" y="14841"/>
                  <a:pt x="8081" y="14850"/>
                  <a:pt x="8111" y="1485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01960" y="528624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8062" y="14684"/>
                </a:moveTo>
                <a:cubicBezTo>
                  <a:pt x="8105" y="14728"/>
                  <a:pt x="8157" y="14799"/>
                  <a:pt x="8210" y="14833"/>
                </a:cubicBezTo>
                <a:cubicBezTo>
                  <a:pt x="8258" y="14864"/>
                  <a:pt x="8309" y="14916"/>
                  <a:pt x="8359" y="14932"/>
                </a:cubicBezTo>
                <a:cubicBezTo>
                  <a:pt x="8398" y="14945"/>
                  <a:pt x="8425" y="14935"/>
                  <a:pt x="8434" y="1490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. 330 (1-13,27-29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=si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87200"/>
            <a:ext cx="760320" cy="366840"/>
          </a:xfrm>
          <a:custGeom>
            <a:avLst/>
            <a:gdLst/>
            <a:ahLst/>
            <a:rect l="l" t="t" r="r" b="b"/>
            <a:pathLst>
              <a:path w="2110" h="1018">
                <a:moveTo>
                  <a:pt x="18628" y="967"/>
                </a:moveTo>
                <a:cubicBezTo>
                  <a:pt x="18657" y="1034"/>
                  <a:pt x="18670" y="1118"/>
                  <a:pt x="18678" y="1191"/>
                </a:cubicBezTo>
                <a:cubicBezTo>
                  <a:pt x="18690" y="1294"/>
                  <a:pt x="18742" y="1398"/>
                  <a:pt x="18752" y="1488"/>
                </a:cubicBezTo>
                <a:cubicBezTo>
                  <a:pt x="18756" y="1526"/>
                  <a:pt x="18762" y="1575"/>
                  <a:pt x="18752" y="1513"/>
                </a:cubicBezTo>
                <a:cubicBezTo>
                  <a:pt x="18734" y="1393"/>
                  <a:pt x="18742" y="1258"/>
                  <a:pt x="18728" y="1141"/>
                </a:cubicBezTo>
                <a:cubicBezTo>
                  <a:pt x="18724" y="1105"/>
                  <a:pt x="18738" y="980"/>
                  <a:pt x="18752" y="943"/>
                </a:cubicBezTo>
                <a:cubicBezTo>
                  <a:pt x="18769" y="899"/>
                  <a:pt x="18843" y="870"/>
                  <a:pt x="18876" y="843"/>
                </a:cubicBezTo>
                <a:cubicBezTo>
                  <a:pt x="18934" y="916"/>
                  <a:pt x="18931" y="956"/>
                  <a:pt x="18951" y="1042"/>
                </a:cubicBezTo>
                <a:cubicBezTo>
                  <a:pt x="18970" y="1123"/>
                  <a:pt x="18991" y="1243"/>
                  <a:pt x="19025" y="1315"/>
                </a:cubicBezTo>
                <a:cubicBezTo>
                  <a:pt x="19048" y="1337"/>
                  <a:pt x="19056" y="1342"/>
                  <a:pt x="19050" y="1364"/>
                </a:cubicBezTo>
                <a:cubicBezTo>
                  <a:pt x="19050" y="1307"/>
                  <a:pt x="19066" y="1268"/>
                  <a:pt x="19075" y="1215"/>
                </a:cubicBezTo>
                <a:cubicBezTo>
                  <a:pt x="19091" y="1121"/>
                  <a:pt x="19077" y="1034"/>
                  <a:pt x="19100" y="943"/>
                </a:cubicBezTo>
                <a:cubicBezTo>
                  <a:pt x="19107" y="914"/>
                  <a:pt x="19117" y="898"/>
                  <a:pt x="19124" y="868"/>
                </a:cubicBezTo>
                <a:cubicBezTo>
                  <a:pt x="19176" y="868"/>
                  <a:pt x="19177" y="863"/>
                  <a:pt x="19199" y="893"/>
                </a:cubicBezTo>
                <a:cubicBezTo>
                  <a:pt x="19254" y="966"/>
                  <a:pt x="19259" y="1030"/>
                  <a:pt x="19273" y="1116"/>
                </a:cubicBezTo>
                <a:cubicBezTo>
                  <a:pt x="19285" y="1190"/>
                  <a:pt x="19239" y="1293"/>
                  <a:pt x="19298" y="1339"/>
                </a:cubicBezTo>
                <a:cubicBezTo>
                  <a:pt x="19331" y="1339"/>
                  <a:pt x="19339" y="1331"/>
                  <a:pt x="19323" y="1290"/>
                </a:cubicBezTo>
              </a:path>
              <a:path w="2110" h="1018">
                <a:moveTo>
                  <a:pt x="19422" y="1067"/>
                </a:moveTo>
                <a:cubicBezTo>
                  <a:pt x="19422" y="1150"/>
                  <a:pt x="19422" y="1232"/>
                  <a:pt x="19422" y="1315"/>
                </a:cubicBezTo>
                <a:cubicBezTo>
                  <a:pt x="19382" y="1302"/>
                  <a:pt x="19397" y="1296"/>
                  <a:pt x="19397" y="1240"/>
                </a:cubicBezTo>
              </a:path>
              <a:path w="2110" h="1018">
                <a:moveTo>
                  <a:pt x="19422" y="893"/>
                </a:moveTo>
                <a:cubicBezTo>
                  <a:pt x="19355" y="893"/>
                  <a:pt x="19439" y="893"/>
                  <a:pt x="19447" y="893"/>
                </a:cubicBezTo>
              </a:path>
              <a:path w="2110" h="1018">
                <a:moveTo>
                  <a:pt x="19720" y="843"/>
                </a:moveTo>
                <a:cubicBezTo>
                  <a:pt x="19649" y="888"/>
                  <a:pt x="19581" y="937"/>
                  <a:pt x="19546" y="1017"/>
                </a:cubicBezTo>
                <a:cubicBezTo>
                  <a:pt x="19529" y="1057"/>
                  <a:pt x="19498" y="1169"/>
                  <a:pt x="19521" y="1215"/>
                </a:cubicBezTo>
                <a:cubicBezTo>
                  <a:pt x="19549" y="1270"/>
                  <a:pt x="19607" y="1246"/>
                  <a:pt x="19645" y="1240"/>
                </a:cubicBezTo>
                <a:cubicBezTo>
                  <a:pt x="19690" y="1232"/>
                  <a:pt x="19733" y="1190"/>
                  <a:pt x="19745" y="1141"/>
                </a:cubicBezTo>
                <a:cubicBezTo>
                  <a:pt x="19764" y="1061"/>
                  <a:pt x="19745" y="948"/>
                  <a:pt x="19745" y="868"/>
                </a:cubicBezTo>
              </a:path>
              <a:path w="2110" h="1018">
                <a:moveTo>
                  <a:pt x="19720" y="843"/>
                </a:moveTo>
                <a:cubicBezTo>
                  <a:pt x="19745" y="901"/>
                  <a:pt x="19769" y="959"/>
                  <a:pt x="19794" y="1017"/>
                </a:cubicBezTo>
              </a:path>
              <a:path w="2110" h="1018">
                <a:moveTo>
                  <a:pt x="19794" y="1017"/>
                </a:moveTo>
                <a:cubicBezTo>
                  <a:pt x="19794" y="1025"/>
                  <a:pt x="19775" y="1220"/>
                  <a:pt x="19819" y="1215"/>
                </a:cubicBezTo>
                <a:cubicBezTo>
                  <a:pt x="19827" y="1207"/>
                  <a:pt x="19836" y="1199"/>
                  <a:pt x="19844" y="1191"/>
                </a:cubicBezTo>
              </a:path>
              <a:path w="2110" h="1018">
                <a:moveTo>
                  <a:pt x="20166" y="719"/>
                </a:moveTo>
                <a:cubicBezTo>
                  <a:pt x="20086" y="731"/>
                  <a:pt x="20024" y="773"/>
                  <a:pt x="19968" y="843"/>
                </a:cubicBezTo>
                <a:cubicBezTo>
                  <a:pt x="19923" y="899"/>
                  <a:pt x="19898" y="998"/>
                  <a:pt x="19893" y="1067"/>
                </a:cubicBezTo>
                <a:cubicBezTo>
                  <a:pt x="19891" y="1092"/>
                  <a:pt x="19946" y="1146"/>
                  <a:pt x="19968" y="1141"/>
                </a:cubicBezTo>
                <a:cubicBezTo>
                  <a:pt x="20013" y="1131"/>
                  <a:pt x="20104" y="1062"/>
                  <a:pt x="20117" y="1017"/>
                </a:cubicBezTo>
                <a:cubicBezTo>
                  <a:pt x="20131" y="971"/>
                  <a:pt x="20135" y="917"/>
                  <a:pt x="20141" y="868"/>
                </a:cubicBezTo>
              </a:path>
              <a:path w="2110" h="1018">
                <a:moveTo>
                  <a:pt x="20117" y="571"/>
                </a:moveTo>
                <a:cubicBezTo>
                  <a:pt x="20110" y="691"/>
                  <a:pt x="20092" y="798"/>
                  <a:pt x="20092" y="918"/>
                </a:cubicBezTo>
                <a:cubicBezTo>
                  <a:pt x="20092" y="978"/>
                  <a:pt x="20130" y="1041"/>
                  <a:pt x="20141" y="1067"/>
                </a:cubicBezTo>
                <a:cubicBezTo>
                  <a:pt x="20163" y="1118"/>
                  <a:pt x="20121" y="1060"/>
                  <a:pt x="20117" y="1042"/>
                </a:cubicBezTo>
              </a:path>
              <a:path w="2110" h="1018">
                <a:moveTo>
                  <a:pt x="19670" y="521"/>
                </a:moveTo>
                <a:cubicBezTo>
                  <a:pt x="19698" y="612"/>
                  <a:pt x="19720" y="652"/>
                  <a:pt x="19720" y="744"/>
                </a:cubicBezTo>
                <a:cubicBezTo>
                  <a:pt x="19720" y="799"/>
                  <a:pt x="19734" y="853"/>
                  <a:pt x="19769" y="893"/>
                </a:cubicBezTo>
                <a:cubicBezTo>
                  <a:pt x="19777" y="901"/>
                  <a:pt x="19786" y="910"/>
                  <a:pt x="19794" y="918"/>
                </a:cubicBezTo>
              </a:path>
              <a:path w="2110" h="1018">
                <a:moveTo>
                  <a:pt x="20365" y="695"/>
                </a:moveTo>
                <a:cubicBezTo>
                  <a:pt x="20390" y="790"/>
                  <a:pt x="20412" y="886"/>
                  <a:pt x="20439" y="967"/>
                </a:cubicBezTo>
                <a:cubicBezTo>
                  <a:pt x="20457" y="1022"/>
                  <a:pt x="20439" y="937"/>
                  <a:pt x="20439" y="918"/>
                </a:cubicBezTo>
              </a:path>
              <a:path w="2110" h="1018">
                <a:moveTo>
                  <a:pt x="20489" y="893"/>
                </a:moveTo>
                <a:cubicBezTo>
                  <a:pt x="20545" y="871"/>
                  <a:pt x="20612" y="852"/>
                  <a:pt x="20662" y="819"/>
                </a:cubicBezTo>
                <a:cubicBezTo>
                  <a:pt x="20707" y="789"/>
                  <a:pt x="20727" y="744"/>
                  <a:pt x="20737" y="695"/>
                </a:cubicBezTo>
              </a:path>
              <a:path w="2110" h="1018">
                <a:moveTo>
                  <a:pt x="20538" y="719"/>
                </a:moveTo>
                <a:cubicBezTo>
                  <a:pt x="20497" y="770"/>
                  <a:pt x="20423" y="836"/>
                  <a:pt x="20464" y="918"/>
                </a:cubicBezTo>
                <a:cubicBezTo>
                  <a:pt x="20494" y="979"/>
                  <a:pt x="20571" y="1000"/>
                  <a:pt x="20588" y="10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07000" y="258840"/>
            <a:ext cx="492120" cy="339480"/>
          </a:xfrm>
          <a:custGeom>
            <a:avLst/>
            <a:gdLst/>
            <a:ahLst/>
            <a:rect l="l" t="t" r="r" b="b"/>
            <a:pathLst>
              <a:path w="1366" h="944">
                <a:moveTo>
                  <a:pt x="15825" y="943"/>
                </a:moveTo>
                <a:cubicBezTo>
                  <a:pt x="15825" y="993"/>
                  <a:pt x="15838" y="1044"/>
                  <a:pt x="15850" y="1091"/>
                </a:cubicBezTo>
                <a:cubicBezTo>
                  <a:pt x="15878" y="1197"/>
                  <a:pt x="15902" y="1316"/>
                  <a:pt x="15949" y="1414"/>
                </a:cubicBezTo>
                <a:cubicBezTo>
                  <a:pt x="15967" y="1452"/>
                  <a:pt x="15986" y="1498"/>
                  <a:pt x="15999" y="1538"/>
                </a:cubicBezTo>
                <a:cubicBezTo>
                  <a:pt x="16017" y="1593"/>
                  <a:pt x="15977" y="1483"/>
                  <a:pt x="15974" y="1463"/>
                </a:cubicBezTo>
              </a:path>
              <a:path w="1366" h="944">
                <a:moveTo>
                  <a:pt x="15577" y="1017"/>
                </a:moveTo>
                <a:cubicBezTo>
                  <a:pt x="15577" y="960"/>
                  <a:pt x="15569" y="918"/>
                  <a:pt x="15602" y="868"/>
                </a:cubicBezTo>
                <a:cubicBezTo>
                  <a:pt x="15641" y="809"/>
                  <a:pt x="15712" y="769"/>
                  <a:pt x="15776" y="744"/>
                </a:cubicBezTo>
                <a:cubicBezTo>
                  <a:pt x="15835" y="721"/>
                  <a:pt x="15934" y="701"/>
                  <a:pt x="15999" y="719"/>
                </a:cubicBezTo>
                <a:cubicBezTo>
                  <a:pt x="16078" y="741"/>
                  <a:pt x="16073" y="802"/>
                  <a:pt x="16073" y="868"/>
                </a:cubicBezTo>
                <a:cubicBezTo>
                  <a:pt x="16073" y="959"/>
                  <a:pt x="16009" y="1007"/>
                  <a:pt x="15949" y="1067"/>
                </a:cubicBezTo>
                <a:cubicBezTo>
                  <a:pt x="15918" y="1098"/>
                  <a:pt x="15831" y="1180"/>
                  <a:pt x="15850" y="1141"/>
                </a:cubicBezTo>
                <a:cubicBezTo>
                  <a:pt x="15871" y="1098"/>
                  <a:pt x="15986" y="1093"/>
                  <a:pt x="16024" y="1091"/>
                </a:cubicBezTo>
                <a:cubicBezTo>
                  <a:pt x="16123" y="1086"/>
                  <a:pt x="16119" y="1093"/>
                  <a:pt x="16173" y="1166"/>
                </a:cubicBezTo>
                <a:cubicBezTo>
                  <a:pt x="16211" y="1218"/>
                  <a:pt x="16241" y="1270"/>
                  <a:pt x="16222" y="1339"/>
                </a:cubicBezTo>
                <a:cubicBezTo>
                  <a:pt x="16197" y="1427"/>
                  <a:pt x="16175" y="1403"/>
                  <a:pt x="16123" y="1463"/>
                </a:cubicBezTo>
                <a:cubicBezTo>
                  <a:pt x="16070" y="1524"/>
                  <a:pt x="16039" y="1524"/>
                  <a:pt x="15974" y="1563"/>
                </a:cubicBezTo>
                <a:cubicBezTo>
                  <a:pt x="15900" y="1607"/>
                  <a:pt x="15981" y="1550"/>
                  <a:pt x="15999" y="1538"/>
                </a:cubicBezTo>
              </a:path>
              <a:path w="1366" h="944">
                <a:moveTo>
                  <a:pt x="16247" y="1215"/>
                </a:moveTo>
                <a:cubicBezTo>
                  <a:pt x="16329" y="1183"/>
                  <a:pt x="16333" y="1181"/>
                  <a:pt x="16371" y="1116"/>
                </a:cubicBezTo>
                <a:cubicBezTo>
                  <a:pt x="16402" y="1062"/>
                  <a:pt x="16427" y="1019"/>
                  <a:pt x="16396" y="967"/>
                </a:cubicBezTo>
                <a:cubicBezTo>
                  <a:pt x="16369" y="921"/>
                  <a:pt x="16333" y="941"/>
                  <a:pt x="16321" y="967"/>
                </a:cubicBezTo>
                <a:cubicBezTo>
                  <a:pt x="16289" y="1038"/>
                  <a:pt x="16238" y="1084"/>
                  <a:pt x="16222" y="1166"/>
                </a:cubicBezTo>
                <a:cubicBezTo>
                  <a:pt x="16208" y="1238"/>
                  <a:pt x="16202" y="1249"/>
                  <a:pt x="16222" y="1315"/>
                </a:cubicBezTo>
                <a:cubicBezTo>
                  <a:pt x="16232" y="1347"/>
                  <a:pt x="16260" y="1397"/>
                  <a:pt x="16297" y="1414"/>
                </a:cubicBezTo>
                <a:cubicBezTo>
                  <a:pt x="16332" y="1430"/>
                  <a:pt x="16443" y="1387"/>
                  <a:pt x="16470" y="1364"/>
                </a:cubicBezTo>
                <a:cubicBezTo>
                  <a:pt x="16520" y="1315"/>
                  <a:pt x="16537" y="1298"/>
                  <a:pt x="16570" y="1265"/>
                </a:cubicBezTo>
              </a:path>
              <a:path w="1366" h="944">
                <a:moveTo>
                  <a:pt x="16743" y="843"/>
                </a:moveTo>
                <a:cubicBezTo>
                  <a:pt x="16674" y="843"/>
                  <a:pt x="16655" y="858"/>
                  <a:pt x="16619" y="918"/>
                </a:cubicBezTo>
                <a:cubicBezTo>
                  <a:pt x="16581" y="981"/>
                  <a:pt x="16551" y="1044"/>
                  <a:pt x="16545" y="1116"/>
                </a:cubicBezTo>
                <a:cubicBezTo>
                  <a:pt x="16541" y="1169"/>
                  <a:pt x="16542" y="1198"/>
                  <a:pt x="16594" y="1215"/>
                </a:cubicBezTo>
                <a:cubicBezTo>
                  <a:pt x="16640" y="1230"/>
                  <a:pt x="16665" y="1195"/>
                  <a:pt x="16694" y="1166"/>
                </a:cubicBezTo>
                <a:cubicBezTo>
                  <a:pt x="16740" y="1119"/>
                  <a:pt x="16794" y="1080"/>
                  <a:pt x="16818" y="1017"/>
                </a:cubicBezTo>
                <a:cubicBezTo>
                  <a:pt x="16831" y="983"/>
                  <a:pt x="16842" y="882"/>
                  <a:pt x="16842" y="918"/>
                </a:cubicBezTo>
                <a:cubicBezTo>
                  <a:pt x="16842" y="926"/>
                  <a:pt x="16842" y="935"/>
                  <a:pt x="16842" y="943"/>
                </a:cubicBezTo>
                <a:cubicBezTo>
                  <a:pt x="16867" y="984"/>
                  <a:pt x="16885" y="1064"/>
                  <a:pt x="16892" y="1116"/>
                </a:cubicBezTo>
                <a:cubicBezTo>
                  <a:pt x="16902" y="1193"/>
                  <a:pt x="16893" y="1266"/>
                  <a:pt x="16917" y="1339"/>
                </a:cubicBezTo>
                <a:cubicBezTo>
                  <a:pt x="16937" y="1398"/>
                  <a:pt x="16953" y="1429"/>
                  <a:pt x="16917" y="1488"/>
                </a:cubicBezTo>
                <a:cubicBezTo>
                  <a:pt x="16877" y="1555"/>
                  <a:pt x="16838" y="1577"/>
                  <a:pt x="16768" y="1612"/>
                </a:cubicBezTo>
                <a:cubicBezTo>
                  <a:pt x="16700" y="1646"/>
                  <a:pt x="16646" y="1662"/>
                  <a:pt x="16570" y="1662"/>
                </a:cubicBezTo>
                <a:cubicBezTo>
                  <a:pt x="16538" y="1662"/>
                  <a:pt x="16541" y="1641"/>
                  <a:pt x="16520" y="16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9960" y="669960"/>
            <a:ext cx="36720" cy="285840"/>
          </a:xfrm>
          <a:custGeom>
            <a:avLst/>
            <a:gdLst/>
            <a:ahLst/>
            <a:rect l="l" t="t" r="r" b="b"/>
            <a:pathLst>
              <a:path w="100" h="795">
                <a:moveTo>
                  <a:pt x="17462" y="1860"/>
                </a:moveTo>
                <a:cubicBezTo>
                  <a:pt x="17451" y="1905"/>
                  <a:pt x="17438" y="1931"/>
                  <a:pt x="17438" y="1984"/>
                </a:cubicBezTo>
                <a:cubicBezTo>
                  <a:pt x="17438" y="2073"/>
                  <a:pt x="17423" y="2141"/>
                  <a:pt x="17413" y="2232"/>
                </a:cubicBezTo>
                <a:cubicBezTo>
                  <a:pt x="17404" y="2317"/>
                  <a:pt x="17388" y="2392"/>
                  <a:pt x="17388" y="2480"/>
                </a:cubicBezTo>
                <a:cubicBezTo>
                  <a:pt x="17388" y="2549"/>
                  <a:pt x="17381" y="2558"/>
                  <a:pt x="17388" y="2629"/>
                </a:cubicBezTo>
                <a:cubicBezTo>
                  <a:pt x="17395" y="2700"/>
                  <a:pt x="17381" y="2586"/>
                  <a:pt x="17388" y="2580"/>
                </a:cubicBezTo>
                <a:cubicBezTo>
                  <a:pt x="17396" y="2580"/>
                  <a:pt x="17405" y="2580"/>
                  <a:pt x="17413" y="25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70840" y="652320"/>
            <a:ext cx="241200" cy="320760"/>
          </a:xfrm>
          <a:custGeom>
            <a:avLst/>
            <a:gdLst/>
            <a:ahLst/>
            <a:rect l="l" t="t" r="r" b="b"/>
            <a:pathLst>
              <a:path w="671" h="894">
                <a:moveTo>
                  <a:pt x="19918" y="2208"/>
                </a:moveTo>
                <a:cubicBezTo>
                  <a:pt x="20017" y="2208"/>
                  <a:pt x="20117" y="2208"/>
                  <a:pt x="20216" y="2208"/>
                </a:cubicBezTo>
                <a:cubicBezTo>
                  <a:pt x="20181" y="2196"/>
                  <a:pt x="20191" y="2201"/>
                  <a:pt x="20191" y="2158"/>
                </a:cubicBezTo>
              </a:path>
              <a:path w="671" h="894">
                <a:moveTo>
                  <a:pt x="20588" y="1811"/>
                </a:moveTo>
                <a:cubicBezTo>
                  <a:pt x="20588" y="1874"/>
                  <a:pt x="20566" y="1918"/>
                  <a:pt x="20563" y="1984"/>
                </a:cubicBezTo>
                <a:cubicBezTo>
                  <a:pt x="20559" y="2080"/>
                  <a:pt x="20524" y="2162"/>
                  <a:pt x="20513" y="2257"/>
                </a:cubicBezTo>
                <a:cubicBezTo>
                  <a:pt x="20499" y="2382"/>
                  <a:pt x="20511" y="2513"/>
                  <a:pt x="20538" y="2629"/>
                </a:cubicBezTo>
                <a:cubicBezTo>
                  <a:pt x="20540" y="2639"/>
                  <a:pt x="20538" y="2747"/>
                  <a:pt x="20538" y="2679"/>
                </a:cubicBezTo>
                <a:cubicBezTo>
                  <a:pt x="20538" y="2640"/>
                  <a:pt x="20563" y="2625"/>
                  <a:pt x="20563" y="25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7880" y="268200"/>
            <a:ext cx="500040" cy="330120"/>
          </a:xfrm>
          <a:custGeom>
            <a:avLst/>
            <a:gdLst/>
            <a:ahLst/>
            <a:rect l="l" t="t" r="r" b="b"/>
            <a:pathLst>
              <a:path w="1390" h="919">
                <a:moveTo>
                  <a:pt x="21878" y="843"/>
                </a:moveTo>
                <a:cubicBezTo>
                  <a:pt x="21803" y="903"/>
                  <a:pt x="21706" y="930"/>
                  <a:pt x="21630" y="992"/>
                </a:cubicBezTo>
                <a:cubicBezTo>
                  <a:pt x="21580" y="1033"/>
                  <a:pt x="21411" y="1136"/>
                  <a:pt x="21382" y="1191"/>
                </a:cubicBezTo>
                <a:cubicBezTo>
                  <a:pt x="21358" y="1236"/>
                  <a:pt x="21396" y="1293"/>
                  <a:pt x="21431" y="1315"/>
                </a:cubicBezTo>
                <a:cubicBezTo>
                  <a:pt x="21507" y="1363"/>
                  <a:pt x="21555" y="1327"/>
                  <a:pt x="21630" y="1315"/>
                </a:cubicBezTo>
                <a:cubicBezTo>
                  <a:pt x="21681" y="1315"/>
                  <a:pt x="21700" y="1314"/>
                  <a:pt x="21729" y="1290"/>
                </a:cubicBezTo>
                <a:cubicBezTo>
                  <a:pt x="21711" y="1360"/>
                  <a:pt x="21637" y="1392"/>
                  <a:pt x="21580" y="1439"/>
                </a:cubicBezTo>
                <a:cubicBezTo>
                  <a:pt x="21555" y="1459"/>
                  <a:pt x="21500" y="1554"/>
                  <a:pt x="21506" y="1588"/>
                </a:cubicBezTo>
                <a:cubicBezTo>
                  <a:pt x="21511" y="1620"/>
                  <a:pt x="21547" y="1660"/>
                  <a:pt x="21580" y="1662"/>
                </a:cubicBezTo>
                <a:cubicBezTo>
                  <a:pt x="21641" y="1666"/>
                  <a:pt x="21708" y="1674"/>
                  <a:pt x="21754" y="1637"/>
                </a:cubicBezTo>
                <a:cubicBezTo>
                  <a:pt x="21762" y="1629"/>
                  <a:pt x="21771" y="1620"/>
                  <a:pt x="21779" y="1612"/>
                </a:cubicBezTo>
              </a:path>
              <a:path w="1390" h="919">
                <a:moveTo>
                  <a:pt x="21853" y="1315"/>
                </a:moveTo>
                <a:cubicBezTo>
                  <a:pt x="21877" y="1378"/>
                  <a:pt x="21920" y="1468"/>
                  <a:pt x="21927" y="1538"/>
                </a:cubicBezTo>
                <a:cubicBezTo>
                  <a:pt x="21932" y="1592"/>
                  <a:pt x="21927" y="1594"/>
                  <a:pt x="21927" y="1538"/>
                </a:cubicBezTo>
                <a:cubicBezTo>
                  <a:pt x="21927" y="1468"/>
                  <a:pt x="21914" y="1400"/>
                  <a:pt x="21952" y="1339"/>
                </a:cubicBezTo>
                <a:cubicBezTo>
                  <a:pt x="21976" y="1301"/>
                  <a:pt x="22010" y="1241"/>
                  <a:pt x="22051" y="1215"/>
                </a:cubicBezTo>
                <a:cubicBezTo>
                  <a:pt x="22092" y="1195"/>
                  <a:pt x="22098" y="1187"/>
                  <a:pt x="22126" y="1191"/>
                </a:cubicBezTo>
                <a:cubicBezTo>
                  <a:pt x="22162" y="1238"/>
                  <a:pt x="22157" y="1284"/>
                  <a:pt x="22175" y="1339"/>
                </a:cubicBezTo>
                <a:cubicBezTo>
                  <a:pt x="22197" y="1404"/>
                  <a:pt x="22148" y="1443"/>
                  <a:pt x="22175" y="1513"/>
                </a:cubicBezTo>
                <a:cubicBezTo>
                  <a:pt x="22203" y="1541"/>
                  <a:pt x="22217" y="1550"/>
                  <a:pt x="22250" y="1538"/>
                </a:cubicBezTo>
              </a:path>
              <a:path w="1390" h="919">
                <a:moveTo>
                  <a:pt x="22473" y="1166"/>
                </a:moveTo>
                <a:cubicBezTo>
                  <a:pt x="22417" y="1252"/>
                  <a:pt x="22367" y="1299"/>
                  <a:pt x="22349" y="1389"/>
                </a:cubicBezTo>
                <a:cubicBezTo>
                  <a:pt x="22378" y="1399"/>
                  <a:pt x="22395" y="1432"/>
                  <a:pt x="22448" y="1414"/>
                </a:cubicBezTo>
                <a:cubicBezTo>
                  <a:pt x="22533" y="1385"/>
                  <a:pt x="22575" y="1337"/>
                  <a:pt x="22622" y="1265"/>
                </a:cubicBezTo>
                <a:cubicBezTo>
                  <a:pt x="22694" y="1154"/>
                  <a:pt x="22755" y="1050"/>
                  <a:pt x="22771" y="918"/>
                </a:cubicBezTo>
                <a:cubicBezTo>
                  <a:pt x="22781" y="835"/>
                  <a:pt x="22747" y="814"/>
                  <a:pt x="22721" y="769"/>
                </a:cubicBezTo>
                <a:cubicBezTo>
                  <a:pt x="22691" y="716"/>
                  <a:pt x="22674" y="770"/>
                  <a:pt x="22647" y="8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633240"/>
            <a:ext cx="339840" cy="376560"/>
          </a:xfrm>
          <a:custGeom>
            <a:avLst/>
            <a:gdLst/>
            <a:ahLst/>
            <a:rect l="l" t="t" r="r" b="b"/>
            <a:pathLst>
              <a:path w="943" h="1043">
                <a:moveTo>
                  <a:pt x="16197" y="1761"/>
                </a:moveTo>
                <a:cubicBezTo>
                  <a:pt x="16190" y="1814"/>
                  <a:pt x="16189" y="1819"/>
                  <a:pt x="16148" y="1860"/>
                </a:cubicBezTo>
                <a:cubicBezTo>
                  <a:pt x="16115" y="1893"/>
                  <a:pt x="16077" y="1949"/>
                  <a:pt x="16049" y="1984"/>
                </a:cubicBezTo>
                <a:cubicBezTo>
                  <a:pt x="16012" y="2031"/>
                  <a:pt x="15941" y="2156"/>
                  <a:pt x="15925" y="2208"/>
                </a:cubicBezTo>
                <a:cubicBezTo>
                  <a:pt x="15906" y="2272"/>
                  <a:pt x="15903" y="2338"/>
                  <a:pt x="15900" y="2406"/>
                </a:cubicBezTo>
                <a:cubicBezTo>
                  <a:pt x="15897" y="2482"/>
                  <a:pt x="15913" y="2535"/>
                  <a:pt x="15925" y="2604"/>
                </a:cubicBezTo>
                <a:cubicBezTo>
                  <a:pt x="15936" y="2670"/>
                  <a:pt x="15950" y="2681"/>
                  <a:pt x="15999" y="2729"/>
                </a:cubicBezTo>
                <a:cubicBezTo>
                  <a:pt x="16040" y="2769"/>
                  <a:pt x="16067" y="2792"/>
                  <a:pt x="16123" y="2803"/>
                </a:cubicBezTo>
                <a:cubicBezTo>
                  <a:pt x="16182" y="2815"/>
                  <a:pt x="16268" y="2796"/>
                  <a:pt x="16321" y="2778"/>
                </a:cubicBezTo>
                <a:cubicBezTo>
                  <a:pt x="16422" y="2744"/>
                  <a:pt x="16523" y="2656"/>
                  <a:pt x="16619" y="2604"/>
                </a:cubicBezTo>
                <a:cubicBezTo>
                  <a:pt x="16696" y="2563"/>
                  <a:pt x="16750" y="2507"/>
                  <a:pt x="16793" y="2431"/>
                </a:cubicBezTo>
                <a:cubicBezTo>
                  <a:pt x="16835" y="2356"/>
                  <a:pt x="16842" y="2292"/>
                  <a:pt x="16842" y="2208"/>
                </a:cubicBezTo>
                <a:cubicBezTo>
                  <a:pt x="16842" y="2141"/>
                  <a:pt x="16839" y="2070"/>
                  <a:pt x="16818" y="2009"/>
                </a:cubicBezTo>
                <a:cubicBezTo>
                  <a:pt x="16797" y="1946"/>
                  <a:pt x="16740" y="1873"/>
                  <a:pt x="16694" y="1836"/>
                </a:cubicBezTo>
                <a:cubicBezTo>
                  <a:pt x="16633" y="1787"/>
                  <a:pt x="16519" y="1769"/>
                  <a:pt x="16446" y="1761"/>
                </a:cubicBezTo>
                <a:cubicBezTo>
                  <a:pt x="16350" y="1751"/>
                  <a:pt x="16324" y="1770"/>
                  <a:pt x="16247" y="1811"/>
                </a:cubicBezTo>
                <a:cubicBezTo>
                  <a:pt x="16207" y="1832"/>
                  <a:pt x="16156" y="1839"/>
                  <a:pt x="16123" y="1860"/>
                </a:cubicBezTo>
                <a:cubicBezTo>
                  <a:pt x="16100" y="1883"/>
                  <a:pt x="16092" y="1887"/>
                  <a:pt x="16098" y="19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24800" y="660240"/>
            <a:ext cx="285480" cy="304920"/>
          </a:xfrm>
          <a:custGeom>
            <a:avLst/>
            <a:gdLst/>
            <a:ahLst/>
            <a:rect l="l" t="t" r="r" b="b"/>
            <a:pathLst>
              <a:path w="795" h="844">
                <a:moveTo>
                  <a:pt x="18852" y="1885"/>
                </a:moveTo>
                <a:cubicBezTo>
                  <a:pt x="18797" y="1940"/>
                  <a:pt x="18808" y="1957"/>
                  <a:pt x="18777" y="2034"/>
                </a:cubicBezTo>
                <a:cubicBezTo>
                  <a:pt x="18752" y="2096"/>
                  <a:pt x="18750" y="2151"/>
                  <a:pt x="18728" y="2208"/>
                </a:cubicBezTo>
                <a:cubicBezTo>
                  <a:pt x="18707" y="2262"/>
                  <a:pt x="18682" y="2314"/>
                  <a:pt x="18678" y="2381"/>
                </a:cubicBezTo>
                <a:cubicBezTo>
                  <a:pt x="18675" y="2443"/>
                  <a:pt x="18702" y="2506"/>
                  <a:pt x="18728" y="2555"/>
                </a:cubicBezTo>
                <a:cubicBezTo>
                  <a:pt x="18759" y="2613"/>
                  <a:pt x="18774" y="2631"/>
                  <a:pt x="18827" y="2654"/>
                </a:cubicBezTo>
                <a:cubicBezTo>
                  <a:pt x="18871" y="2673"/>
                  <a:pt x="18925" y="2696"/>
                  <a:pt x="18976" y="2679"/>
                </a:cubicBezTo>
                <a:cubicBezTo>
                  <a:pt x="19032" y="2660"/>
                  <a:pt x="19130" y="2651"/>
                  <a:pt x="19174" y="2604"/>
                </a:cubicBezTo>
                <a:cubicBezTo>
                  <a:pt x="19241" y="2532"/>
                  <a:pt x="19288" y="2457"/>
                  <a:pt x="19348" y="2381"/>
                </a:cubicBezTo>
                <a:cubicBezTo>
                  <a:pt x="19400" y="2314"/>
                  <a:pt x="19454" y="2245"/>
                  <a:pt x="19472" y="2158"/>
                </a:cubicBezTo>
                <a:cubicBezTo>
                  <a:pt x="19486" y="2093"/>
                  <a:pt x="19473" y="2018"/>
                  <a:pt x="19447" y="1960"/>
                </a:cubicBezTo>
                <a:cubicBezTo>
                  <a:pt x="19415" y="1888"/>
                  <a:pt x="19390" y="1886"/>
                  <a:pt x="19323" y="1860"/>
                </a:cubicBezTo>
                <a:cubicBezTo>
                  <a:pt x="19241" y="1828"/>
                  <a:pt x="19163" y="1836"/>
                  <a:pt x="19075" y="1836"/>
                </a:cubicBezTo>
                <a:cubicBezTo>
                  <a:pt x="19000" y="1836"/>
                  <a:pt x="18976" y="1836"/>
                  <a:pt x="18926" y="18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7880" y="677880"/>
            <a:ext cx="411120" cy="393840"/>
          </a:xfrm>
          <a:custGeom>
            <a:avLst/>
            <a:gdLst/>
            <a:ahLst/>
            <a:rect l="l" t="t" r="r" b="b"/>
            <a:pathLst>
              <a:path w="1142" h="1093">
                <a:moveTo>
                  <a:pt x="21779" y="2059"/>
                </a:moveTo>
                <a:cubicBezTo>
                  <a:pt x="21763" y="2051"/>
                  <a:pt x="21758" y="2021"/>
                  <a:pt x="21729" y="2059"/>
                </a:cubicBezTo>
                <a:cubicBezTo>
                  <a:pt x="21708" y="2087"/>
                  <a:pt x="21685" y="2126"/>
                  <a:pt x="21654" y="2158"/>
                </a:cubicBezTo>
                <a:cubicBezTo>
                  <a:pt x="21616" y="2197"/>
                  <a:pt x="21594" y="2242"/>
                  <a:pt x="21555" y="2282"/>
                </a:cubicBezTo>
                <a:cubicBezTo>
                  <a:pt x="21497" y="2341"/>
                  <a:pt x="21468" y="2406"/>
                  <a:pt x="21431" y="2480"/>
                </a:cubicBezTo>
                <a:cubicBezTo>
                  <a:pt x="21394" y="2554"/>
                  <a:pt x="21382" y="2596"/>
                  <a:pt x="21382" y="2679"/>
                </a:cubicBezTo>
                <a:cubicBezTo>
                  <a:pt x="21382" y="2785"/>
                  <a:pt x="21407" y="2816"/>
                  <a:pt x="21481" y="2877"/>
                </a:cubicBezTo>
                <a:cubicBezTo>
                  <a:pt x="21539" y="2924"/>
                  <a:pt x="21588" y="2923"/>
                  <a:pt x="21654" y="2952"/>
                </a:cubicBezTo>
                <a:cubicBezTo>
                  <a:pt x="21780" y="3008"/>
                  <a:pt x="21838" y="2946"/>
                  <a:pt x="21952" y="2927"/>
                </a:cubicBezTo>
                <a:cubicBezTo>
                  <a:pt x="22067" y="2908"/>
                  <a:pt x="22125" y="2894"/>
                  <a:pt x="22225" y="2828"/>
                </a:cubicBezTo>
                <a:cubicBezTo>
                  <a:pt x="22313" y="2770"/>
                  <a:pt x="22366" y="2741"/>
                  <a:pt x="22423" y="2654"/>
                </a:cubicBezTo>
                <a:cubicBezTo>
                  <a:pt x="22471" y="2581"/>
                  <a:pt x="22519" y="2519"/>
                  <a:pt x="22523" y="2431"/>
                </a:cubicBezTo>
                <a:cubicBezTo>
                  <a:pt x="22528" y="2326"/>
                  <a:pt x="22524" y="2268"/>
                  <a:pt x="22473" y="2183"/>
                </a:cubicBezTo>
                <a:cubicBezTo>
                  <a:pt x="22446" y="2138"/>
                  <a:pt x="22374" y="2061"/>
                  <a:pt x="22324" y="2034"/>
                </a:cubicBezTo>
                <a:cubicBezTo>
                  <a:pt x="22238" y="1987"/>
                  <a:pt x="22140" y="1981"/>
                  <a:pt x="22051" y="1960"/>
                </a:cubicBezTo>
                <a:cubicBezTo>
                  <a:pt x="21963" y="1940"/>
                  <a:pt x="21893" y="1914"/>
                  <a:pt x="21803" y="1910"/>
                </a:cubicBezTo>
                <a:cubicBezTo>
                  <a:pt x="21721" y="1906"/>
                  <a:pt x="21658" y="1911"/>
                  <a:pt x="21580" y="18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3760" y="1251000"/>
            <a:ext cx="1581120" cy="687240"/>
          </a:xfrm>
          <a:custGeom>
            <a:avLst/>
            <a:gdLst/>
            <a:ahLst/>
            <a:rect l="l" t="t" r="r" b="b"/>
            <a:pathLst>
              <a:path w="4391" h="1911">
                <a:moveTo>
                  <a:pt x="10567" y="3621"/>
                </a:moveTo>
                <a:cubicBezTo>
                  <a:pt x="10567" y="3666"/>
                  <a:pt x="10582" y="3682"/>
                  <a:pt x="10592" y="3721"/>
                </a:cubicBezTo>
                <a:cubicBezTo>
                  <a:pt x="10620" y="3838"/>
                  <a:pt x="10666" y="3873"/>
                  <a:pt x="10716" y="3969"/>
                </a:cubicBezTo>
                <a:cubicBezTo>
                  <a:pt x="10758" y="4050"/>
                  <a:pt x="10797" y="4135"/>
                  <a:pt x="10840" y="4217"/>
                </a:cubicBezTo>
                <a:cubicBezTo>
                  <a:pt x="10873" y="4281"/>
                  <a:pt x="10887" y="4357"/>
                  <a:pt x="10914" y="4415"/>
                </a:cubicBezTo>
                <a:cubicBezTo>
                  <a:pt x="10930" y="4449"/>
                  <a:pt x="10939" y="4457"/>
                  <a:pt x="10964" y="4465"/>
                </a:cubicBezTo>
                <a:cubicBezTo>
                  <a:pt x="10964" y="4424"/>
                  <a:pt x="10964" y="4382"/>
                  <a:pt x="10964" y="4341"/>
                </a:cubicBezTo>
              </a:path>
              <a:path w="4391" h="1911">
                <a:moveTo>
                  <a:pt x="11237" y="3473"/>
                </a:moveTo>
                <a:cubicBezTo>
                  <a:pt x="11231" y="3540"/>
                  <a:pt x="11227" y="3606"/>
                  <a:pt x="11212" y="3671"/>
                </a:cubicBezTo>
                <a:cubicBezTo>
                  <a:pt x="11182" y="3801"/>
                  <a:pt x="11128" y="3918"/>
                  <a:pt x="11088" y="4043"/>
                </a:cubicBezTo>
                <a:cubicBezTo>
                  <a:pt x="11016" y="4271"/>
                  <a:pt x="10972" y="4516"/>
                  <a:pt x="10889" y="4738"/>
                </a:cubicBezTo>
                <a:cubicBezTo>
                  <a:pt x="10839" y="4871"/>
                  <a:pt x="10800" y="4996"/>
                  <a:pt x="10765" y="5135"/>
                </a:cubicBezTo>
                <a:cubicBezTo>
                  <a:pt x="10749" y="5199"/>
                  <a:pt x="10723" y="5300"/>
                  <a:pt x="10691" y="5358"/>
                </a:cubicBezTo>
                <a:cubicBezTo>
                  <a:pt x="10644" y="5441"/>
                  <a:pt x="10686" y="5272"/>
                  <a:pt x="10691" y="5259"/>
                </a:cubicBezTo>
              </a:path>
              <a:path w="4391" h="1911">
                <a:moveTo>
                  <a:pt x="11485" y="3770"/>
                </a:moveTo>
                <a:cubicBezTo>
                  <a:pt x="11557" y="3760"/>
                  <a:pt x="11602" y="3746"/>
                  <a:pt x="11683" y="3746"/>
                </a:cubicBezTo>
                <a:cubicBezTo>
                  <a:pt x="11764" y="3746"/>
                  <a:pt x="11832" y="3733"/>
                  <a:pt x="11906" y="3721"/>
                </a:cubicBezTo>
                <a:cubicBezTo>
                  <a:pt x="11915" y="3720"/>
                  <a:pt x="12072" y="3721"/>
                  <a:pt x="12005" y="3721"/>
                </a:cubicBezTo>
                <a:cubicBezTo>
                  <a:pt x="11962" y="3721"/>
                  <a:pt x="11902" y="3754"/>
                  <a:pt x="11857" y="3770"/>
                </a:cubicBezTo>
              </a:path>
              <a:path w="4391" h="1911">
                <a:moveTo>
                  <a:pt x="11559" y="3994"/>
                </a:moveTo>
                <a:cubicBezTo>
                  <a:pt x="11559" y="4018"/>
                  <a:pt x="11559" y="4026"/>
                  <a:pt x="11584" y="4018"/>
                </a:cubicBezTo>
                <a:cubicBezTo>
                  <a:pt x="11590" y="4037"/>
                  <a:pt x="11629" y="4062"/>
                  <a:pt x="11658" y="4068"/>
                </a:cubicBezTo>
                <a:cubicBezTo>
                  <a:pt x="11743" y="4086"/>
                  <a:pt x="11847" y="4079"/>
                  <a:pt x="11931" y="4093"/>
                </a:cubicBezTo>
                <a:cubicBezTo>
                  <a:pt x="11984" y="4102"/>
                  <a:pt x="11994" y="4102"/>
                  <a:pt x="12005" y="4068"/>
                </a:cubicBezTo>
              </a:path>
              <a:path w="4391" h="1911">
                <a:moveTo>
                  <a:pt x="12824" y="3572"/>
                </a:moveTo>
                <a:cubicBezTo>
                  <a:pt x="12831" y="3640"/>
                  <a:pt x="12847" y="3660"/>
                  <a:pt x="12824" y="3671"/>
                </a:cubicBezTo>
                <a:cubicBezTo>
                  <a:pt x="12824" y="3613"/>
                  <a:pt x="12793" y="3595"/>
                  <a:pt x="12774" y="3547"/>
                </a:cubicBezTo>
                <a:cubicBezTo>
                  <a:pt x="12763" y="3520"/>
                  <a:pt x="12747" y="3471"/>
                  <a:pt x="12700" y="3497"/>
                </a:cubicBezTo>
                <a:cubicBezTo>
                  <a:pt x="12650" y="3525"/>
                  <a:pt x="12601" y="3598"/>
                  <a:pt x="12576" y="3646"/>
                </a:cubicBezTo>
                <a:cubicBezTo>
                  <a:pt x="12538" y="3717"/>
                  <a:pt x="12483" y="3768"/>
                  <a:pt x="12452" y="3845"/>
                </a:cubicBezTo>
                <a:cubicBezTo>
                  <a:pt x="12411" y="3950"/>
                  <a:pt x="12402" y="4004"/>
                  <a:pt x="12402" y="4118"/>
                </a:cubicBezTo>
                <a:cubicBezTo>
                  <a:pt x="12402" y="4183"/>
                  <a:pt x="12435" y="4211"/>
                  <a:pt x="12477" y="4242"/>
                </a:cubicBezTo>
                <a:cubicBezTo>
                  <a:pt x="12523" y="4276"/>
                  <a:pt x="12568" y="4266"/>
                  <a:pt x="12626" y="4266"/>
                </a:cubicBezTo>
                <a:cubicBezTo>
                  <a:pt x="12687" y="4266"/>
                  <a:pt x="12720" y="4244"/>
                  <a:pt x="12774" y="4217"/>
                </a:cubicBezTo>
              </a:path>
              <a:path w="4391" h="1911">
                <a:moveTo>
                  <a:pt x="13122" y="3721"/>
                </a:moveTo>
                <a:cubicBezTo>
                  <a:pt x="13098" y="3820"/>
                  <a:pt x="13074" y="3924"/>
                  <a:pt x="13047" y="4018"/>
                </a:cubicBezTo>
                <a:cubicBezTo>
                  <a:pt x="13035" y="4059"/>
                  <a:pt x="12998" y="4120"/>
                  <a:pt x="13022" y="4167"/>
                </a:cubicBezTo>
                <a:cubicBezTo>
                  <a:pt x="13057" y="4236"/>
                  <a:pt x="13124" y="4226"/>
                  <a:pt x="13171" y="4217"/>
                </a:cubicBezTo>
                <a:cubicBezTo>
                  <a:pt x="13217" y="4209"/>
                  <a:pt x="13291" y="4135"/>
                  <a:pt x="13320" y="4093"/>
                </a:cubicBezTo>
                <a:cubicBezTo>
                  <a:pt x="13366" y="4027"/>
                  <a:pt x="13370" y="3971"/>
                  <a:pt x="13370" y="3894"/>
                </a:cubicBezTo>
                <a:cubicBezTo>
                  <a:pt x="13370" y="3862"/>
                  <a:pt x="13341" y="3766"/>
                  <a:pt x="13320" y="3746"/>
                </a:cubicBezTo>
                <a:cubicBezTo>
                  <a:pt x="13272" y="3701"/>
                  <a:pt x="13232" y="3671"/>
                  <a:pt x="13171" y="3671"/>
                </a:cubicBezTo>
                <a:cubicBezTo>
                  <a:pt x="13131" y="3671"/>
                  <a:pt x="13091" y="3677"/>
                  <a:pt x="13072" y="3721"/>
                </a:cubicBezTo>
                <a:cubicBezTo>
                  <a:pt x="13054" y="3761"/>
                  <a:pt x="13089" y="3771"/>
                  <a:pt x="13097" y="3795"/>
                </a:cubicBezTo>
              </a:path>
              <a:path w="4391" h="1911">
                <a:moveTo>
                  <a:pt x="14064" y="3597"/>
                </a:moveTo>
                <a:cubicBezTo>
                  <a:pt x="13988" y="3564"/>
                  <a:pt x="13991" y="3570"/>
                  <a:pt x="13915" y="3597"/>
                </a:cubicBezTo>
                <a:cubicBezTo>
                  <a:pt x="13891" y="3605"/>
                  <a:pt x="13781" y="3649"/>
                  <a:pt x="13767" y="3671"/>
                </a:cubicBezTo>
                <a:cubicBezTo>
                  <a:pt x="13755" y="3689"/>
                  <a:pt x="13748" y="3723"/>
                  <a:pt x="13742" y="3746"/>
                </a:cubicBezTo>
                <a:cubicBezTo>
                  <a:pt x="13776" y="3771"/>
                  <a:pt x="13804" y="3779"/>
                  <a:pt x="13841" y="3795"/>
                </a:cubicBezTo>
                <a:cubicBezTo>
                  <a:pt x="13909" y="3824"/>
                  <a:pt x="13946" y="3866"/>
                  <a:pt x="13990" y="3919"/>
                </a:cubicBezTo>
                <a:cubicBezTo>
                  <a:pt x="14036" y="3974"/>
                  <a:pt x="14059" y="4023"/>
                  <a:pt x="14064" y="4093"/>
                </a:cubicBezTo>
                <a:cubicBezTo>
                  <a:pt x="14066" y="4121"/>
                  <a:pt x="14038" y="4199"/>
                  <a:pt x="14015" y="4217"/>
                </a:cubicBezTo>
                <a:cubicBezTo>
                  <a:pt x="13944" y="4272"/>
                  <a:pt x="13886" y="4229"/>
                  <a:pt x="13816" y="4217"/>
                </a:cubicBezTo>
                <a:cubicBezTo>
                  <a:pt x="13770" y="4209"/>
                  <a:pt x="13707" y="4192"/>
                  <a:pt x="13667" y="4167"/>
                </a:cubicBezTo>
                <a:cubicBezTo>
                  <a:pt x="13645" y="4145"/>
                  <a:pt x="13637" y="4140"/>
                  <a:pt x="13643" y="4118"/>
                </a:cubicBezTo>
              </a:path>
              <a:path w="4391" h="1911">
                <a:moveTo>
                  <a:pt x="14461" y="3522"/>
                </a:moveTo>
                <a:cubicBezTo>
                  <a:pt x="14514" y="3605"/>
                  <a:pt x="14523" y="3662"/>
                  <a:pt x="14560" y="3746"/>
                </a:cubicBezTo>
                <a:cubicBezTo>
                  <a:pt x="14594" y="3823"/>
                  <a:pt x="14640" y="3877"/>
                  <a:pt x="14684" y="3944"/>
                </a:cubicBezTo>
                <a:cubicBezTo>
                  <a:pt x="14721" y="4000"/>
                  <a:pt x="14760" y="4045"/>
                  <a:pt x="14808" y="4093"/>
                </a:cubicBezTo>
                <a:cubicBezTo>
                  <a:pt x="14836" y="4121"/>
                  <a:pt x="14903" y="4177"/>
                  <a:pt x="14932" y="4118"/>
                </a:cubicBezTo>
                <a:cubicBezTo>
                  <a:pt x="14932" y="4110"/>
                  <a:pt x="14932" y="4101"/>
                  <a:pt x="14932" y="4093"/>
                </a:cubicBezTo>
              </a:path>
              <a:path w="4391" h="1911">
                <a:moveTo>
                  <a:pt x="14957" y="3671"/>
                </a:moveTo>
                <a:cubicBezTo>
                  <a:pt x="14887" y="3746"/>
                  <a:pt x="14819" y="3858"/>
                  <a:pt x="14734" y="3919"/>
                </a:cubicBezTo>
                <a:cubicBezTo>
                  <a:pt x="14679" y="3958"/>
                  <a:pt x="14637" y="3996"/>
                  <a:pt x="14585" y="4043"/>
                </a:cubicBezTo>
                <a:cubicBezTo>
                  <a:pt x="14514" y="4107"/>
                  <a:pt x="14539" y="4105"/>
                  <a:pt x="14436" y="41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1125360"/>
            <a:ext cx="34920" cy="393840"/>
          </a:xfrm>
          <a:custGeom>
            <a:avLst/>
            <a:gdLst/>
            <a:ahLst/>
            <a:rect l="l" t="t" r="r" b="b"/>
            <a:pathLst>
              <a:path w="100" h="1093">
                <a:moveTo>
                  <a:pt x="16197" y="3125"/>
                </a:moveTo>
                <a:cubicBezTo>
                  <a:pt x="16197" y="3199"/>
                  <a:pt x="16175" y="3250"/>
                  <a:pt x="16173" y="3324"/>
                </a:cubicBezTo>
                <a:cubicBezTo>
                  <a:pt x="16169" y="3461"/>
                  <a:pt x="16163" y="3588"/>
                  <a:pt x="16148" y="3721"/>
                </a:cubicBezTo>
                <a:cubicBezTo>
                  <a:pt x="16135" y="3835"/>
                  <a:pt x="16134" y="3956"/>
                  <a:pt x="16123" y="4068"/>
                </a:cubicBezTo>
                <a:cubicBezTo>
                  <a:pt x="16117" y="4133"/>
                  <a:pt x="16114" y="4256"/>
                  <a:pt x="16123" y="4192"/>
                </a:cubicBezTo>
                <a:cubicBezTo>
                  <a:pt x="16123" y="4184"/>
                  <a:pt x="16123" y="4175"/>
                  <a:pt x="16123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4760" y="1231920"/>
            <a:ext cx="169560" cy="304920"/>
          </a:xfrm>
          <a:custGeom>
            <a:avLst/>
            <a:gdLst/>
            <a:ahLst/>
            <a:rect l="l" t="t" r="r" b="b"/>
            <a:pathLst>
              <a:path w="472" h="844">
                <a:moveTo>
                  <a:pt x="17487" y="3423"/>
                </a:moveTo>
                <a:cubicBezTo>
                  <a:pt x="17437" y="3474"/>
                  <a:pt x="17442" y="3507"/>
                  <a:pt x="17413" y="3572"/>
                </a:cubicBezTo>
                <a:cubicBezTo>
                  <a:pt x="17382" y="3641"/>
                  <a:pt x="17360" y="3702"/>
                  <a:pt x="17338" y="3770"/>
                </a:cubicBezTo>
                <a:cubicBezTo>
                  <a:pt x="17306" y="3869"/>
                  <a:pt x="17285" y="3936"/>
                  <a:pt x="17314" y="4043"/>
                </a:cubicBezTo>
                <a:cubicBezTo>
                  <a:pt x="17338" y="4130"/>
                  <a:pt x="17346" y="4161"/>
                  <a:pt x="17413" y="4217"/>
                </a:cubicBezTo>
                <a:cubicBezTo>
                  <a:pt x="17459" y="4255"/>
                  <a:pt x="17523" y="4290"/>
                  <a:pt x="17587" y="4266"/>
                </a:cubicBezTo>
                <a:cubicBezTo>
                  <a:pt x="17643" y="4245"/>
                  <a:pt x="17719" y="4178"/>
                  <a:pt x="17735" y="4118"/>
                </a:cubicBezTo>
                <a:cubicBezTo>
                  <a:pt x="17753" y="4051"/>
                  <a:pt x="17777" y="3942"/>
                  <a:pt x="17760" y="3870"/>
                </a:cubicBezTo>
                <a:cubicBezTo>
                  <a:pt x="17742" y="3795"/>
                  <a:pt x="17707" y="3722"/>
                  <a:pt x="17686" y="3646"/>
                </a:cubicBezTo>
                <a:cubicBezTo>
                  <a:pt x="17674" y="3604"/>
                  <a:pt x="17618" y="3538"/>
                  <a:pt x="17587" y="3497"/>
                </a:cubicBezTo>
                <a:cubicBezTo>
                  <a:pt x="17570" y="3475"/>
                  <a:pt x="17499" y="3417"/>
                  <a:pt x="17487" y="3423"/>
                </a:cubicBezTo>
                <a:cubicBezTo>
                  <a:pt x="17455" y="3439"/>
                  <a:pt x="17445" y="3469"/>
                  <a:pt x="17438" y="34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16800" y="1133640"/>
            <a:ext cx="339480" cy="403200"/>
          </a:xfrm>
          <a:custGeom>
            <a:avLst/>
            <a:gdLst/>
            <a:ahLst/>
            <a:rect l="l" t="t" r="r" b="b"/>
            <a:pathLst>
              <a:path w="944" h="1117">
                <a:moveTo>
                  <a:pt x="18380" y="3597"/>
                </a:moveTo>
                <a:cubicBezTo>
                  <a:pt x="18520" y="3597"/>
                  <a:pt x="18679" y="3613"/>
                  <a:pt x="18802" y="3572"/>
                </a:cubicBezTo>
                <a:cubicBezTo>
                  <a:pt x="18821" y="3566"/>
                  <a:pt x="18856" y="3572"/>
                  <a:pt x="18876" y="3572"/>
                </a:cubicBezTo>
              </a:path>
              <a:path w="944" h="1117">
                <a:moveTo>
                  <a:pt x="19248" y="3150"/>
                </a:moveTo>
                <a:cubicBezTo>
                  <a:pt x="19248" y="3223"/>
                  <a:pt x="19264" y="3282"/>
                  <a:pt x="19273" y="3349"/>
                </a:cubicBezTo>
                <a:cubicBezTo>
                  <a:pt x="19285" y="3443"/>
                  <a:pt x="19298" y="3523"/>
                  <a:pt x="19298" y="3621"/>
                </a:cubicBezTo>
                <a:cubicBezTo>
                  <a:pt x="19298" y="3713"/>
                  <a:pt x="19323" y="3799"/>
                  <a:pt x="19323" y="3894"/>
                </a:cubicBezTo>
                <a:cubicBezTo>
                  <a:pt x="19323" y="4026"/>
                  <a:pt x="19323" y="4374"/>
                  <a:pt x="19323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42120" y="1214280"/>
            <a:ext cx="115920" cy="322560"/>
          </a:xfrm>
          <a:custGeom>
            <a:avLst/>
            <a:gdLst/>
            <a:ahLst/>
            <a:rect l="l" t="t" r="r" b="b"/>
            <a:pathLst>
              <a:path w="323" h="894">
                <a:moveTo>
                  <a:pt x="20216" y="3522"/>
                </a:moveTo>
                <a:cubicBezTo>
                  <a:pt x="20154" y="3635"/>
                  <a:pt x="20145" y="3711"/>
                  <a:pt x="20141" y="3845"/>
                </a:cubicBezTo>
                <a:cubicBezTo>
                  <a:pt x="20138" y="3949"/>
                  <a:pt x="20136" y="4016"/>
                  <a:pt x="20141" y="4118"/>
                </a:cubicBezTo>
                <a:cubicBezTo>
                  <a:pt x="20143" y="4170"/>
                  <a:pt x="20159" y="4241"/>
                  <a:pt x="20216" y="4266"/>
                </a:cubicBezTo>
                <a:cubicBezTo>
                  <a:pt x="20246" y="4279"/>
                  <a:pt x="20321" y="4262"/>
                  <a:pt x="20340" y="4242"/>
                </a:cubicBezTo>
                <a:cubicBezTo>
                  <a:pt x="20386" y="4192"/>
                  <a:pt x="20404" y="4105"/>
                  <a:pt x="20414" y="4043"/>
                </a:cubicBezTo>
                <a:cubicBezTo>
                  <a:pt x="20426" y="3966"/>
                  <a:pt x="20439" y="3901"/>
                  <a:pt x="20439" y="3820"/>
                </a:cubicBezTo>
                <a:cubicBezTo>
                  <a:pt x="20439" y="3728"/>
                  <a:pt x="20428" y="3656"/>
                  <a:pt x="20414" y="3572"/>
                </a:cubicBezTo>
                <a:cubicBezTo>
                  <a:pt x="20402" y="3501"/>
                  <a:pt x="20391" y="3475"/>
                  <a:pt x="20340" y="3423"/>
                </a:cubicBezTo>
                <a:cubicBezTo>
                  <a:pt x="20275" y="3357"/>
                  <a:pt x="20227" y="3378"/>
                  <a:pt x="20166" y="3398"/>
                </a:cubicBezTo>
                <a:cubicBezTo>
                  <a:pt x="20141" y="3398"/>
                  <a:pt x="20133" y="3398"/>
                  <a:pt x="20117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1160640"/>
            <a:ext cx="46080" cy="376200"/>
          </a:xfrm>
          <a:custGeom>
            <a:avLst/>
            <a:gdLst/>
            <a:ahLst/>
            <a:rect l="l" t="t" r="r" b="b"/>
            <a:pathLst>
              <a:path w="125" h="1042">
                <a:moveTo>
                  <a:pt x="21927" y="3225"/>
                </a:moveTo>
                <a:cubicBezTo>
                  <a:pt x="21927" y="3288"/>
                  <a:pt x="21910" y="3337"/>
                  <a:pt x="21903" y="3398"/>
                </a:cubicBezTo>
                <a:cubicBezTo>
                  <a:pt x="21890" y="3517"/>
                  <a:pt x="21845" y="3629"/>
                  <a:pt x="21828" y="3746"/>
                </a:cubicBezTo>
                <a:cubicBezTo>
                  <a:pt x="21814" y="3844"/>
                  <a:pt x="21803" y="3944"/>
                  <a:pt x="21803" y="4043"/>
                </a:cubicBezTo>
                <a:cubicBezTo>
                  <a:pt x="21803" y="4113"/>
                  <a:pt x="21811" y="4183"/>
                  <a:pt x="21828" y="4217"/>
                </a:cubicBezTo>
                <a:cubicBezTo>
                  <a:pt x="21853" y="4266"/>
                  <a:pt x="21871" y="4256"/>
                  <a:pt x="21828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3160" y="2857680"/>
            <a:ext cx="6037200" cy="3152520"/>
          </a:xfrm>
          <a:custGeom>
            <a:avLst/>
            <a:gdLst/>
            <a:ahLst/>
            <a:rect l="l" t="t" r="r" b="b"/>
            <a:pathLst>
              <a:path w="16769" h="8757">
                <a:moveTo>
                  <a:pt x="2232" y="11956"/>
                </a:moveTo>
                <a:cubicBezTo>
                  <a:pt x="2427" y="11952"/>
                  <a:pt x="2612" y="11936"/>
                  <a:pt x="2803" y="11931"/>
                </a:cubicBezTo>
                <a:cubicBezTo>
                  <a:pt x="4629" y="11881"/>
                  <a:pt x="6471" y="11931"/>
                  <a:pt x="8285" y="12055"/>
                </a:cubicBezTo>
                <a:cubicBezTo>
                  <a:pt x="8509" y="12070"/>
                  <a:pt x="8729" y="12078"/>
                  <a:pt x="8954" y="12080"/>
                </a:cubicBezTo>
                <a:cubicBezTo>
                  <a:pt x="9228" y="12082"/>
                  <a:pt x="9502" y="12099"/>
                  <a:pt x="9773" y="12105"/>
                </a:cubicBezTo>
                <a:cubicBezTo>
                  <a:pt x="10526" y="12123"/>
                  <a:pt x="11279" y="12093"/>
                  <a:pt x="12030" y="12129"/>
                </a:cubicBezTo>
                <a:cubicBezTo>
                  <a:pt x="12269" y="12140"/>
                  <a:pt x="12511" y="12162"/>
                  <a:pt x="12750" y="12179"/>
                </a:cubicBezTo>
                <a:cubicBezTo>
                  <a:pt x="12973" y="12195"/>
                  <a:pt x="13195" y="12193"/>
                  <a:pt x="13419" y="12204"/>
                </a:cubicBezTo>
                <a:cubicBezTo>
                  <a:pt x="13757" y="12220"/>
                  <a:pt x="14098" y="12232"/>
                  <a:pt x="14436" y="12254"/>
                </a:cubicBezTo>
                <a:cubicBezTo>
                  <a:pt x="14658" y="12268"/>
                  <a:pt x="14884" y="12283"/>
                  <a:pt x="15106" y="12303"/>
                </a:cubicBezTo>
                <a:cubicBezTo>
                  <a:pt x="15377" y="12328"/>
                  <a:pt x="15655" y="12346"/>
                  <a:pt x="15925" y="12378"/>
                </a:cubicBezTo>
                <a:cubicBezTo>
                  <a:pt x="16390" y="12433"/>
                  <a:pt x="16849" y="12506"/>
                  <a:pt x="17314" y="12551"/>
                </a:cubicBezTo>
                <a:cubicBezTo>
                  <a:pt x="17487" y="12568"/>
                  <a:pt x="17663" y="12555"/>
                  <a:pt x="17835" y="12576"/>
                </a:cubicBezTo>
                <a:cubicBezTo>
                  <a:pt x="17976" y="12593"/>
                  <a:pt x="18114" y="12613"/>
                  <a:pt x="18256" y="12626"/>
                </a:cubicBezTo>
                <a:cubicBezTo>
                  <a:pt x="18345" y="12634"/>
                  <a:pt x="18442" y="12651"/>
                  <a:pt x="18529" y="12650"/>
                </a:cubicBezTo>
                <a:cubicBezTo>
                  <a:pt x="18624" y="12649"/>
                  <a:pt x="18749" y="12608"/>
                  <a:pt x="18802" y="12601"/>
                </a:cubicBezTo>
                <a:cubicBezTo>
                  <a:pt x="18794" y="12601"/>
                  <a:pt x="18785" y="12601"/>
                  <a:pt x="18777" y="12601"/>
                </a:cubicBezTo>
              </a:path>
              <a:path w="16769" h="8757">
                <a:moveTo>
                  <a:pt x="4118" y="7938"/>
                </a:moveTo>
                <a:cubicBezTo>
                  <a:pt x="4123" y="7979"/>
                  <a:pt x="4139" y="7996"/>
                  <a:pt x="4142" y="8037"/>
                </a:cubicBezTo>
                <a:cubicBezTo>
                  <a:pt x="4154" y="8216"/>
                  <a:pt x="4121" y="8384"/>
                  <a:pt x="4118" y="8558"/>
                </a:cubicBezTo>
                <a:cubicBezTo>
                  <a:pt x="4109" y="9078"/>
                  <a:pt x="4105" y="9604"/>
                  <a:pt x="4142" y="10120"/>
                </a:cubicBezTo>
                <a:cubicBezTo>
                  <a:pt x="4156" y="10316"/>
                  <a:pt x="4185" y="10517"/>
                  <a:pt x="4192" y="10716"/>
                </a:cubicBezTo>
                <a:cubicBezTo>
                  <a:pt x="4197" y="10875"/>
                  <a:pt x="4209" y="11029"/>
                  <a:pt x="4217" y="11187"/>
                </a:cubicBezTo>
                <a:cubicBezTo>
                  <a:pt x="4232" y="11501"/>
                  <a:pt x="4226" y="11817"/>
                  <a:pt x="4242" y="12129"/>
                </a:cubicBezTo>
                <a:cubicBezTo>
                  <a:pt x="4279" y="12833"/>
                  <a:pt x="4281" y="13588"/>
                  <a:pt x="4217" y="14288"/>
                </a:cubicBezTo>
                <a:cubicBezTo>
                  <a:pt x="4195" y="14527"/>
                  <a:pt x="4171" y="14765"/>
                  <a:pt x="4167" y="15007"/>
                </a:cubicBezTo>
                <a:cubicBezTo>
                  <a:pt x="4164" y="15192"/>
                  <a:pt x="4137" y="15370"/>
                  <a:pt x="4118" y="15553"/>
                </a:cubicBezTo>
                <a:cubicBezTo>
                  <a:pt x="4099" y="15740"/>
                  <a:pt x="4099" y="15938"/>
                  <a:pt x="4068" y="16123"/>
                </a:cubicBezTo>
                <a:cubicBezTo>
                  <a:pt x="4050" y="16233"/>
                  <a:pt x="4014" y="16337"/>
                  <a:pt x="3994" y="16446"/>
                </a:cubicBezTo>
                <a:cubicBezTo>
                  <a:pt x="3981" y="16517"/>
                  <a:pt x="3982" y="16578"/>
                  <a:pt x="3969" y="16644"/>
                </a:cubicBezTo>
                <a:cubicBezTo>
                  <a:pt x="3959" y="16695"/>
                  <a:pt x="3969" y="16696"/>
                  <a:pt x="3969" y="16694"/>
                </a:cubicBezTo>
                <a:cubicBezTo>
                  <a:pt x="3964" y="16657"/>
                  <a:pt x="3965" y="16607"/>
                  <a:pt x="3969" y="16570"/>
                </a:cubicBezTo>
              </a:path>
              <a:path w="16769" h="8757">
                <a:moveTo>
                  <a:pt x="11286" y="15677"/>
                </a:moveTo>
                <a:cubicBezTo>
                  <a:pt x="11330" y="15698"/>
                  <a:pt x="11323" y="15703"/>
                  <a:pt x="11336" y="15652"/>
                </a:cubicBezTo>
                <a:cubicBezTo>
                  <a:pt x="11403" y="15652"/>
                  <a:pt x="11297" y="15652"/>
                  <a:pt x="11286" y="15652"/>
                </a:cubicBezTo>
                <a:cubicBezTo>
                  <a:pt x="11262" y="15652"/>
                  <a:pt x="11238" y="15708"/>
                  <a:pt x="11261" y="15726"/>
                </a:cubicBezTo>
                <a:cubicBezTo>
                  <a:pt x="11289" y="15748"/>
                  <a:pt x="11343" y="15714"/>
                  <a:pt x="11361" y="15701"/>
                </a:cubicBezTo>
                <a:cubicBezTo>
                  <a:pt x="11353" y="15679"/>
                  <a:pt x="11291" y="15648"/>
                  <a:pt x="11261" y="15677"/>
                </a:cubicBezTo>
                <a:cubicBezTo>
                  <a:pt x="11241" y="15696"/>
                  <a:pt x="11267" y="15766"/>
                  <a:pt x="11286" y="15776"/>
                </a:cubicBezTo>
                <a:cubicBezTo>
                  <a:pt x="11315" y="15790"/>
                  <a:pt x="11394" y="15784"/>
                  <a:pt x="11410" y="15751"/>
                </a:cubicBezTo>
                <a:cubicBezTo>
                  <a:pt x="11435" y="15701"/>
                  <a:pt x="11361" y="15701"/>
                  <a:pt x="11336" y="15701"/>
                </a:cubicBezTo>
              </a:path>
              <a:path w="16769" h="8757">
                <a:moveTo>
                  <a:pt x="4366" y="11708"/>
                </a:moveTo>
                <a:cubicBezTo>
                  <a:pt x="4398" y="11581"/>
                  <a:pt x="4422" y="11478"/>
                  <a:pt x="4465" y="11361"/>
                </a:cubicBezTo>
                <a:cubicBezTo>
                  <a:pt x="4480" y="11319"/>
                  <a:pt x="4498" y="11275"/>
                  <a:pt x="4514" y="11237"/>
                </a:cubicBezTo>
                <a:cubicBezTo>
                  <a:pt x="4532" y="11195"/>
                  <a:pt x="4544" y="11154"/>
                  <a:pt x="4564" y="11112"/>
                </a:cubicBezTo>
                <a:cubicBezTo>
                  <a:pt x="4585" y="11066"/>
                  <a:pt x="4616" y="11011"/>
                  <a:pt x="4638" y="10964"/>
                </a:cubicBezTo>
                <a:cubicBezTo>
                  <a:pt x="4674" y="10888"/>
                  <a:pt x="4703" y="10816"/>
                  <a:pt x="4738" y="10740"/>
                </a:cubicBezTo>
                <a:cubicBezTo>
                  <a:pt x="4766" y="10681"/>
                  <a:pt x="4764" y="10640"/>
                  <a:pt x="4787" y="10592"/>
                </a:cubicBezTo>
                <a:cubicBezTo>
                  <a:pt x="4810" y="10543"/>
                  <a:pt x="4838" y="10494"/>
                  <a:pt x="4862" y="10443"/>
                </a:cubicBezTo>
                <a:cubicBezTo>
                  <a:pt x="4895" y="10375"/>
                  <a:pt x="4934" y="10320"/>
                  <a:pt x="4961" y="10269"/>
                </a:cubicBezTo>
                <a:cubicBezTo>
                  <a:pt x="4991" y="10213"/>
                  <a:pt x="5007" y="10170"/>
                  <a:pt x="5035" y="10120"/>
                </a:cubicBezTo>
                <a:cubicBezTo>
                  <a:pt x="5050" y="10092"/>
                  <a:pt x="5091" y="10003"/>
                  <a:pt x="5110" y="9971"/>
                </a:cubicBezTo>
                <a:cubicBezTo>
                  <a:pt x="5121" y="9952"/>
                  <a:pt x="5186" y="9882"/>
                  <a:pt x="5209" y="9847"/>
                </a:cubicBezTo>
                <a:cubicBezTo>
                  <a:pt x="5230" y="9814"/>
                  <a:pt x="5252" y="9752"/>
                  <a:pt x="5283" y="9699"/>
                </a:cubicBezTo>
                <a:cubicBezTo>
                  <a:pt x="5304" y="9664"/>
                  <a:pt x="5335" y="9639"/>
                  <a:pt x="5358" y="9599"/>
                </a:cubicBezTo>
                <a:cubicBezTo>
                  <a:pt x="5386" y="9552"/>
                  <a:pt x="5405" y="9516"/>
                  <a:pt x="5432" y="9475"/>
                </a:cubicBezTo>
                <a:cubicBezTo>
                  <a:pt x="5445" y="9456"/>
                  <a:pt x="5462" y="9400"/>
                  <a:pt x="5482" y="9376"/>
                </a:cubicBezTo>
                <a:cubicBezTo>
                  <a:pt x="5495" y="9360"/>
                  <a:pt x="5565" y="9318"/>
                  <a:pt x="5581" y="9302"/>
                </a:cubicBezTo>
                <a:cubicBezTo>
                  <a:pt x="5609" y="9274"/>
                  <a:pt x="5642" y="9188"/>
                  <a:pt x="5655" y="9178"/>
                </a:cubicBezTo>
                <a:cubicBezTo>
                  <a:pt x="5681" y="9158"/>
                  <a:pt x="5727" y="9167"/>
                  <a:pt x="5755" y="9153"/>
                </a:cubicBezTo>
                <a:cubicBezTo>
                  <a:pt x="5800" y="9130"/>
                  <a:pt x="5794" y="9096"/>
                  <a:pt x="5854" y="9079"/>
                </a:cubicBezTo>
                <a:cubicBezTo>
                  <a:pt x="6041" y="9027"/>
                  <a:pt x="6211" y="9112"/>
                  <a:pt x="6350" y="9178"/>
                </a:cubicBezTo>
                <a:cubicBezTo>
                  <a:pt x="6380" y="9192"/>
                  <a:pt x="6420" y="9209"/>
                  <a:pt x="6449" y="9227"/>
                </a:cubicBezTo>
                <a:cubicBezTo>
                  <a:pt x="6497" y="9257"/>
                  <a:pt x="6533" y="9273"/>
                  <a:pt x="6573" y="9302"/>
                </a:cubicBezTo>
                <a:cubicBezTo>
                  <a:pt x="6621" y="9336"/>
                  <a:pt x="6656" y="9365"/>
                  <a:pt x="6697" y="9401"/>
                </a:cubicBezTo>
                <a:cubicBezTo>
                  <a:pt x="6728" y="9428"/>
                  <a:pt x="6779" y="9464"/>
                  <a:pt x="6821" y="9500"/>
                </a:cubicBezTo>
                <a:cubicBezTo>
                  <a:pt x="6854" y="9528"/>
                  <a:pt x="6903" y="9579"/>
                  <a:pt x="6921" y="9599"/>
                </a:cubicBezTo>
                <a:cubicBezTo>
                  <a:pt x="6964" y="9647"/>
                  <a:pt x="6981" y="9706"/>
                  <a:pt x="7020" y="9748"/>
                </a:cubicBezTo>
                <a:cubicBezTo>
                  <a:pt x="7063" y="9794"/>
                  <a:pt x="7144" y="9862"/>
                  <a:pt x="7193" y="9922"/>
                </a:cubicBezTo>
                <a:cubicBezTo>
                  <a:pt x="7238" y="9977"/>
                  <a:pt x="7245" y="9982"/>
                  <a:pt x="7293" y="10046"/>
                </a:cubicBezTo>
                <a:cubicBezTo>
                  <a:pt x="7322" y="10085"/>
                  <a:pt x="7349" y="10121"/>
                  <a:pt x="7367" y="10145"/>
                </a:cubicBezTo>
                <a:cubicBezTo>
                  <a:pt x="7402" y="10193"/>
                  <a:pt x="7431" y="10246"/>
                  <a:pt x="7466" y="10294"/>
                </a:cubicBezTo>
                <a:cubicBezTo>
                  <a:pt x="7501" y="10341"/>
                  <a:pt x="7533" y="10394"/>
                  <a:pt x="7565" y="10443"/>
                </a:cubicBezTo>
                <a:cubicBezTo>
                  <a:pt x="7597" y="10492"/>
                  <a:pt x="7620" y="10537"/>
                  <a:pt x="7640" y="10567"/>
                </a:cubicBezTo>
                <a:cubicBezTo>
                  <a:pt x="7688" y="10641"/>
                  <a:pt x="7740" y="10716"/>
                  <a:pt x="7789" y="10790"/>
                </a:cubicBezTo>
                <a:cubicBezTo>
                  <a:pt x="7827" y="10847"/>
                  <a:pt x="7858" y="10915"/>
                  <a:pt x="7888" y="10964"/>
                </a:cubicBezTo>
                <a:cubicBezTo>
                  <a:pt x="7933" y="11037"/>
                  <a:pt x="7970" y="11093"/>
                  <a:pt x="8012" y="11162"/>
                </a:cubicBezTo>
                <a:cubicBezTo>
                  <a:pt x="8034" y="11197"/>
                  <a:pt x="8065" y="11223"/>
                  <a:pt x="8086" y="11261"/>
                </a:cubicBezTo>
                <a:cubicBezTo>
                  <a:pt x="8116" y="11314"/>
                  <a:pt x="8151" y="11382"/>
                  <a:pt x="8186" y="11435"/>
                </a:cubicBezTo>
                <a:cubicBezTo>
                  <a:pt x="8209" y="11470"/>
                  <a:pt x="8237" y="11496"/>
                  <a:pt x="8260" y="11534"/>
                </a:cubicBezTo>
                <a:cubicBezTo>
                  <a:pt x="8296" y="11593"/>
                  <a:pt x="8325" y="11628"/>
                  <a:pt x="8359" y="11683"/>
                </a:cubicBezTo>
                <a:cubicBezTo>
                  <a:pt x="8377" y="11712"/>
                  <a:pt x="8389" y="11750"/>
                  <a:pt x="8409" y="11782"/>
                </a:cubicBezTo>
                <a:cubicBezTo>
                  <a:pt x="8429" y="11814"/>
                  <a:pt x="8440" y="11851"/>
                  <a:pt x="8458" y="11881"/>
                </a:cubicBezTo>
                <a:cubicBezTo>
                  <a:pt x="8484" y="11923"/>
                  <a:pt x="8507" y="11908"/>
                  <a:pt x="8533" y="11956"/>
                </a:cubicBezTo>
                <a:cubicBezTo>
                  <a:pt x="8553" y="11993"/>
                  <a:pt x="8558" y="12038"/>
                  <a:pt x="8582" y="12080"/>
                </a:cubicBezTo>
                <a:cubicBezTo>
                  <a:pt x="8605" y="12120"/>
                  <a:pt x="8633" y="12161"/>
                  <a:pt x="8657" y="12204"/>
                </a:cubicBezTo>
                <a:cubicBezTo>
                  <a:pt x="8679" y="12244"/>
                  <a:pt x="8708" y="12287"/>
                  <a:pt x="8731" y="12328"/>
                </a:cubicBezTo>
                <a:cubicBezTo>
                  <a:pt x="8749" y="12360"/>
                  <a:pt x="8764" y="12399"/>
                  <a:pt x="8781" y="12427"/>
                </a:cubicBezTo>
                <a:cubicBezTo>
                  <a:pt x="8810" y="12474"/>
                  <a:pt x="8827" y="12501"/>
                  <a:pt x="8855" y="12551"/>
                </a:cubicBezTo>
                <a:cubicBezTo>
                  <a:pt x="8876" y="12589"/>
                  <a:pt x="8910" y="12614"/>
                  <a:pt x="8930" y="12650"/>
                </a:cubicBezTo>
                <a:cubicBezTo>
                  <a:pt x="8960" y="12704"/>
                  <a:pt x="8973" y="12772"/>
                  <a:pt x="9004" y="12824"/>
                </a:cubicBezTo>
                <a:cubicBezTo>
                  <a:pt x="9034" y="12875"/>
                  <a:pt x="9073" y="12920"/>
                  <a:pt x="9103" y="12973"/>
                </a:cubicBezTo>
                <a:cubicBezTo>
                  <a:pt x="9133" y="13026"/>
                  <a:pt x="9170" y="13072"/>
                  <a:pt x="9203" y="13122"/>
                </a:cubicBezTo>
                <a:cubicBezTo>
                  <a:pt x="9230" y="13163"/>
                  <a:pt x="9274" y="13229"/>
                  <a:pt x="9302" y="13271"/>
                </a:cubicBezTo>
                <a:cubicBezTo>
                  <a:pt x="9335" y="13320"/>
                  <a:pt x="9369" y="13370"/>
                  <a:pt x="9401" y="13419"/>
                </a:cubicBezTo>
                <a:cubicBezTo>
                  <a:pt x="9433" y="13469"/>
                  <a:pt x="9469" y="13518"/>
                  <a:pt x="9500" y="13568"/>
                </a:cubicBezTo>
                <a:cubicBezTo>
                  <a:pt x="9538" y="13629"/>
                  <a:pt x="9566" y="13718"/>
                  <a:pt x="9599" y="13767"/>
                </a:cubicBezTo>
                <a:cubicBezTo>
                  <a:pt x="9635" y="13820"/>
                  <a:pt x="9689" y="13859"/>
                  <a:pt x="9723" y="13915"/>
                </a:cubicBezTo>
                <a:cubicBezTo>
                  <a:pt x="9748" y="13956"/>
                  <a:pt x="9770" y="13997"/>
                  <a:pt x="9798" y="14039"/>
                </a:cubicBezTo>
                <a:cubicBezTo>
                  <a:pt x="9826" y="14082"/>
                  <a:pt x="9843" y="14117"/>
                  <a:pt x="9872" y="14163"/>
                </a:cubicBezTo>
                <a:cubicBezTo>
                  <a:pt x="9901" y="14210"/>
                  <a:pt x="9942" y="14273"/>
                  <a:pt x="9971" y="14312"/>
                </a:cubicBezTo>
                <a:cubicBezTo>
                  <a:pt x="9999" y="14350"/>
                  <a:pt x="10022" y="14404"/>
                  <a:pt x="10046" y="14436"/>
                </a:cubicBezTo>
                <a:cubicBezTo>
                  <a:pt x="10112" y="14525"/>
                  <a:pt x="10204" y="14629"/>
                  <a:pt x="10269" y="14709"/>
                </a:cubicBezTo>
                <a:cubicBezTo>
                  <a:pt x="10306" y="14753"/>
                  <a:pt x="10375" y="14835"/>
                  <a:pt x="10418" y="14883"/>
                </a:cubicBezTo>
                <a:cubicBezTo>
                  <a:pt x="10471" y="14942"/>
                  <a:pt x="10554" y="15016"/>
                  <a:pt x="10592" y="15056"/>
                </a:cubicBezTo>
                <a:cubicBezTo>
                  <a:pt x="10614" y="15078"/>
                  <a:pt x="10653" y="15115"/>
                  <a:pt x="10666" y="15131"/>
                </a:cubicBezTo>
                <a:cubicBezTo>
                  <a:pt x="10695" y="15166"/>
                  <a:pt x="10711" y="15200"/>
                  <a:pt x="10740" y="15230"/>
                </a:cubicBezTo>
                <a:cubicBezTo>
                  <a:pt x="10760" y="15250"/>
                  <a:pt x="10789" y="15278"/>
                  <a:pt x="10815" y="15304"/>
                </a:cubicBezTo>
                <a:cubicBezTo>
                  <a:pt x="10831" y="15321"/>
                  <a:pt x="10858" y="15350"/>
                  <a:pt x="10889" y="15379"/>
                </a:cubicBezTo>
                <a:cubicBezTo>
                  <a:pt x="10995" y="15479"/>
                  <a:pt x="11088" y="15575"/>
                  <a:pt x="11212" y="15627"/>
                </a:cubicBezTo>
                <a:cubicBezTo>
                  <a:pt x="11253" y="15644"/>
                  <a:pt x="11290" y="15670"/>
                  <a:pt x="11336" y="15677"/>
                </a:cubicBezTo>
                <a:cubicBezTo>
                  <a:pt x="11463" y="15697"/>
                  <a:pt x="11590" y="15652"/>
                  <a:pt x="11708" y="15627"/>
                </a:cubicBezTo>
                <a:cubicBezTo>
                  <a:pt x="11768" y="15614"/>
                  <a:pt x="11822" y="15597"/>
                  <a:pt x="11881" y="15577"/>
                </a:cubicBezTo>
                <a:cubicBezTo>
                  <a:pt x="11935" y="15559"/>
                  <a:pt x="12001" y="15554"/>
                  <a:pt x="12055" y="15528"/>
                </a:cubicBezTo>
                <a:cubicBezTo>
                  <a:pt x="12099" y="15507"/>
                  <a:pt x="12139" y="15477"/>
                  <a:pt x="12179" y="15453"/>
                </a:cubicBezTo>
                <a:cubicBezTo>
                  <a:pt x="12330" y="15361"/>
                  <a:pt x="12473" y="15217"/>
                  <a:pt x="12601" y="15106"/>
                </a:cubicBezTo>
                <a:cubicBezTo>
                  <a:pt x="12695" y="15025"/>
                  <a:pt x="12782" y="14944"/>
                  <a:pt x="12874" y="14858"/>
                </a:cubicBezTo>
                <a:cubicBezTo>
                  <a:pt x="12931" y="14804"/>
                  <a:pt x="12994" y="14763"/>
                  <a:pt x="13047" y="14709"/>
                </a:cubicBezTo>
                <a:cubicBezTo>
                  <a:pt x="13095" y="14661"/>
                  <a:pt x="13144" y="14613"/>
                  <a:pt x="13196" y="14560"/>
                </a:cubicBezTo>
                <a:cubicBezTo>
                  <a:pt x="13251" y="14504"/>
                  <a:pt x="13325" y="14419"/>
                  <a:pt x="13370" y="14362"/>
                </a:cubicBezTo>
                <a:cubicBezTo>
                  <a:pt x="13418" y="14301"/>
                  <a:pt x="13447" y="14224"/>
                  <a:pt x="13494" y="14163"/>
                </a:cubicBezTo>
                <a:cubicBezTo>
                  <a:pt x="13562" y="14075"/>
                  <a:pt x="13632" y="13985"/>
                  <a:pt x="13692" y="13891"/>
                </a:cubicBezTo>
                <a:cubicBezTo>
                  <a:pt x="13735" y="13823"/>
                  <a:pt x="13776" y="13763"/>
                  <a:pt x="13816" y="13692"/>
                </a:cubicBezTo>
                <a:cubicBezTo>
                  <a:pt x="13966" y="13424"/>
                  <a:pt x="14097" y="13145"/>
                  <a:pt x="14263" y="12898"/>
                </a:cubicBezTo>
                <a:cubicBezTo>
                  <a:pt x="14287" y="12862"/>
                  <a:pt x="14311" y="12837"/>
                  <a:pt x="14337" y="12799"/>
                </a:cubicBezTo>
                <a:cubicBezTo>
                  <a:pt x="14383" y="12732"/>
                  <a:pt x="14445" y="12663"/>
                  <a:pt x="14486" y="12601"/>
                </a:cubicBezTo>
                <a:cubicBezTo>
                  <a:pt x="14498" y="12582"/>
                  <a:pt x="14542" y="12561"/>
                  <a:pt x="14560" y="12526"/>
                </a:cubicBezTo>
                <a:cubicBezTo>
                  <a:pt x="14575" y="12495"/>
                  <a:pt x="14595" y="12459"/>
                  <a:pt x="14610" y="12427"/>
                </a:cubicBezTo>
                <a:cubicBezTo>
                  <a:pt x="14623" y="12397"/>
                  <a:pt x="14622" y="12358"/>
                  <a:pt x="14635" y="12328"/>
                </a:cubicBezTo>
                <a:cubicBezTo>
                  <a:pt x="14648" y="12298"/>
                  <a:pt x="14647" y="12260"/>
                  <a:pt x="14660" y="12229"/>
                </a:cubicBezTo>
                <a:cubicBezTo>
                  <a:pt x="14674" y="12198"/>
                  <a:pt x="14698" y="12160"/>
                  <a:pt x="14709" y="12129"/>
                </a:cubicBezTo>
              </a:path>
              <a:path w="16769" h="8757">
                <a:moveTo>
                  <a:pt x="14709" y="9302"/>
                </a:moveTo>
                <a:cubicBezTo>
                  <a:pt x="14787" y="9302"/>
                  <a:pt x="14766" y="9317"/>
                  <a:pt x="14808" y="9252"/>
                </a:cubicBezTo>
                <a:cubicBezTo>
                  <a:pt x="14789" y="9193"/>
                  <a:pt x="14730" y="9239"/>
                  <a:pt x="14684" y="9252"/>
                </a:cubicBezTo>
                <a:cubicBezTo>
                  <a:pt x="14635" y="9266"/>
                  <a:pt x="14611" y="9333"/>
                  <a:pt x="14660" y="9376"/>
                </a:cubicBezTo>
                <a:cubicBezTo>
                  <a:pt x="14719" y="9428"/>
                  <a:pt x="14775" y="9344"/>
                  <a:pt x="14784" y="9327"/>
                </a:cubicBezTo>
                <a:cubicBezTo>
                  <a:pt x="14804" y="9289"/>
                  <a:pt x="14808" y="9274"/>
                  <a:pt x="14808" y="9227"/>
                </a:cubicBezTo>
                <a:cubicBezTo>
                  <a:pt x="14745" y="9227"/>
                  <a:pt x="14634" y="9208"/>
                  <a:pt x="14610" y="9252"/>
                </a:cubicBezTo>
                <a:cubicBezTo>
                  <a:pt x="14602" y="9269"/>
                  <a:pt x="14593" y="9285"/>
                  <a:pt x="14585" y="9302"/>
                </a:cubicBezTo>
              </a:path>
              <a:path w="16769" h="8757">
                <a:moveTo>
                  <a:pt x="4366" y="9103"/>
                </a:moveTo>
                <a:cubicBezTo>
                  <a:pt x="4458" y="9129"/>
                  <a:pt x="4576" y="9118"/>
                  <a:pt x="4663" y="9153"/>
                </a:cubicBezTo>
                <a:cubicBezTo>
                  <a:pt x="4718" y="9175"/>
                  <a:pt x="4766" y="9201"/>
                  <a:pt x="4812" y="9227"/>
                </a:cubicBezTo>
                <a:cubicBezTo>
                  <a:pt x="4882" y="9267"/>
                  <a:pt x="4916" y="9286"/>
                  <a:pt x="4986" y="9327"/>
                </a:cubicBezTo>
                <a:cubicBezTo>
                  <a:pt x="5049" y="9364"/>
                  <a:pt x="5140" y="9419"/>
                  <a:pt x="5184" y="9451"/>
                </a:cubicBezTo>
                <a:cubicBezTo>
                  <a:pt x="5258" y="9506"/>
                  <a:pt x="5342" y="9606"/>
                  <a:pt x="5407" y="9674"/>
                </a:cubicBezTo>
                <a:cubicBezTo>
                  <a:pt x="5627" y="9905"/>
                  <a:pt x="5820" y="10169"/>
                  <a:pt x="5978" y="10443"/>
                </a:cubicBezTo>
                <a:cubicBezTo>
                  <a:pt x="6036" y="10544"/>
                  <a:pt x="6110" y="10685"/>
                  <a:pt x="6152" y="10790"/>
                </a:cubicBezTo>
                <a:cubicBezTo>
                  <a:pt x="6182" y="10865"/>
                  <a:pt x="6195" y="10935"/>
                  <a:pt x="6226" y="11013"/>
                </a:cubicBezTo>
                <a:cubicBezTo>
                  <a:pt x="6258" y="11093"/>
                  <a:pt x="6296" y="11181"/>
                  <a:pt x="6325" y="11261"/>
                </a:cubicBezTo>
                <a:cubicBezTo>
                  <a:pt x="6344" y="11314"/>
                  <a:pt x="6358" y="11385"/>
                  <a:pt x="6375" y="11435"/>
                </a:cubicBezTo>
                <a:cubicBezTo>
                  <a:pt x="6394" y="11493"/>
                  <a:pt x="6404" y="11553"/>
                  <a:pt x="6424" y="11609"/>
                </a:cubicBezTo>
                <a:cubicBezTo>
                  <a:pt x="6446" y="11668"/>
                  <a:pt x="6451" y="11729"/>
                  <a:pt x="6474" y="11782"/>
                </a:cubicBezTo>
                <a:cubicBezTo>
                  <a:pt x="6506" y="11857"/>
                  <a:pt x="6541" y="11908"/>
                  <a:pt x="6573" y="11981"/>
                </a:cubicBezTo>
                <a:cubicBezTo>
                  <a:pt x="6610" y="12065"/>
                  <a:pt x="6655" y="12143"/>
                  <a:pt x="6697" y="12229"/>
                </a:cubicBezTo>
                <a:cubicBezTo>
                  <a:pt x="6731" y="12298"/>
                  <a:pt x="6787" y="12360"/>
                  <a:pt x="6821" y="12427"/>
                </a:cubicBezTo>
                <a:cubicBezTo>
                  <a:pt x="6920" y="12622"/>
                  <a:pt x="6999" y="12844"/>
                  <a:pt x="7094" y="13047"/>
                </a:cubicBezTo>
                <a:cubicBezTo>
                  <a:pt x="7130" y="13125"/>
                  <a:pt x="7182" y="13225"/>
                  <a:pt x="7218" y="13295"/>
                </a:cubicBezTo>
                <a:cubicBezTo>
                  <a:pt x="7301" y="13456"/>
                  <a:pt x="7386" y="13611"/>
                  <a:pt x="7466" y="13767"/>
                </a:cubicBezTo>
                <a:cubicBezTo>
                  <a:pt x="7504" y="13841"/>
                  <a:pt x="7548" y="13916"/>
                  <a:pt x="7590" y="13990"/>
                </a:cubicBezTo>
                <a:cubicBezTo>
                  <a:pt x="7636" y="14070"/>
                  <a:pt x="7689" y="14156"/>
                  <a:pt x="7739" y="14238"/>
                </a:cubicBezTo>
                <a:cubicBezTo>
                  <a:pt x="7773" y="14294"/>
                  <a:pt x="7801" y="14357"/>
                  <a:pt x="7838" y="14412"/>
                </a:cubicBezTo>
                <a:cubicBezTo>
                  <a:pt x="7954" y="14581"/>
                  <a:pt x="8074" y="14754"/>
                  <a:pt x="8210" y="14908"/>
                </a:cubicBezTo>
                <a:cubicBezTo>
                  <a:pt x="8251" y="14955"/>
                  <a:pt x="8313" y="14984"/>
                  <a:pt x="8359" y="15032"/>
                </a:cubicBezTo>
                <a:cubicBezTo>
                  <a:pt x="8444" y="15120"/>
                  <a:pt x="8514" y="15197"/>
                  <a:pt x="8607" y="15280"/>
                </a:cubicBezTo>
                <a:cubicBezTo>
                  <a:pt x="8653" y="15321"/>
                  <a:pt x="8699" y="15366"/>
                  <a:pt x="8756" y="15404"/>
                </a:cubicBezTo>
                <a:cubicBezTo>
                  <a:pt x="8822" y="15448"/>
                  <a:pt x="8864" y="15477"/>
                  <a:pt x="8930" y="15503"/>
                </a:cubicBezTo>
                <a:cubicBezTo>
                  <a:pt x="8967" y="15518"/>
                  <a:pt x="8987" y="15544"/>
                  <a:pt x="9029" y="15553"/>
                </a:cubicBezTo>
                <a:cubicBezTo>
                  <a:pt x="9074" y="15562"/>
                  <a:pt x="9100" y="15577"/>
                  <a:pt x="9153" y="15577"/>
                </a:cubicBezTo>
                <a:cubicBezTo>
                  <a:pt x="9204" y="15577"/>
                  <a:pt x="9282" y="15540"/>
                  <a:pt x="9327" y="15528"/>
                </a:cubicBezTo>
                <a:cubicBezTo>
                  <a:pt x="9367" y="15517"/>
                  <a:pt x="9389" y="15493"/>
                  <a:pt x="9426" y="15478"/>
                </a:cubicBezTo>
                <a:cubicBezTo>
                  <a:pt x="9475" y="15458"/>
                  <a:pt x="9504" y="15458"/>
                  <a:pt x="9550" y="15429"/>
                </a:cubicBezTo>
                <a:cubicBezTo>
                  <a:pt x="9586" y="15407"/>
                  <a:pt x="9618" y="15379"/>
                  <a:pt x="9649" y="15354"/>
                </a:cubicBezTo>
                <a:cubicBezTo>
                  <a:pt x="9874" y="15176"/>
                  <a:pt x="10063" y="14891"/>
                  <a:pt x="10195" y="14660"/>
                </a:cubicBezTo>
                <a:cubicBezTo>
                  <a:pt x="10242" y="14579"/>
                  <a:pt x="10284" y="14493"/>
                  <a:pt x="10319" y="14412"/>
                </a:cubicBezTo>
                <a:cubicBezTo>
                  <a:pt x="10353" y="14333"/>
                  <a:pt x="10386" y="14267"/>
                  <a:pt x="10418" y="14188"/>
                </a:cubicBezTo>
                <a:cubicBezTo>
                  <a:pt x="10468" y="14063"/>
                  <a:pt x="10519" y="13921"/>
                  <a:pt x="10567" y="13791"/>
                </a:cubicBezTo>
                <a:cubicBezTo>
                  <a:pt x="10618" y="13651"/>
                  <a:pt x="10668" y="13513"/>
                  <a:pt x="10716" y="13370"/>
                </a:cubicBezTo>
                <a:cubicBezTo>
                  <a:pt x="10750" y="13271"/>
                  <a:pt x="10783" y="13167"/>
                  <a:pt x="10815" y="13072"/>
                </a:cubicBezTo>
                <a:cubicBezTo>
                  <a:pt x="10855" y="12952"/>
                  <a:pt x="10900" y="12843"/>
                  <a:pt x="10939" y="12725"/>
                </a:cubicBezTo>
                <a:cubicBezTo>
                  <a:pt x="10962" y="12654"/>
                  <a:pt x="10991" y="12568"/>
                  <a:pt x="11013" y="12502"/>
                </a:cubicBezTo>
                <a:cubicBezTo>
                  <a:pt x="11046" y="12405"/>
                  <a:pt x="11075" y="12300"/>
                  <a:pt x="11112" y="12204"/>
                </a:cubicBezTo>
                <a:cubicBezTo>
                  <a:pt x="11138" y="12137"/>
                  <a:pt x="11156" y="12096"/>
                  <a:pt x="11187" y="12030"/>
                </a:cubicBezTo>
                <a:cubicBezTo>
                  <a:pt x="11215" y="11969"/>
                  <a:pt x="11252" y="11900"/>
                  <a:pt x="11286" y="11832"/>
                </a:cubicBezTo>
                <a:cubicBezTo>
                  <a:pt x="11323" y="11757"/>
                  <a:pt x="11369" y="11684"/>
                  <a:pt x="11410" y="11609"/>
                </a:cubicBezTo>
                <a:cubicBezTo>
                  <a:pt x="11437" y="11559"/>
                  <a:pt x="11478" y="11491"/>
                  <a:pt x="11509" y="11435"/>
                </a:cubicBezTo>
                <a:cubicBezTo>
                  <a:pt x="11579" y="11307"/>
                  <a:pt x="11651" y="11182"/>
                  <a:pt x="11733" y="11063"/>
                </a:cubicBezTo>
                <a:cubicBezTo>
                  <a:pt x="11841" y="10907"/>
                  <a:pt x="11942" y="10744"/>
                  <a:pt x="12055" y="10592"/>
                </a:cubicBezTo>
                <a:cubicBezTo>
                  <a:pt x="12121" y="10504"/>
                  <a:pt x="12228" y="10373"/>
                  <a:pt x="12303" y="10294"/>
                </a:cubicBezTo>
                <a:cubicBezTo>
                  <a:pt x="12356" y="10238"/>
                  <a:pt x="12418" y="10176"/>
                  <a:pt x="12477" y="10120"/>
                </a:cubicBezTo>
                <a:cubicBezTo>
                  <a:pt x="12532" y="10067"/>
                  <a:pt x="12625" y="9986"/>
                  <a:pt x="12700" y="9922"/>
                </a:cubicBezTo>
                <a:cubicBezTo>
                  <a:pt x="12833" y="9808"/>
                  <a:pt x="12990" y="9681"/>
                  <a:pt x="13122" y="9599"/>
                </a:cubicBezTo>
                <a:cubicBezTo>
                  <a:pt x="13170" y="9569"/>
                  <a:pt x="13230" y="9536"/>
                  <a:pt x="13295" y="9500"/>
                </a:cubicBezTo>
                <a:cubicBezTo>
                  <a:pt x="13385" y="9450"/>
                  <a:pt x="13437" y="9417"/>
                  <a:pt x="13519" y="9376"/>
                </a:cubicBezTo>
                <a:cubicBezTo>
                  <a:pt x="13573" y="9349"/>
                  <a:pt x="13630" y="9330"/>
                  <a:pt x="13692" y="9302"/>
                </a:cubicBezTo>
                <a:cubicBezTo>
                  <a:pt x="13759" y="9271"/>
                  <a:pt x="13798" y="9251"/>
                  <a:pt x="13866" y="9227"/>
                </a:cubicBezTo>
                <a:cubicBezTo>
                  <a:pt x="13919" y="9208"/>
                  <a:pt x="13958" y="9162"/>
                  <a:pt x="14015" y="9153"/>
                </a:cubicBezTo>
                <a:cubicBezTo>
                  <a:pt x="14292" y="9110"/>
                  <a:pt x="14615" y="9169"/>
                  <a:pt x="14833" y="9227"/>
                </a:cubicBezTo>
                <a:cubicBezTo>
                  <a:pt x="14936" y="9254"/>
                  <a:pt x="14998" y="9263"/>
                  <a:pt x="15081" y="9302"/>
                </a:cubicBezTo>
                <a:cubicBezTo>
                  <a:pt x="15136" y="9328"/>
                  <a:pt x="15205" y="9365"/>
                  <a:pt x="15255" y="9401"/>
                </a:cubicBezTo>
                <a:cubicBezTo>
                  <a:pt x="15305" y="9437"/>
                  <a:pt x="15369" y="9475"/>
                  <a:pt x="15429" y="9525"/>
                </a:cubicBezTo>
                <a:cubicBezTo>
                  <a:pt x="15442" y="9536"/>
                  <a:pt x="15487" y="9583"/>
                  <a:pt x="15503" y="9599"/>
                </a:cubicBezTo>
                <a:cubicBezTo>
                  <a:pt x="15536" y="9632"/>
                  <a:pt x="15583" y="9655"/>
                  <a:pt x="15602" y="9674"/>
                </a:cubicBezTo>
                <a:cubicBezTo>
                  <a:pt x="15621" y="9693"/>
                  <a:pt x="15638" y="9756"/>
                  <a:pt x="15652" y="9773"/>
                </a:cubicBezTo>
                <a:cubicBezTo>
                  <a:pt x="15691" y="9820"/>
                  <a:pt x="15711" y="9844"/>
                  <a:pt x="15751" y="9897"/>
                </a:cubicBezTo>
                <a:cubicBezTo>
                  <a:pt x="15765" y="9915"/>
                  <a:pt x="15801" y="9959"/>
                  <a:pt x="15825" y="9996"/>
                </a:cubicBezTo>
                <a:cubicBezTo>
                  <a:pt x="15890" y="10099"/>
                  <a:pt x="15978" y="10212"/>
                  <a:pt x="16024" y="10294"/>
                </a:cubicBezTo>
                <a:cubicBezTo>
                  <a:pt x="16051" y="10342"/>
                  <a:pt x="16040" y="10355"/>
                  <a:pt x="16073" y="10418"/>
                </a:cubicBezTo>
                <a:cubicBezTo>
                  <a:pt x="16099" y="10468"/>
                  <a:pt x="16121" y="10511"/>
                  <a:pt x="16148" y="10567"/>
                </a:cubicBezTo>
                <a:cubicBezTo>
                  <a:pt x="16178" y="10631"/>
                  <a:pt x="16195" y="10684"/>
                  <a:pt x="16222" y="10740"/>
                </a:cubicBezTo>
                <a:cubicBezTo>
                  <a:pt x="16242" y="10782"/>
                  <a:pt x="16278" y="10821"/>
                  <a:pt x="16297" y="10864"/>
                </a:cubicBezTo>
                <a:cubicBezTo>
                  <a:pt x="16313" y="10902"/>
                  <a:pt x="16331" y="10952"/>
                  <a:pt x="16346" y="10988"/>
                </a:cubicBezTo>
                <a:cubicBezTo>
                  <a:pt x="16367" y="11038"/>
                  <a:pt x="16378" y="11089"/>
                  <a:pt x="16396" y="11137"/>
                </a:cubicBezTo>
                <a:cubicBezTo>
                  <a:pt x="16421" y="11203"/>
                  <a:pt x="16445" y="11246"/>
                  <a:pt x="16470" y="11311"/>
                </a:cubicBezTo>
                <a:cubicBezTo>
                  <a:pt x="16498" y="11384"/>
                  <a:pt x="16511" y="11451"/>
                  <a:pt x="16545" y="11534"/>
                </a:cubicBezTo>
                <a:cubicBezTo>
                  <a:pt x="16571" y="11597"/>
                  <a:pt x="16598" y="11650"/>
                  <a:pt x="16619" y="11708"/>
                </a:cubicBezTo>
                <a:cubicBezTo>
                  <a:pt x="16637" y="11758"/>
                  <a:pt x="16649" y="11828"/>
                  <a:pt x="16669" y="11881"/>
                </a:cubicBezTo>
                <a:cubicBezTo>
                  <a:pt x="16683" y="11919"/>
                  <a:pt x="16704" y="11963"/>
                  <a:pt x="16718" y="12005"/>
                </a:cubicBezTo>
                <a:cubicBezTo>
                  <a:pt x="16735" y="12055"/>
                  <a:pt x="16752" y="12105"/>
                  <a:pt x="16768" y="12154"/>
                </a:cubicBezTo>
                <a:cubicBezTo>
                  <a:pt x="16788" y="12214"/>
                  <a:pt x="16827" y="12274"/>
                  <a:pt x="16842" y="12328"/>
                </a:cubicBezTo>
                <a:cubicBezTo>
                  <a:pt x="16857" y="12382"/>
                  <a:pt x="16853" y="12447"/>
                  <a:pt x="16867" y="12502"/>
                </a:cubicBezTo>
                <a:cubicBezTo>
                  <a:pt x="16877" y="12542"/>
                  <a:pt x="16880" y="12584"/>
                  <a:pt x="16892" y="12626"/>
                </a:cubicBezTo>
                <a:cubicBezTo>
                  <a:pt x="16909" y="12684"/>
                  <a:pt x="16926" y="12741"/>
                  <a:pt x="16942" y="12799"/>
                </a:cubicBezTo>
                <a:cubicBezTo>
                  <a:pt x="16961" y="12867"/>
                  <a:pt x="16997" y="12927"/>
                  <a:pt x="17016" y="12998"/>
                </a:cubicBezTo>
                <a:cubicBezTo>
                  <a:pt x="17029" y="13048"/>
                  <a:pt x="17026" y="13096"/>
                  <a:pt x="17041" y="13146"/>
                </a:cubicBezTo>
                <a:cubicBezTo>
                  <a:pt x="17061" y="13212"/>
                  <a:pt x="17067" y="13280"/>
                  <a:pt x="17090" y="13345"/>
                </a:cubicBezTo>
                <a:cubicBezTo>
                  <a:pt x="17107" y="13394"/>
                  <a:pt x="17123" y="13443"/>
                  <a:pt x="17140" y="13494"/>
                </a:cubicBezTo>
                <a:cubicBezTo>
                  <a:pt x="17155" y="13540"/>
                  <a:pt x="17196" y="13591"/>
                  <a:pt x="17214" y="13643"/>
                </a:cubicBezTo>
                <a:cubicBezTo>
                  <a:pt x="17228" y="13684"/>
                  <a:pt x="17252" y="13730"/>
                  <a:pt x="17264" y="13767"/>
                </a:cubicBezTo>
                <a:cubicBezTo>
                  <a:pt x="17280" y="13816"/>
                  <a:pt x="17300" y="13869"/>
                  <a:pt x="17314" y="13915"/>
                </a:cubicBezTo>
                <a:cubicBezTo>
                  <a:pt x="17333" y="13975"/>
                  <a:pt x="17340" y="14026"/>
                  <a:pt x="17363" y="14089"/>
                </a:cubicBezTo>
                <a:cubicBezTo>
                  <a:pt x="17381" y="14140"/>
                  <a:pt x="17392" y="14192"/>
                  <a:pt x="17413" y="14238"/>
                </a:cubicBezTo>
                <a:cubicBezTo>
                  <a:pt x="17447" y="14312"/>
                  <a:pt x="17469" y="14391"/>
                  <a:pt x="17512" y="14461"/>
                </a:cubicBezTo>
                <a:cubicBezTo>
                  <a:pt x="17539" y="14505"/>
                  <a:pt x="17623" y="14562"/>
                  <a:pt x="17661" y="14610"/>
                </a:cubicBezTo>
                <a:cubicBezTo>
                  <a:pt x="17704" y="14664"/>
                  <a:pt x="17742" y="14711"/>
                  <a:pt x="17785" y="14759"/>
                </a:cubicBezTo>
                <a:cubicBezTo>
                  <a:pt x="17999" y="14998"/>
                  <a:pt x="18227" y="15198"/>
                  <a:pt x="18504" y="15329"/>
                </a:cubicBezTo>
                <a:cubicBezTo>
                  <a:pt x="18562" y="15357"/>
                  <a:pt x="18618" y="15385"/>
                  <a:pt x="18678" y="15404"/>
                </a:cubicBezTo>
                <a:cubicBezTo>
                  <a:pt x="18722" y="15418"/>
                  <a:pt x="18760" y="15414"/>
                  <a:pt x="18802" y="15429"/>
                </a:cubicBezTo>
                <a:cubicBezTo>
                  <a:pt x="18844" y="15444"/>
                  <a:pt x="18884" y="15439"/>
                  <a:pt x="18926" y="15453"/>
                </a:cubicBezTo>
                <a:cubicBezTo>
                  <a:pt x="18965" y="15466"/>
                  <a:pt x="18937" y="15466"/>
                  <a:pt x="18976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25360" y="3054240"/>
            <a:ext cx="581040" cy="276480"/>
          </a:xfrm>
          <a:custGeom>
            <a:avLst/>
            <a:gdLst/>
            <a:ahLst/>
            <a:rect l="l" t="t" r="r" b="b"/>
            <a:pathLst>
              <a:path w="1614" h="770">
                <a:moveTo>
                  <a:pt x="3671" y="9079"/>
                </a:moveTo>
                <a:cubicBezTo>
                  <a:pt x="3750" y="9079"/>
                  <a:pt x="3821" y="9094"/>
                  <a:pt x="3894" y="9103"/>
                </a:cubicBezTo>
                <a:cubicBezTo>
                  <a:pt x="4181" y="9139"/>
                  <a:pt x="4999" y="8954"/>
                  <a:pt x="4738" y="9079"/>
                </a:cubicBezTo>
                <a:cubicBezTo>
                  <a:pt x="4715" y="9101"/>
                  <a:pt x="4710" y="9109"/>
                  <a:pt x="4688" y="9103"/>
                </a:cubicBezTo>
              </a:path>
              <a:path w="1614" h="770">
                <a:moveTo>
                  <a:pt x="3125" y="8483"/>
                </a:moveTo>
                <a:cubicBezTo>
                  <a:pt x="3144" y="8576"/>
                  <a:pt x="3150" y="8594"/>
                  <a:pt x="3150" y="8706"/>
                </a:cubicBezTo>
                <a:cubicBezTo>
                  <a:pt x="3150" y="8858"/>
                  <a:pt x="3139" y="9010"/>
                  <a:pt x="3175" y="9153"/>
                </a:cubicBezTo>
                <a:cubicBezTo>
                  <a:pt x="3183" y="9183"/>
                  <a:pt x="3175" y="9221"/>
                  <a:pt x="3175" y="9252"/>
                </a:cubicBezTo>
              </a:path>
              <a:path w="1614" h="770">
                <a:moveTo>
                  <a:pt x="4142" y="9004"/>
                </a:moveTo>
                <a:cubicBezTo>
                  <a:pt x="4187" y="9004"/>
                  <a:pt x="4270" y="8995"/>
                  <a:pt x="4266" y="8930"/>
                </a:cubicBezTo>
                <a:cubicBezTo>
                  <a:pt x="4258" y="8913"/>
                  <a:pt x="4250" y="8897"/>
                  <a:pt x="4242" y="8880"/>
                </a:cubicBezTo>
                <a:cubicBezTo>
                  <a:pt x="4210" y="8893"/>
                  <a:pt x="4140" y="8922"/>
                  <a:pt x="4118" y="8954"/>
                </a:cubicBezTo>
                <a:cubicBezTo>
                  <a:pt x="4064" y="9033"/>
                  <a:pt x="4069" y="8986"/>
                  <a:pt x="4093" y="9079"/>
                </a:cubicBezTo>
                <a:cubicBezTo>
                  <a:pt x="4099" y="9104"/>
                  <a:pt x="4131" y="9148"/>
                  <a:pt x="4167" y="9153"/>
                </a:cubicBezTo>
                <a:cubicBezTo>
                  <a:pt x="4270" y="9168"/>
                  <a:pt x="4283" y="9162"/>
                  <a:pt x="4316" y="9103"/>
                </a:cubicBezTo>
                <a:cubicBezTo>
                  <a:pt x="4324" y="9095"/>
                  <a:pt x="4333" y="9087"/>
                  <a:pt x="4341" y="9079"/>
                </a:cubicBezTo>
                <a:cubicBezTo>
                  <a:pt x="4314" y="9016"/>
                  <a:pt x="4328" y="9004"/>
                  <a:pt x="4266" y="9004"/>
                </a:cubicBezTo>
                <a:cubicBezTo>
                  <a:pt x="4230" y="9004"/>
                  <a:pt x="4139" y="8989"/>
                  <a:pt x="4118" y="9029"/>
                </a:cubicBezTo>
                <a:cubicBezTo>
                  <a:pt x="4102" y="9059"/>
                  <a:pt x="4115" y="9161"/>
                  <a:pt x="4142" y="9178"/>
                </a:cubicBezTo>
                <a:cubicBezTo>
                  <a:pt x="4209" y="9220"/>
                  <a:pt x="4202" y="9199"/>
                  <a:pt x="4266" y="9178"/>
                </a:cubicBezTo>
                <a:cubicBezTo>
                  <a:pt x="4297" y="9168"/>
                  <a:pt x="4333" y="9160"/>
                  <a:pt x="4366" y="9153"/>
                </a:cubicBezTo>
                <a:cubicBezTo>
                  <a:pt x="4366" y="9116"/>
                  <a:pt x="4386" y="9021"/>
                  <a:pt x="4341" y="9004"/>
                </a:cubicBezTo>
                <a:cubicBezTo>
                  <a:pt x="4297" y="8987"/>
                  <a:pt x="4250" y="8931"/>
                  <a:pt x="4192" y="8954"/>
                </a:cubicBezTo>
                <a:cubicBezTo>
                  <a:pt x="4132" y="8978"/>
                  <a:pt x="4028" y="9030"/>
                  <a:pt x="4018" y="9103"/>
                </a:cubicBezTo>
                <a:cubicBezTo>
                  <a:pt x="4018" y="9120"/>
                  <a:pt x="4018" y="9136"/>
                  <a:pt x="4018" y="9153"/>
                </a:cubicBezTo>
                <a:cubicBezTo>
                  <a:pt x="4074" y="9167"/>
                  <a:pt x="4077" y="9209"/>
                  <a:pt x="4118" y="9227"/>
                </a:cubicBezTo>
                <a:cubicBezTo>
                  <a:pt x="4172" y="9250"/>
                  <a:pt x="4234" y="9200"/>
                  <a:pt x="4266" y="9178"/>
                </a:cubicBezTo>
                <a:cubicBezTo>
                  <a:pt x="4326" y="9136"/>
                  <a:pt x="4357" y="9094"/>
                  <a:pt x="4341" y="9004"/>
                </a:cubicBezTo>
                <a:cubicBezTo>
                  <a:pt x="4326" y="8921"/>
                  <a:pt x="4265" y="8949"/>
                  <a:pt x="4217" y="8954"/>
                </a:cubicBezTo>
                <a:cubicBezTo>
                  <a:pt x="4190" y="8957"/>
                  <a:pt x="4081" y="8988"/>
                  <a:pt x="4068" y="9004"/>
                </a:cubicBezTo>
                <a:cubicBezTo>
                  <a:pt x="4068" y="9012"/>
                  <a:pt x="4068" y="9021"/>
                  <a:pt x="4068" y="9029"/>
                </a:cubicBezTo>
                <a:cubicBezTo>
                  <a:pt x="4087" y="9094"/>
                  <a:pt x="4118" y="9144"/>
                  <a:pt x="4192" y="9153"/>
                </a:cubicBezTo>
                <a:cubicBezTo>
                  <a:pt x="4302" y="9166"/>
                  <a:pt x="4266" y="9120"/>
                  <a:pt x="4341" y="9079"/>
                </a:cubicBezTo>
                <a:cubicBezTo>
                  <a:pt x="4349" y="9079"/>
                  <a:pt x="4358" y="9079"/>
                  <a:pt x="4366" y="9079"/>
                </a:cubicBezTo>
                <a:cubicBezTo>
                  <a:pt x="4358" y="8990"/>
                  <a:pt x="4366" y="8934"/>
                  <a:pt x="4266" y="8930"/>
                </a:cubicBezTo>
                <a:cubicBezTo>
                  <a:pt x="4223" y="8928"/>
                  <a:pt x="3998" y="8905"/>
                  <a:pt x="3994" y="8954"/>
                </a:cubicBezTo>
                <a:cubicBezTo>
                  <a:pt x="3994" y="8971"/>
                  <a:pt x="3994" y="8987"/>
                  <a:pt x="3994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5205240"/>
            <a:ext cx="892080" cy="295560"/>
          </a:xfrm>
          <a:custGeom>
            <a:avLst/>
            <a:gdLst/>
            <a:ahLst/>
            <a:rect l="l" t="t" r="r" b="b"/>
            <a:pathLst>
              <a:path w="2481" h="820">
                <a:moveTo>
                  <a:pt x="3597" y="14858"/>
                </a:moveTo>
                <a:cubicBezTo>
                  <a:pt x="3626" y="14880"/>
                  <a:pt x="3682" y="14901"/>
                  <a:pt x="3721" y="14908"/>
                </a:cubicBezTo>
                <a:cubicBezTo>
                  <a:pt x="3816" y="14925"/>
                  <a:pt x="3922" y="14947"/>
                  <a:pt x="4018" y="14957"/>
                </a:cubicBezTo>
                <a:cubicBezTo>
                  <a:pt x="4136" y="14969"/>
                  <a:pt x="4248" y="14995"/>
                  <a:pt x="4366" y="15007"/>
                </a:cubicBezTo>
                <a:cubicBezTo>
                  <a:pt x="4459" y="15016"/>
                  <a:pt x="4572" y="15012"/>
                  <a:pt x="4663" y="15032"/>
                </a:cubicBezTo>
                <a:cubicBezTo>
                  <a:pt x="4721" y="15045"/>
                  <a:pt x="4749" y="15056"/>
                  <a:pt x="4812" y="15056"/>
                </a:cubicBezTo>
                <a:cubicBezTo>
                  <a:pt x="4799" y="15019"/>
                  <a:pt x="4788" y="15029"/>
                  <a:pt x="4762" y="15007"/>
                </a:cubicBezTo>
                <a:cubicBezTo>
                  <a:pt x="4746" y="14990"/>
                  <a:pt x="4729" y="14974"/>
                  <a:pt x="4713" y="14957"/>
                </a:cubicBezTo>
              </a:path>
              <a:path w="2481" h="820">
                <a:moveTo>
                  <a:pt x="2332" y="14660"/>
                </a:moveTo>
                <a:cubicBezTo>
                  <a:pt x="2393" y="14712"/>
                  <a:pt x="2427" y="14711"/>
                  <a:pt x="2505" y="14734"/>
                </a:cubicBezTo>
                <a:cubicBezTo>
                  <a:pt x="2587" y="14758"/>
                  <a:pt x="2647" y="14759"/>
                  <a:pt x="2729" y="14759"/>
                </a:cubicBezTo>
                <a:cubicBezTo>
                  <a:pt x="2745" y="14759"/>
                  <a:pt x="2762" y="14759"/>
                  <a:pt x="2778" y="14759"/>
                </a:cubicBezTo>
              </a:path>
              <a:path w="2481" h="820">
                <a:moveTo>
                  <a:pt x="3349" y="14461"/>
                </a:moveTo>
                <a:cubicBezTo>
                  <a:pt x="3327" y="14586"/>
                  <a:pt x="3299" y="14685"/>
                  <a:pt x="3299" y="14808"/>
                </a:cubicBezTo>
                <a:cubicBezTo>
                  <a:pt x="3299" y="14942"/>
                  <a:pt x="3288" y="15086"/>
                  <a:pt x="3324" y="15205"/>
                </a:cubicBezTo>
                <a:cubicBezTo>
                  <a:pt x="3336" y="15246"/>
                  <a:pt x="3327" y="15271"/>
                  <a:pt x="3299" y="152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97320" y="4062240"/>
            <a:ext cx="428760" cy="1144800"/>
          </a:xfrm>
          <a:custGeom>
            <a:avLst/>
            <a:gdLst/>
            <a:ahLst/>
            <a:rect l="l" t="t" r="r" b="b"/>
            <a:pathLst>
              <a:path w="1192" h="3176">
                <a:moveTo>
                  <a:pt x="14684" y="11286"/>
                </a:moveTo>
                <a:cubicBezTo>
                  <a:pt x="14697" y="11336"/>
                  <a:pt x="14709" y="11350"/>
                  <a:pt x="14709" y="11410"/>
                </a:cubicBezTo>
                <a:cubicBezTo>
                  <a:pt x="14709" y="11799"/>
                  <a:pt x="14709" y="12187"/>
                  <a:pt x="14709" y="12576"/>
                </a:cubicBezTo>
              </a:path>
              <a:path w="1192" h="3176">
                <a:moveTo>
                  <a:pt x="14560" y="13419"/>
                </a:moveTo>
                <a:cubicBezTo>
                  <a:pt x="14552" y="13427"/>
                  <a:pt x="14544" y="13436"/>
                  <a:pt x="14536" y="13444"/>
                </a:cubicBezTo>
                <a:cubicBezTo>
                  <a:pt x="14560" y="13425"/>
                  <a:pt x="14578" y="13427"/>
                  <a:pt x="14610" y="13395"/>
                </a:cubicBezTo>
                <a:cubicBezTo>
                  <a:pt x="14626" y="13379"/>
                  <a:pt x="14644" y="13361"/>
                  <a:pt x="14660" y="13345"/>
                </a:cubicBezTo>
                <a:cubicBezTo>
                  <a:pt x="14691" y="13314"/>
                  <a:pt x="14739" y="13309"/>
                  <a:pt x="14784" y="13320"/>
                </a:cubicBezTo>
                <a:cubicBezTo>
                  <a:pt x="14824" y="13330"/>
                  <a:pt x="14846" y="13414"/>
                  <a:pt x="14858" y="13444"/>
                </a:cubicBezTo>
                <a:cubicBezTo>
                  <a:pt x="14883" y="13508"/>
                  <a:pt x="14883" y="13572"/>
                  <a:pt x="14883" y="13643"/>
                </a:cubicBezTo>
                <a:cubicBezTo>
                  <a:pt x="14883" y="13752"/>
                  <a:pt x="14865" y="13835"/>
                  <a:pt x="14833" y="13940"/>
                </a:cubicBezTo>
                <a:cubicBezTo>
                  <a:pt x="14809" y="14018"/>
                  <a:pt x="14774" y="14072"/>
                  <a:pt x="14734" y="14139"/>
                </a:cubicBezTo>
                <a:cubicBezTo>
                  <a:pt x="14705" y="14186"/>
                  <a:pt x="14659" y="14232"/>
                  <a:pt x="14610" y="14263"/>
                </a:cubicBezTo>
                <a:cubicBezTo>
                  <a:pt x="14578" y="14284"/>
                  <a:pt x="14526" y="14299"/>
                  <a:pt x="14486" y="14288"/>
                </a:cubicBezTo>
                <a:cubicBezTo>
                  <a:pt x="14455" y="14279"/>
                  <a:pt x="14445" y="14269"/>
                  <a:pt x="14436" y="14238"/>
                </a:cubicBezTo>
                <a:cubicBezTo>
                  <a:pt x="14423" y="14193"/>
                  <a:pt x="14444" y="14171"/>
                  <a:pt x="14461" y="14139"/>
                </a:cubicBezTo>
                <a:cubicBezTo>
                  <a:pt x="14486" y="14093"/>
                  <a:pt x="14478" y="14092"/>
                  <a:pt x="14536" y="14089"/>
                </a:cubicBezTo>
                <a:cubicBezTo>
                  <a:pt x="14583" y="14086"/>
                  <a:pt x="14623" y="14108"/>
                  <a:pt x="14660" y="14139"/>
                </a:cubicBezTo>
                <a:cubicBezTo>
                  <a:pt x="14718" y="14186"/>
                  <a:pt x="14771" y="14249"/>
                  <a:pt x="14808" y="14312"/>
                </a:cubicBezTo>
                <a:cubicBezTo>
                  <a:pt x="14822" y="14335"/>
                  <a:pt x="14867" y="14464"/>
                  <a:pt x="14908" y="14461"/>
                </a:cubicBezTo>
                <a:cubicBezTo>
                  <a:pt x="14945" y="14458"/>
                  <a:pt x="14956" y="14438"/>
                  <a:pt x="14982" y="14412"/>
                </a:cubicBezTo>
              </a:path>
              <a:path w="1192" h="3176">
                <a:moveTo>
                  <a:pt x="15180" y="13543"/>
                </a:moveTo>
                <a:cubicBezTo>
                  <a:pt x="15274" y="13543"/>
                  <a:pt x="15367" y="13530"/>
                  <a:pt x="15453" y="13568"/>
                </a:cubicBezTo>
                <a:cubicBezTo>
                  <a:pt x="15515" y="13596"/>
                  <a:pt x="15560" y="13593"/>
                  <a:pt x="15627" y="13593"/>
                </a:cubicBezTo>
              </a:path>
              <a:path w="1192" h="3176">
                <a:moveTo>
                  <a:pt x="15354" y="13444"/>
                </a:moveTo>
                <a:cubicBezTo>
                  <a:pt x="15263" y="13543"/>
                  <a:pt x="15242" y="13563"/>
                  <a:pt x="15205" y="13667"/>
                </a:cubicBezTo>
                <a:cubicBezTo>
                  <a:pt x="15169" y="13769"/>
                  <a:pt x="15156" y="13799"/>
                  <a:pt x="15156" y="13915"/>
                </a:cubicBezTo>
                <a:cubicBezTo>
                  <a:pt x="15156" y="13940"/>
                  <a:pt x="15163" y="14003"/>
                  <a:pt x="15180" y="14015"/>
                </a:cubicBezTo>
                <a:cubicBezTo>
                  <a:pt x="15205" y="14015"/>
                  <a:pt x="15213" y="14015"/>
                  <a:pt x="15205" y="13990"/>
                </a:cubicBezTo>
              </a:path>
              <a:path w="1192" h="3176">
                <a:moveTo>
                  <a:pt x="15478" y="13519"/>
                </a:moveTo>
                <a:cubicBezTo>
                  <a:pt x="15478" y="13648"/>
                  <a:pt x="15466" y="13769"/>
                  <a:pt x="15503" y="13891"/>
                </a:cubicBezTo>
                <a:cubicBezTo>
                  <a:pt x="15533" y="13991"/>
                  <a:pt x="15528" y="14084"/>
                  <a:pt x="15528" y="14188"/>
                </a:cubicBezTo>
                <a:cubicBezTo>
                  <a:pt x="15528" y="14213"/>
                  <a:pt x="15528" y="14238"/>
                  <a:pt x="15528" y="14263"/>
                </a:cubicBezTo>
              </a:path>
              <a:path w="1192" h="3176">
                <a:moveTo>
                  <a:pt x="14784" y="12204"/>
                </a:moveTo>
                <a:cubicBezTo>
                  <a:pt x="14730" y="12204"/>
                  <a:pt x="14650" y="12184"/>
                  <a:pt x="14635" y="12229"/>
                </a:cubicBezTo>
                <a:cubicBezTo>
                  <a:pt x="14648" y="12267"/>
                  <a:pt x="14664" y="12254"/>
                  <a:pt x="14709" y="12254"/>
                </a:cubicBezTo>
                <a:cubicBezTo>
                  <a:pt x="14745" y="12254"/>
                  <a:pt x="14781" y="12247"/>
                  <a:pt x="14808" y="12229"/>
                </a:cubicBezTo>
                <a:cubicBezTo>
                  <a:pt x="14840" y="12207"/>
                  <a:pt x="14850" y="12186"/>
                  <a:pt x="14858" y="12154"/>
                </a:cubicBezTo>
                <a:cubicBezTo>
                  <a:pt x="14824" y="12128"/>
                  <a:pt x="14783" y="12094"/>
                  <a:pt x="14734" y="12105"/>
                </a:cubicBezTo>
                <a:cubicBezTo>
                  <a:pt x="14692" y="12115"/>
                  <a:pt x="14627" y="12180"/>
                  <a:pt x="14635" y="12229"/>
                </a:cubicBezTo>
                <a:cubicBezTo>
                  <a:pt x="14640" y="12256"/>
                  <a:pt x="14684" y="12295"/>
                  <a:pt x="14709" y="12303"/>
                </a:cubicBezTo>
                <a:cubicBezTo>
                  <a:pt x="14736" y="12312"/>
                  <a:pt x="14803" y="12261"/>
                  <a:pt x="14833" y="12254"/>
                </a:cubicBezTo>
                <a:cubicBezTo>
                  <a:pt x="14883" y="12242"/>
                  <a:pt x="14883" y="12229"/>
                  <a:pt x="14883" y="12179"/>
                </a:cubicBezTo>
                <a:cubicBezTo>
                  <a:pt x="14883" y="12151"/>
                  <a:pt x="14838" y="12089"/>
                  <a:pt x="14808" y="12080"/>
                </a:cubicBezTo>
                <a:cubicBezTo>
                  <a:pt x="14765" y="12068"/>
                  <a:pt x="14730" y="12055"/>
                  <a:pt x="14684" y="12055"/>
                </a:cubicBezTo>
                <a:cubicBezTo>
                  <a:pt x="14626" y="12055"/>
                  <a:pt x="14601" y="12055"/>
                  <a:pt x="14560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59840" y="4456080"/>
            <a:ext cx="447480" cy="1027080"/>
          </a:xfrm>
          <a:custGeom>
            <a:avLst/>
            <a:gdLst/>
            <a:ahLst/>
            <a:rect l="l" t="t" r="r" b="b"/>
            <a:pathLst>
              <a:path w="1242" h="2853">
                <a:moveTo>
                  <a:pt x="23292" y="12378"/>
                </a:moveTo>
                <a:cubicBezTo>
                  <a:pt x="23364" y="12502"/>
                  <a:pt x="23368" y="12587"/>
                  <a:pt x="23391" y="12725"/>
                </a:cubicBezTo>
                <a:cubicBezTo>
                  <a:pt x="23412" y="12848"/>
                  <a:pt x="23416" y="12976"/>
                  <a:pt x="23440" y="13097"/>
                </a:cubicBezTo>
                <a:cubicBezTo>
                  <a:pt x="23455" y="13172"/>
                  <a:pt x="23480" y="13243"/>
                  <a:pt x="23490" y="13320"/>
                </a:cubicBezTo>
              </a:path>
              <a:path w="1242" h="2853">
                <a:moveTo>
                  <a:pt x="23019" y="14064"/>
                </a:moveTo>
                <a:cubicBezTo>
                  <a:pt x="22998" y="14114"/>
                  <a:pt x="22963" y="14166"/>
                  <a:pt x="22944" y="14213"/>
                </a:cubicBezTo>
                <a:cubicBezTo>
                  <a:pt x="22929" y="14252"/>
                  <a:pt x="22982" y="14279"/>
                  <a:pt x="22994" y="14288"/>
                </a:cubicBezTo>
                <a:cubicBezTo>
                  <a:pt x="23038" y="14320"/>
                  <a:pt x="23111" y="14353"/>
                  <a:pt x="23168" y="14362"/>
                </a:cubicBezTo>
                <a:cubicBezTo>
                  <a:pt x="23246" y="14374"/>
                  <a:pt x="23337" y="14362"/>
                  <a:pt x="23416" y="14362"/>
                </a:cubicBezTo>
              </a:path>
              <a:path w="1242" h="2853">
                <a:moveTo>
                  <a:pt x="23391" y="14089"/>
                </a:moveTo>
                <a:cubicBezTo>
                  <a:pt x="23361" y="14231"/>
                  <a:pt x="23321" y="14366"/>
                  <a:pt x="23316" y="14511"/>
                </a:cubicBezTo>
                <a:cubicBezTo>
                  <a:pt x="23312" y="14625"/>
                  <a:pt x="23326" y="14724"/>
                  <a:pt x="23341" y="14833"/>
                </a:cubicBezTo>
                <a:cubicBezTo>
                  <a:pt x="23346" y="14872"/>
                  <a:pt x="23360" y="15019"/>
                  <a:pt x="23391" y="14957"/>
                </a:cubicBezTo>
              </a:path>
              <a:path w="1242" h="2853">
                <a:moveTo>
                  <a:pt x="23664" y="14213"/>
                </a:moveTo>
                <a:cubicBezTo>
                  <a:pt x="23839" y="14213"/>
                  <a:pt x="23965" y="14239"/>
                  <a:pt x="24135" y="14263"/>
                </a:cubicBezTo>
                <a:cubicBezTo>
                  <a:pt x="24152" y="14263"/>
                  <a:pt x="24168" y="14263"/>
                  <a:pt x="24185" y="14263"/>
                </a:cubicBezTo>
              </a:path>
              <a:path w="1242" h="2853">
                <a:moveTo>
                  <a:pt x="23688" y="14337"/>
                </a:moveTo>
                <a:cubicBezTo>
                  <a:pt x="23674" y="14472"/>
                  <a:pt x="23647" y="14604"/>
                  <a:pt x="23688" y="14734"/>
                </a:cubicBezTo>
                <a:cubicBezTo>
                  <a:pt x="23708" y="14775"/>
                  <a:pt x="23706" y="14791"/>
                  <a:pt x="23738" y="14784"/>
                </a:cubicBezTo>
              </a:path>
              <a:path w="1242" h="2853">
                <a:moveTo>
                  <a:pt x="23986" y="14387"/>
                </a:moveTo>
                <a:cubicBezTo>
                  <a:pt x="24022" y="14615"/>
                  <a:pt x="24036" y="14804"/>
                  <a:pt x="24036" y="15032"/>
                </a:cubicBezTo>
                <a:cubicBezTo>
                  <a:pt x="24036" y="15131"/>
                  <a:pt x="24036" y="15164"/>
                  <a:pt x="24036" y="152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17880" y="4232160"/>
            <a:ext cx="9828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8434" y="11757"/>
                </a:moveTo>
                <a:cubicBezTo>
                  <a:pt x="8434" y="11850"/>
                  <a:pt x="8436" y="11941"/>
                  <a:pt x="8458" y="12030"/>
                </a:cubicBezTo>
                <a:cubicBezTo>
                  <a:pt x="8481" y="12121"/>
                  <a:pt x="8498" y="12210"/>
                  <a:pt x="8508" y="12303"/>
                </a:cubicBezTo>
              </a:path>
              <a:path w="274" h="547">
                <a:moveTo>
                  <a:pt x="8458" y="11981"/>
                </a:moveTo>
                <a:cubicBezTo>
                  <a:pt x="8458" y="12033"/>
                  <a:pt x="8453" y="12033"/>
                  <a:pt x="8483" y="12055"/>
                </a:cubicBezTo>
                <a:cubicBezTo>
                  <a:pt x="8525" y="12086"/>
                  <a:pt x="8541" y="12092"/>
                  <a:pt x="8582" y="12055"/>
                </a:cubicBezTo>
                <a:cubicBezTo>
                  <a:pt x="8610" y="12029"/>
                  <a:pt x="8609" y="12011"/>
                  <a:pt x="8632" y="11981"/>
                </a:cubicBezTo>
                <a:cubicBezTo>
                  <a:pt x="8597" y="11969"/>
                  <a:pt x="8608" y="11937"/>
                  <a:pt x="8558" y="11931"/>
                </a:cubicBezTo>
                <a:cubicBezTo>
                  <a:pt x="8525" y="11927"/>
                  <a:pt x="8476" y="11921"/>
                  <a:pt x="8458" y="11956"/>
                </a:cubicBezTo>
                <a:cubicBezTo>
                  <a:pt x="8434" y="12005"/>
                  <a:pt x="8439" y="11971"/>
                  <a:pt x="8458" y="12030"/>
                </a:cubicBezTo>
                <a:cubicBezTo>
                  <a:pt x="8471" y="12070"/>
                  <a:pt x="8498" y="12057"/>
                  <a:pt x="8533" y="12080"/>
                </a:cubicBezTo>
                <a:cubicBezTo>
                  <a:pt x="8544" y="12087"/>
                  <a:pt x="8615" y="12102"/>
                  <a:pt x="8632" y="12080"/>
                </a:cubicBezTo>
                <a:cubicBezTo>
                  <a:pt x="8643" y="12066"/>
                  <a:pt x="8652" y="12025"/>
                  <a:pt x="8657" y="12005"/>
                </a:cubicBezTo>
                <a:cubicBezTo>
                  <a:pt x="8623" y="11981"/>
                  <a:pt x="8612" y="11960"/>
                  <a:pt x="8582" y="11956"/>
                </a:cubicBezTo>
                <a:cubicBezTo>
                  <a:pt x="8557" y="11953"/>
                  <a:pt x="8494" y="11966"/>
                  <a:pt x="8483" y="11981"/>
                </a:cubicBezTo>
                <a:cubicBezTo>
                  <a:pt x="8465" y="12007"/>
                  <a:pt x="8458" y="12009"/>
                  <a:pt x="8458" y="12055"/>
                </a:cubicBezTo>
                <a:cubicBezTo>
                  <a:pt x="8458" y="12063"/>
                  <a:pt x="8458" y="12072"/>
                  <a:pt x="8458" y="12080"/>
                </a:cubicBezTo>
                <a:cubicBezTo>
                  <a:pt x="8473" y="12085"/>
                  <a:pt x="8512" y="12132"/>
                  <a:pt x="8533" y="12129"/>
                </a:cubicBezTo>
                <a:cubicBezTo>
                  <a:pt x="8585" y="12122"/>
                  <a:pt x="8622" y="12072"/>
                  <a:pt x="8632" y="12030"/>
                </a:cubicBezTo>
                <a:cubicBezTo>
                  <a:pt x="8623" y="12002"/>
                  <a:pt x="8598" y="11984"/>
                  <a:pt x="8558" y="11981"/>
                </a:cubicBezTo>
                <a:cubicBezTo>
                  <a:pt x="8505" y="11977"/>
                  <a:pt x="8448" y="11971"/>
                  <a:pt x="8409" y="12005"/>
                </a:cubicBezTo>
                <a:cubicBezTo>
                  <a:pt x="8401" y="12013"/>
                  <a:pt x="8392" y="12022"/>
                  <a:pt x="8384" y="12030"/>
                </a:cubicBezTo>
                <a:cubicBezTo>
                  <a:pt x="8384" y="12074"/>
                  <a:pt x="8390" y="12081"/>
                  <a:pt x="8409" y="12105"/>
                </a:cubicBezTo>
                <a:cubicBezTo>
                  <a:pt x="8431" y="12133"/>
                  <a:pt x="8500" y="12142"/>
                  <a:pt x="8533" y="12129"/>
                </a:cubicBezTo>
                <a:cubicBezTo>
                  <a:pt x="8551" y="12122"/>
                  <a:pt x="8612" y="12077"/>
                  <a:pt x="8607" y="12055"/>
                </a:cubicBezTo>
                <a:cubicBezTo>
                  <a:pt x="8599" y="12019"/>
                  <a:pt x="8532" y="11998"/>
                  <a:pt x="8508" y="11981"/>
                </a:cubicBezTo>
                <a:cubicBezTo>
                  <a:pt x="8436" y="11981"/>
                  <a:pt x="8473" y="11984"/>
                  <a:pt x="8483" y="12005"/>
                </a:cubicBezTo>
                <a:cubicBezTo>
                  <a:pt x="8483" y="12013"/>
                  <a:pt x="8483" y="12022"/>
                  <a:pt x="8483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06800" y="4938840"/>
            <a:ext cx="216000" cy="26820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8632" y="13717"/>
                </a:moveTo>
                <a:cubicBezTo>
                  <a:pt x="8712" y="13727"/>
                  <a:pt x="8799" y="13727"/>
                  <a:pt x="8880" y="13742"/>
                </a:cubicBezTo>
                <a:cubicBezTo>
                  <a:pt x="8964" y="13758"/>
                  <a:pt x="8973" y="13752"/>
                  <a:pt x="9054" y="13742"/>
                </a:cubicBezTo>
              </a:path>
              <a:path w="596" h="745">
                <a:moveTo>
                  <a:pt x="8781" y="13965"/>
                </a:moveTo>
                <a:cubicBezTo>
                  <a:pt x="8742" y="14100"/>
                  <a:pt x="8731" y="14176"/>
                  <a:pt x="8731" y="14312"/>
                </a:cubicBezTo>
                <a:cubicBezTo>
                  <a:pt x="8731" y="14376"/>
                  <a:pt x="8743" y="14408"/>
                  <a:pt x="8756" y="14461"/>
                </a:cubicBezTo>
              </a:path>
              <a:path w="596" h="745">
                <a:moveTo>
                  <a:pt x="9079" y="13717"/>
                </a:moveTo>
                <a:cubicBezTo>
                  <a:pt x="9079" y="13870"/>
                  <a:pt x="9088" y="14013"/>
                  <a:pt x="9128" y="14163"/>
                </a:cubicBezTo>
                <a:cubicBezTo>
                  <a:pt x="9155" y="14264"/>
                  <a:pt x="9185" y="14365"/>
                  <a:pt x="9227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3720" y="563400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9302" y="15677"/>
                </a:moveTo>
                <a:cubicBezTo>
                  <a:pt x="9282" y="15744"/>
                  <a:pt x="9278" y="15751"/>
                  <a:pt x="9351" y="15751"/>
                </a:cubicBezTo>
                <a:cubicBezTo>
                  <a:pt x="9354" y="15743"/>
                  <a:pt x="9400" y="15696"/>
                  <a:pt x="9376" y="15677"/>
                </a:cubicBezTo>
                <a:cubicBezTo>
                  <a:pt x="9334" y="15645"/>
                  <a:pt x="9237" y="15690"/>
                  <a:pt x="9203" y="15701"/>
                </a:cubicBezTo>
                <a:cubicBezTo>
                  <a:pt x="9195" y="15701"/>
                  <a:pt x="9186" y="15701"/>
                  <a:pt x="9178" y="15701"/>
                </a:cubicBezTo>
                <a:cubicBezTo>
                  <a:pt x="9190" y="15749"/>
                  <a:pt x="9224" y="15790"/>
                  <a:pt x="9277" y="15801"/>
                </a:cubicBezTo>
                <a:cubicBezTo>
                  <a:pt x="9327" y="15811"/>
                  <a:pt x="9344" y="15784"/>
                  <a:pt x="9376" y="15751"/>
                </a:cubicBezTo>
                <a:cubicBezTo>
                  <a:pt x="9415" y="15712"/>
                  <a:pt x="9400" y="15693"/>
                  <a:pt x="9351" y="15677"/>
                </a:cubicBezTo>
                <a:cubicBezTo>
                  <a:pt x="9317" y="15666"/>
                  <a:pt x="9264" y="15677"/>
                  <a:pt x="9227" y="15677"/>
                </a:cubicBezTo>
                <a:cubicBezTo>
                  <a:pt x="9227" y="15730"/>
                  <a:pt x="9239" y="15738"/>
                  <a:pt x="9277" y="15776"/>
                </a:cubicBezTo>
                <a:cubicBezTo>
                  <a:pt x="9325" y="15824"/>
                  <a:pt x="9329" y="15792"/>
                  <a:pt x="9376" y="15776"/>
                </a:cubicBezTo>
                <a:cubicBezTo>
                  <a:pt x="9412" y="15764"/>
                  <a:pt x="9419" y="15742"/>
                  <a:pt x="9451" y="15726"/>
                </a:cubicBezTo>
                <a:cubicBezTo>
                  <a:pt x="9438" y="15676"/>
                  <a:pt x="9397" y="15666"/>
                  <a:pt x="9351" y="15652"/>
                </a:cubicBezTo>
                <a:cubicBezTo>
                  <a:pt x="9333" y="15646"/>
                  <a:pt x="9258" y="15639"/>
                  <a:pt x="9277" y="15677"/>
                </a:cubicBezTo>
                <a:cubicBezTo>
                  <a:pt x="9285" y="15685"/>
                  <a:pt x="9294" y="15693"/>
                  <a:pt x="9302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69080" y="4384800"/>
            <a:ext cx="54000" cy="223560"/>
          </a:xfrm>
          <a:custGeom>
            <a:avLst/>
            <a:gdLst/>
            <a:ahLst/>
            <a:rect l="l" t="t" r="r" b="b"/>
            <a:pathLst>
              <a:path w="150" h="621">
                <a:moveTo>
                  <a:pt x="18802" y="12179"/>
                </a:moveTo>
                <a:cubicBezTo>
                  <a:pt x="18850" y="12240"/>
                  <a:pt x="18889" y="12324"/>
                  <a:pt x="18901" y="12402"/>
                </a:cubicBezTo>
                <a:cubicBezTo>
                  <a:pt x="18917" y="12508"/>
                  <a:pt x="18939" y="12620"/>
                  <a:pt x="18951" y="12725"/>
                </a:cubicBezTo>
                <a:cubicBezTo>
                  <a:pt x="18951" y="12750"/>
                  <a:pt x="18951" y="12774"/>
                  <a:pt x="18951" y="127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0" y="5018040"/>
            <a:ext cx="376200" cy="430200"/>
          </a:xfrm>
          <a:custGeom>
            <a:avLst/>
            <a:gdLst/>
            <a:ahLst/>
            <a:rect l="l" t="t" r="r" b="b"/>
            <a:pathLst>
              <a:path w="1043" h="1192">
                <a:moveTo>
                  <a:pt x="18752" y="14039"/>
                </a:moveTo>
                <a:cubicBezTo>
                  <a:pt x="18752" y="13997"/>
                  <a:pt x="18758" y="13980"/>
                  <a:pt x="18802" y="13965"/>
                </a:cubicBezTo>
                <a:cubicBezTo>
                  <a:pt x="18889" y="13936"/>
                  <a:pt x="18884" y="13951"/>
                  <a:pt x="18976" y="13965"/>
                </a:cubicBezTo>
                <a:cubicBezTo>
                  <a:pt x="19071" y="13979"/>
                  <a:pt x="19105" y="13995"/>
                  <a:pt x="19174" y="14064"/>
                </a:cubicBezTo>
                <a:cubicBezTo>
                  <a:pt x="19215" y="14105"/>
                  <a:pt x="19196" y="14133"/>
                  <a:pt x="19149" y="14163"/>
                </a:cubicBezTo>
                <a:cubicBezTo>
                  <a:pt x="19083" y="14205"/>
                  <a:pt x="19001" y="14188"/>
                  <a:pt x="18926" y="14188"/>
                </a:cubicBezTo>
                <a:cubicBezTo>
                  <a:pt x="18901" y="14188"/>
                  <a:pt x="18893" y="14188"/>
                  <a:pt x="18876" y="14188"/>
                </a:cubicBezTo>
                <a:cubicBezTo>
                  <a:pt x="18890" y="14229"/>
                  <a:pt x="18933" y="14228"/>
                  <a:pt x="18976" y="14263"/>
                </a:cubicBezTo>
                <a:cubicBezTo>
                  <a:pt x="19020" y="14299"/>
                  <a:pt x="19127" y="14394"/>
                  <a:pt x="19124" y="14461"/>
                </a:cubicBezTo>
                <a:cubicBezTo>
                  <a:pt x="19120" y="14542"/>
                  <a:pt x="19081" y="14589"/>
                  <a:pt x="19025" y="14635"/>
                </a:cubicBezTo>
                <a:cubicBezTo>
                  <a:pt x="18985" y="14668"/>
                  <a:pt x="18952" y="14660"/>
                  <a:pt x="18901" y="14660"/>
                </a:cubicBezTo>
                <a:cubicBezTo>
                  <a:pt x="18872" y="14660"/>
                  <a:pt x="18813" y="14623"/>
                  <a:pt x="18827" y="14585"/>
                </a:cubicBezTo>
                <a:cubicBezTo>
                  <a:pt x="18868" y="14502"/>
                  <a:pt x="18876" y="14486"/>
                  <a:pt x="18901" y="14436"/>
                </a:cubicBezTo>
              </a:path>
              <a:path w="1043" h="1192">
                <a:moveTo>
                  <a:pt x="19372" y="14238"/>
                </a:moveTo>
                <a:cubicBezTo>
                  <a:pt x="19519" y="14245"/>
                  <a:pt x="19606" y="14287"/>
                  <a:pt x="19745" y="14312"/>
                </a:cubicBezTo>
                <a:cubicBezTo>
                  <a:pt x="19761" y="14312"/>
                  <a:pt x="19778" y="14312"/>
                  <a:pt x="19794" y="14312"/>
                </a:cubicBezTo>
              </a:path>
              <a:path w="1043" h="1192">
                <a:moveTo>
                  <a:pt x="19447" y="14337"/>
                </a:moveTo>
                <a:cubicBezTo>
                  <a:pt x="19414" y="14405"/>
                  <a:pt x="19306" y="14565"/>
                  <a:pt x="19348" y="14660"/>
                </a:cubicBezTo>
                <a:cubicBezTo>
                  <a:pt x="19370" y="14682"/>
                  <a:pt x="19378" y="14693"/>
                  <a:pt x="19372" y="14660"/>
                </a:cubicBezTo>
              </a:path>
              <a:path w="1043" h="1192">
                <a:moveTo>
                  <a:pt x="19769" y="14486"/>
                </a:moveTo>
                <a:cubicBezTo>
                  <a:pt x="19769" y="14673"/>
                  <a:pt x="19780" y="14873"/>
                  <a:pt x="19745" y="15056"/>
                </a:cubicBezTo>
                <a:cubicBezTo>
                  <a:pt x="19737" y="15081"/>
                  <a:pt x="19728" y="15106"/>
                  <a:pt x="19720" y="151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61080" y="3357720"/>
            <a:ext cx="1635120" cy="2411280"/>
          </a:xfrm>
          <a:custGeom>
            <a:avLst/>
            <a:gdLst/>
            <a:ahLst/>
            <a:rect l="l" t="t" r="r" b="b"/>
            <a:pathLst>
              <a:path w="4541" h="6698">
                <a:moveTo>
                  <a:pt x="18703" y="15205"/>
                </a:moveTo>
                <a:cubicBezTo>
                  <a:pt x="18709" y="15248"/>
                  <a:pt x="18707" y="15255"/>
                  <a:pt x="18728" y="15280"/>
                </a:cubicBezTo>
                <a:cubicBezTo>
                  <a:pt x="18764" y="15321"/>
                  <a:pt x="18792" y="15363"/>
                  <a:pt x="18827" y="15404"/>
                </a:cubicBezTo>
                <a:cubicBezTo>
                  <a:pt x="18865" y="15448"/>
                  <a:pt x="18894" y="15479"/>
                  <a:pt x="18926" y="15528"/>
                </a:cubicBezTo>
                <a:cubicBezTo>
                  <a:pt x="18963" y="15584"/>
                  <a:pt x="19002" y="15608"/>
                  <a:pt x="19050" y="15652"/>
                </a:cubicBezTo>
                <a:cubicBezTo>
                  <a:pt x="19119" y="15716"/>
                  <a:pt x="19150" y="15772"/>
                  <a:pt x="19224" y="15825"/>
                </a:cubicBezTo>
                <a:cubicBezTo>
                  <a:pt x="19268" y="15857"/>
                  <a:pt x="19308" y="15887"/>
                  <a:pt x="19348" y="15925"/>
                </a:cubicBezTo>
                <a:cubicBezTo>
                  <a:pt x="19392" y="15966"/>
                  <a:pt x="19423" y="15975"/>
                  <a:pt x="19472" y="15999"/>
                </a:cubicBezTo>
                <a:cubicBezTo>
                  <a:pt x="19506" y="16015"/>
                  <a:pt x="19530" y="16022"/>
                  <a:pt x="19571" y="16024"/>
                </a:cubicBezTo>
                <a:cubicBezTo>
                  <a:pt x="19623" y="16027"/>
                  <a:pt x="19679" y="16002"/>
                  <a:pt x="19695" y="15999"/>
                </a:cubicBezTo>
                <a:cubicBezTo>
                  <a:pt x="19735" y="15991"/>
                  <a:pt x="19760" y="15984"/>
                  <a:pt x="19794" y="15974"/>
                </a:cubicBezTo>
                <a:cubicBezTo>
                  <a:pt x="19861" y="15955"/>
                  <a:pt x="19913" y="15948"/>
                  <a:pt x="19968" y="15925"/>
                </a:cubicBezTo>
                <a:cubicBezTo>
                  <a:pt x="20022" y="15902"/>
                  <a:pt x="20065" y="15876"/>
                  <a:pt x="20117" y="15850"/>
                </a:cubicBezTo>
                <a:cubicBezTo>
                  <a:pt x="20159" y="15829"/>
                  <a:pt x="20200" y="15803"/>
                  <a:pt x="20241" y="15776"/>
                </a:cubicBezTo>
                <a:cubicBezTo>
                  <a:pt x="20282" y="15749"/>
                  <a:pt x="20323" y="15722"/>
                  <a:pt x="20365" y="15701"/>
                </a:cubicBezTo>
                <a:cubicBezTo>
                  <a:pt x="20416" y="15676"/>
                  <a:pt x="20398" y="15660"/>
                  <a:pt x="20439" y="15627"/>
                </a:cubicBezTo>
                <a:cubicBezTo>
                  <a:pt x="20475" y="15599"/>
                  <a:pt x="20502" y="15587"/>
                  <a:pt x="20538" y="15553"/>
                </a:cubicBezTo>
                <a:cubicBezTo>
                  <a:pt x="20562" y="15531"/>
                  <a:pt x="20606" y="15489"/>
                  <a:pt x="20613" y="15478"/>
                </a:cubicBezTo>
                <a:cubicBezTo>
                  <a:pt x="20638" y="15440"/>
                  <a:pt x="20646" y="15396"/>
                  <a:pt x="20662" y="15354"/>
                </a:cubicBezTo>
                <a:cubicBezTo>
                  <a:pt x="20676" y="15317"/>
                  <a:pt x="20723" y="15292"/>
                  <a:pt x="20737" y="15255"/>
                </a:cubicBezTo>
                <a:cubicBezTo>
                  <a:pt x="20753" y="15215"/>
                  <a:pt x="20739" y="15208"/>
                  <a:pt x="20762" y="15180"/>
                </a:cubicBezTo>
                <a:cubicBezTo>
                  <a:pt x="20777" y="15161"/>
                  <a:pt x="20769" y="15126"/>
                  <a:pt x="20786" y="15106"/>
                </a:cubicBezTo>
                <a:cubicBezTo>
                  <a:pt x="20794" y="15106"/>
                  <a:pt x="20803" y="15106"/>
                  <a:pt x="20811" y="15106"/>
                </a:cubicBezTo>
              </a:path>
              <a:path w="4541" h="6698">
                <a:moveTo>
                  <a:pt x="20935" y="15056"/>
                </a:moveTo>
                <a:cubicBezTo>
                  <a:pt x="20953" y="15024"/>
                  <a:pt x="20960" y="14995"/>
                  <a:pt x="20985" y="14957"/>
                </a:cubicBezTo>
                <a:cubicBezTo>
                  <a:pt x="21005" y="14927"/>
                  <a:pt x="21034" y="14892"/>
                  <a:pt x="21059" y="14858"/>
                </a:cubicBezTo>
                <a:cubicBezTo>
                  <a:pt x="21124" y="14769"/>
                  <a:pt x="21185" y="14684"/>
                  <a:pt x="21233" y="14585"/>
                </a:cubicBezTo>
                <a:cubicBezTo>
                  <a:pt x="21270" y="14508"/>
                  <a:pt x="21303" y="14417"/>
                  <a:pt x="21332" y="14337"/>
                </a:cubicBezTo>
                <a:cubicBezTo>
                  <a:pt x="21468" y="13961"/>
                  <a:pt x="21560" y="13581"/>
                  <a:pt x="21654" y="13196"/>
                </a:cubicBezTo>
                <a:cubicBezTo>
                  <a:pt x="21705" y="12988"/>
                  <a:pt x="21729" y="12788"/>
                  <a:pt x="21779" y="12576"/>
                </a:cubicBezTo>
                <a:cubicBezTo>
                  <a:pt x="21825" y="12383"/>
                  <a:pt x="21910" y="12199"/>
                  <a:pt x="21952" y="12005"/>
                </a:cubicBezTo>
                <a:cubicBezTo>
                  <a:pt x="21976" y="11895"/>
                  <a:pt x="21993" y="11794"/>
                  <a:pt x="22027" y="11683"/>
                </a:cubicBezTo>
                <a:cubicBezTo>
                  <a:pt x="22069" y="11546"/>
                  <a:pt x="22102" y="11424"/>
                  <a:pt x="22126" y="11286"/>
                </a:cubicBezTo>
                <a:cubicBezTo>
                  <a:pt x="22144" y="11185"/>
                  <a:pt x="22166" y="11087"/>
                  <a:pt x="22200" y="10988"/>
                </a:cubicBezTo>
                <a:cubicBezTo>
                  <a:pt x="22232" y="10895"/>
                  <a:pt x="22248" y="10810"/>
                  <a:pt x="22275" y="10716"/>
                </a:cubicBezTo>
                <a:cubicBezTo>
                  <a:pt x="22303" y="10617"/>
                  <a:pt x="22344" y="10508"/>
                  <a:pt x="22374" y="10418"/>
                </a:cubicBezTo>
                <a:cubicBezTo>
                  <a:pt x="22399" y="10343"/>
                  <a:pt x="22426" y="10261"/>
                  <a:pt x="22448" y="10195"/>
                </a:cubicBezTo>
                <a:cubicBezTo>
                  <a:pt x="22473" y="10121"/>
                  <a:pt x="22497" y="10041"/>
                  <a:pt x="22523" y="9971"/>
                </a:cubicBezTo>
                <a:cubicBezTo>
                  <a:pt x="22551" y="9895"/>
                  <a:pt x="22580" y="9840"/>
                  <a:pt x="22622" y="9773"/>
                </a:cubicBezTo>
                <a:cubicBezTo>
                  <a:pt x="22653" y="9724"/>
                  <a:pt x="22688" y="9672"/>
                  <a:pt x="22721" y="9624"/>
                </a:cubicBezTo>
                <a:cubicBezTo>
                  <a:pt x="22761" y="9566"/>
                  <a:pt x="22795" y="9545"/>
                  <a:pt x="22845" y="9500"/>
                </a:cubicBezTo>
                <a:cubicBezTo>
                  <a:pt x="22890" y="9460"/>
                  <a:pt x="22929" y="9435"/>
                  <a:pt x="22969" y="9401"/>
                </a:cubicBezTo>
                <a:cubicBezTo>
                  <a:pt x="23010" y="9365"/>
                  <a:pt x="23017" y="9351"/>
                  <a:pt x="23044" y="9327"/>
                </a:cubicBezTo>
                <a:cubicBezTo>
                  <a:pt x="23025" y="9351"/>
                  <a:pt x="22967" y="9385"/>
                  <a:pt x="22969" y="9401"/>
                </a:cubicBezTo>
                <a:cubicBezTo>
                  <a:pt x="22986" y="9551"/>
                  <a:pt x="22994" y="9374"/>
                  <a:pt x="22994" y="9401"/>
                </a:cubicBezTo>
              </a:path>
              <a:path w="4541" h="6698">
                <a:moveTo>
                  <a:pt x="18752" y="15280"/>
                </a:moveTo>
                <a:cubicBezTo>
                  <a:pt x="18719" y="15268"/>
                  <a:pt x="18714" y="15271"/>
                  <a:pt x="18728" y="15329"/>
                </a:cubicBezTo>
                <a:cubicBezTo>
                  <a:pt x="18737" y="15366"/>
                  <a:pt x="18765" y="15406"/>
                  <a:pt x="18802" y="15429"/>
                </a:cubicBezTo>
                <a:cubicBezTo>
                  <a:pt x="18852" y="15461"/>
                  <a:pt x="18895" y="15474"/>
                  <a:pt x="18951" y="15478"/>
                </a:cubicBezTo>
                <a:cubicBezTo>
                  <a:pt x="18959" y="15478"/>
                  <a:pt x="18968" y="15478"/>
                  <a:pt x="18976" y="15478"/>
                </a:cubicBezTo>
                <a:cubicBezTo>
                  <a:pt x="18992" y="15420"/>
                  <a:pt x="19000" y="15428"/>
                  <a:pt x="18951" y="15379"/>
                </a:cubicBezTo>
                <a:cubicBezTo>
                  <a:pt x="18919" y="15347"/>
                  <a:pt x="18848" y="15291"/>
                  <a:pt x="18802" y="15280"/>
                </a:cubicBezTo>
                <a:cubicBezTo>
                  <a:pt x="18761" y="15280"/>
                  <a:pt x="18753" y="15280"/>
                  <a:pt x="18728" y="15280"/>
                </a:cubicBezTo>
                <a:cubicBezTo>
                  <a:pt x="18733" y="15330"/>
                  <a:pt x="18718" y="15358"/>
                  <a:pt x="18752" y="15404"/>
                </a:cubicBezTo>
                <a:cubicBezTo>
                  <a:pt x="18800" y="15470"/>
                  <a:pt x="18892" y="15517"/>
                  <a:pt x="18951" y="15577"/>
                </a:cubicBezTo>
                <a:cubicBezTo>
                  <a:pt x="18971" y="15597"/>
                  <a:pt x="19095" y="15707"/>
                  <a:pt x="19124" y="15701"/>
                </a:cubicBezTo>
                <a:cubicBezTo>
                  <a:pt x="19124" y="15693"/>
                  <a:pt x="19124" y="15685"/>
                  <a:pt x="19124" y="15677"/>
                </a:cubicBezTo>
                <a:cubicBezTo>
                  <a:pt x="19038" y="15589"/>
                  <a:pt x="18942" y="15516"/>
                  <a:pt x="18852" y="15429"/>
                </a:cubicBezTo>
                <a:cubicBezTo>
                  <a:pt x="18789" y="15368"/>
                  <a:pt x="18725" y="15297"/>
                  <a:pt x="18653" y="15255"/>
                </a:cubicBezTo>
                <a:cubicBezTo>
                  <a:pt x="18605" y="15227"/>
                  <a:pt x="18548" y="15202"/>
                  <a:pt x="18504" y="15180"/>
                </a:cubicBezTo>
                <a:cubicBezTo>
                  <a:pt x="18545" y="15221"/>
                  <a:pt x="18589" y="15271"/>
                  <a:pt x="18628" y="15304"/>
                </a:cubicBezTo>
                <a:cubicBezTo>
                  <a:pt x="18734" y="15394"/>
                  <a:pt x="18822" y="15449"/>
                  <a:pt x="18926" y="15553"/>
                </a:cubicBezTo>
                <a:cubicBezTo>
                  <a:pt x="19027" y="15654"/>
                  <a:pt x="19140" y="15716"/>
                  <a:pt x="19248" y="15801"/>
                </a:cubicBezTo>
                <a:cubicBezTo>
                  <a:pt x="19320" y="15858"/>
                  <a:pt x="19381" y="15919"/>
                  <a:pt x="19447" y="15974"/>
                </a:cubicBezTo>
                <a:cubicBezTo>
                  <a:pt x="19485" y="16006"/>
                  <a:pt x="19477" y="15993"/>
                  <a:pt x="19521" y="15999"/>
                </a:cubicBezTo>
                <a:cubicBezTo>
                  <a:pt x="19502" y="15968"/>
                  <a:pt x="19525" y="15921"/>
                  <a:pt x="19496" y="15900"/>
                </a:cubicBezTo>
                <a:cubicBezTo>
                  <a:pt x="19484" y="15891"/>
                  <a:pt x="19437" y="15902"/>
                  <a:pt x="19422" y="15900"/>
                </a:cubicBezTo>
                <a:cubicBezTo>
                  <a:pt x="19427" y="15899"/>
                  <a:pt x="19546" y="15880"/>
                  <a:pt x="19496" y="15850"/>
                </a:cubicBezTo>
                <a:cubicBezTo>
                  <a:pt x="19446" y="15820"/>
                  <a:pt x="19388" y="15863"/>
                  <a:pt x="19372" y="15875"/>
                </a:cubicBezTo>
                <a:cubicBezTo>
                  <a:pt x="19364" y="15883"/>
                  <a:pt x="19356" y="15892"/>
                  <a:pt x="19348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20920" y="4125960"/>
            <a:ext cx="117360" cy="223920"/>
          </a:xfrm>
          <a:custGeom>
            <a:avLst/>
            <a:gdLst/>
            <a:ahLst/>
            <a:rect l="l" t="t" r="r" b="b"/>
            <a:pathLst>
              <a:path w="324" h="621">
                <a:moveTo>
                  <a:pt x="6499" y="11460"/>
                </a:moveTo>
                <a:cubicBezTo>
                  <a:pt x="6515" y="11541"/>
                  <a:pt x="6533" y="11625"/>
                  <a:pt x="6548" y="11708"/>
                </a:cubicBezTo>
                <a:cubicBezTo>
                  <a:pt x="6571" y="11833"/>
                  <a:pt x="6595" y="11958"/>
                  <a:pt x="6623" y="12080"/>
                </a:cubicBezTo>
              </a:path>
              <a:path w="324" h="621">
                <a:moveTo>
                  <a:pt x="6648" y="11906"/>
                </a:moveTo>
                <a:cubicBezTo>
                  <a:pt x="6692" y="11899"/>
                  <a:pt x="6717" y="11899"/>
                  <a:pt x="6722" y="11857"/>
                </a:cubicBezTo>
                <a:cubicBezTo>
                  <a:pt x="6722" y="11849"/>
                  <a:pt x="6722" y="11840"/>
                  <a:pt x="6722" y="11832"/>
                </a:cubicBezTo>
                <a:cubicBezTo>
                  <a:pt x="6683" y="11822"/>
                  <a:pt x="6667" y="11807"/>
                  <a:pt x="6623" y="11807"/>
                </a:cubicBezTo>
                <a:cubicBezTo>
                  <a:pt x="6582" y="11807"/>
                  <a:pt x="6544" y="11812"/>
                  <a:pt x="6524" y="11857"/>
                </a:cubicBezTo>
                <a:cubicBezTo>
                  <a:pt x="6509" y="11891"/>
                  <a:pt x="6528" y="11933"/>
                  <a:pt x="6548" y="11956"/>
                </a:cubicBezTo>
                <a:cubicBezTo>
                  <a:pt x="6571" y="11982"/>
                  <a:pt x="6615" y="12001"/>
                  <a:pt x="6648" y="12005"/>
                </a:cubicBezTo>
                <a:cubicBezTo>
                  <a:pt x="6687" y="12009"/>
                  <a:pt x="6729" y="11996"/>
                  <a:pt x="6747" y="11956"/>
                </a:cubicBezTo>
                <a:cubicBezTo>
                  <a:pt x="6760" y="11928"/>
                  <a:pt x="6747" y="11863"/>
                  <a:pt x="6747" y="11832"/>
                </a:cubicBezTo>
                <a:cubicBezTo>
                  <a:pt x="6662" y="11764"/>
                  <a:pt x="6625" y="11789"/>
                  <a:pt x="6524" y="11807"/>
                </a:cubicBezTo>
                <a:cubicBezTo>
                  <a:pt x="6473" y="11816"/>
                  <a:pt x="6474" y="11833"/>
                  <a:pt x="6474" y="11881"/>
                </a:cubicBezTo>
                <a:cubicBezTo>
                  <a:pt x="6485" y="11926"/>
                  <a:pt x="6510" y="11962"/>
                  <a:pt x="6548" y="11981"/>
                </a:cubicBezTo>
                <a:cubicBezTo>
                  <a:pt x="6584" y="11999"/>
                  <a:pt x="6654" y="12022"/>
                  <a:pt x="6697" y="12005"/>
                </a:cubicBezTo>
                <a:cubicBezTo>
                  <a:pt x="6741" y="11987"/>
                  <a:pt x="6745" y="11972"/>
                  <a:pt x="6772" y="11931"/>
                </a:cubicBezTo>
                <a:cubicBezTo>
                  <a:pt x="6772" y="11878"/>
                  <a:pt x="6760" y="11870"/>
                  <a:pt x="6722" y="11832"/>
                </a:cubicBezTo>
                <a:cubicBezTo>
                  <a:pt x="6688" y="11798"/>
                  <a:pt x="6597" y="11793"/>
                  <a:pt x="6548" y="11807"/>
                </a:cubicBezTo>
                <a:cubicBezTo>
                  <a:pt x="6507" y="11818"/>
                  <a:pt x="6480" y="11834"/>
                  <a:pt x="6449" y="11857"/>
                </a:cubicBezTo>
                <a:cubicBezTo>
                  <a:pt x="6449" y="11958"/>
                  <a:pt x="6464" y="11938"/>
                  <a:pt x="6548" y="12005"/>
                </a:cubicBezTo>
                <a:cubicBezTo>
                  <a:pt x="6609" y="12054"/>
                  <a:pt x="6632" y="12021"/>
                  <a:pt x="6697" y="12005"/>
                </a:cubicBezTo>
                <a:cubicBezTo>
                  <a:pt x="6733" y="11996"/>
                  <a:pt x="6743" y="11926"/>
                  <a:pt x="6747" y="11881"/>
                </a:cubicBezTo>
                <a:cubicBezTo>
                  <a:pt x="6751" y="11835"/>
                  <a:pt x="6686" y="11795"/>
                  <a:pt x="6648" y="11782"/>
                </a:cubicBezTo>
                <a:cubicBezTo>
                  <a:pt x="6611" y="11769"/>
                  <a:pt x="6552" y="11774"/>
                  <a:pt x="6548" y="11807"/>
                </a:cubicBezTo>
                <a:cubicBezTo>
                  <a:pt x="6548" y="11815"/>
                  <a:pt x="6548" y="11824"/>
                  <a:pt x="6548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16080" y="4670280"/>
            <a:ext cx="420840" cy="42084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5879" y="13097"/>
                </a:moveTo>
                <a:cubicBezTo>
                  <a:pt x="5932" y="13097"/>
                  <a:pt x="6009" y="13103"/>
                  <a:pt x="6052" y="13097"/>
                </a:cubicBezTo>
                <a:cubicBezTo>
                  <a:pt x="6139" y="13084"/>
                  <a:pt x="6240" y="13073"/>
                  <a:pt x="6325" y="13047"/>
                </a:cubicBezTo>
              </a:path>
              <a:path w="1167" h="1167">
                <a:moveTo>
                  <a:pt x="6152" y="13097"/>
                </a:moveTo>
                <a:cubicBezTo>
                  <a:pt x="6134" y="13208"/>
                  <a:pt x="6127" y="13307"/>
                  <a:pt x="6127" y="13419"/>
                </a:cubicBezTo>
                <a:cubicBezTo>
                  <a:pt x="6127" y="13452"/>
                  <a:pt x="6127" y="13486"/>
                  <a:pt x="6127" y="13519"/>
                </a:cubicBezTo>
              </a:path>
              <a:path w="1167" h="1167">
                <a:moveTo>
                  <a:pt x="6276" y="13146"/>
                </a:moveTo>
                <a:cubicBezTo>
                  <a:pt x="6282" y="13201"/>
                  <a:pt x="6271" y="13445"/>
                  <a:pt x="6300" y="13519"/>
                </a:cubicBezTo>
                <a:cubicBezTo>
                  <a:pt x="6323" y="13541"/>
                  <a:pt x="6331" y="13546"/>
                  <a:pt x="6325" y="13568"/>
                </a:cubicBezTo>
              </a:path>
              <a:path w="1167" h="1167">
                <a:moveTo>
                  <a:pt x="6623" y="12973"/>
                </a:moveTo>
                <a:cubicBezTo>
                  <a:pt x="6572" y="13190"/>
                  <a:pt x="6496" y="13319"/>
                  <a:pt x="6424" y="13519"/>
                </a:cubicBezTo>
                <a:cubicBezTo>
                  <a:pt x="6387" y="13622"/>
                  <a:pt x="6359" y="13733"/>
                  <a:pt x="6350" y="13841"/>
                </a:cubicBezTo>
              </a:path>
              <a:path w="1167" h="1167">
                <a:moveTo>
                  <a:pt x="6648" y="13568"/>
                </a:moveTo>
                <a:cubicBezTo>
                  <a:pt x="6729" y="13576"/>
                  <a:pt x="6794" y="13596"/>
                  <a:pt x="6821" y="13692"/>
                </a:cubicBezTo>
                <a:cubicBezTo>
                  <a:pt x="6844" y="13776"/>
                  <a:pt x="6773" y="13861"/>
                  <a:pt x="6722" y="13915"/>
                </a:cubicBezTo>
                <a:cubicBezTo>
                  <a:pt x="6684" y="13956"/>
                  <a:pt x="6629" y="14009"/>
                  <a:pt x="6623" y="14064"/>
                </a:cubicBezTo>
                <a:cubicBezTo>
                  <a:pt x="6614" y="14147"/>
                  <a:pt x="6746" y="14137"/>
                  <a:pt x="6796" y="14139"/>
                </a:cubicBezTo>
                <a:cubicBezTo>
                  <a:pt x="6886" y="14142"/>
                  <a:pt x="6960" y="14115"/>
                  <a:pt x="7045" y="140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24800" y="4500720"/>
            <a:ext cx="2125440" cy="142560"/>
          </a:xfrm>
          <a:custGeom>
            <a:avLst/>
            <a:gdLst/>
            <a:ahLst/>
            <a:rect l="l" t="t" r="r" b="b"/>
            <a:pathLst>
              <a:path w="5904" h="397">
                <a:moveTo>
                  <a:pt x="18703" y="12526"/>
                </a:moveTo>
                <a:cubicBezTo>
                  <a:pt x="18739" y="12526"/>
                  <a:pt x="18692" y="12526"/>
                  <a:pt x="18728" y="12526"/>
                </a:cubicBezTo>
                <a:cubicBezTo>
                  <a:pt x="18911" y="12526"/>
                  <a:pt x="19073" y="12562"/>
                  <a:pt x="19248" y="12576"/>
                </a:cubicBezTo>
                <a:cubicBezTo>
                  <a:pt x="19350" y="12584"/>
                  <a:pt x="19445" y="12587"/>
                  <a:pt x="19546" y="12601"/>
                </a:cubicBezTo>
                <a:cubicBezTo>
                  <a:pt x="19667" y="12618"/>
                  <a:pt x="19796" y="12641"/>
                  <a:pt x="19918" y="12650"/>
                </a:cubicBezTo>
                <a:cubicBezTo>
                  <a:pt x="20062" y="12660"/>
                  <a:pt x="20198" y="12672"/>
                  <a:pt x="20340" y="12700"/>
                </a:cubicBezTo>
                <a:cubicBezTo>
                  <a:pt x="20497" y="12731"/>
                  <a:pt x="20653" y="12737"/>
                  <a:pt x="20811" y="12750"/>
                </a:cubicBezTo>
                <a:cubicBezTo>
                  <a:pt x="21019" y="12768"/>
                  <a:pt x="21225" y="12810"/>
                  <a:pt x="21431" y="12824"/>
                </a:cubicBezTo>
                <a:cubicBezTo>
                  <a:pt x="21597" y="12835"/>
                  <a:pt x="21762" y="12864"/>
                  <a:pt x="21927" y="12874"/>
                </a:cubicBezTo>
                <a:cubicBezTo>
                  <a:pt x="22199" y="12890"/>
                  <a:pt x="22474" y="12882"/>
                  <a:pt x="22746" y="12898"/>
                </a:cubicBezTo>
                <a:cubicBezTo>
                  <a:pt x="23285" y="12930"/>
                  <a:pt x="23849" y="12904"/>
                  <a:pt x="24383" y="12874"/>
                </a:cubicBezTo>
                <a:cubicBezTo>
                  <a:pt x="24449" y="12870"/>
                  <a:pt x="24515" y="12874"/>
                  <a:pt x="24581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0960" y="4241880"/>
            <a:ext cx="36360" cy="160200"/>
          </a:xfrm>
          <a:custGeom>
            <a:avLst/>
            <a:gdLst/>
            <a:ahLst/>
            <a:rect l="l" t="t" r="r" b="b"/>
            <a:pathLst>
              <a:path w="100" h="448">
                <a:moveTo>
                  <a:pt x="11088" y="11782"/>
                </a:moveTo>
                <a:cubicBezTo>
                  <a:pt x="11115" y="11875"/>
                  <a:pt x="11144" y="11981"/>
                  <a:pt x="11162" y="12080"/>
                </a:cubicBezTo>
                <a:cubicBezTo>
                  <a:pt x="11173" y="12140"/>
                  <a:pt x="11164" y="12198"/>
                  <a:pt x="11187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3875040"/>
            <a:ext cx="12528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10790" y="10765"/>
                </a:moveTo>
                <a:cubicBezTo>
                  <a:pt x="10871" y="10765"/>
                  <a:pt x="10939" y="10758"/>
                  <a:pt x="11013" y="10790"/>
                </a:cubicBezTo>
                <a:cubicBezTo>
                  <a:pt x="11062" y="10811"/>
                  <a:pt x="11120" y="10850"/>
                  <a:pt x="11088" y="10914"/>
                </a:cubicBezTo>
                <a:cubicBezTo>
                  <a:pt x="11066" y="10958"/>
                  <a:pt x="11019" y="10960"/>
                  <a:pt x="10988" y="10988"/>
                </a:cubicBezTo>
                <a:cubicBezTo>
                  <a:pt x="10936" y="11035"/>
                  <a:pt x="11003" y="11077"/>
                  <a:pt x="11038" y="11112"/>
                </a:cubicBezTo>
                <a:cubicBezTo>
                  <a:pt x="11081" y="11155"/>
                  <a:pt x="11160" y="11213"/>
                  <a:pt x="11137" y="11286"/>
                </a:cubicBezTo>
                <a:cubicBezTo>
                  <a:pt x="11118" y="11346"/>
                  <a:pt x="11050" y="11343"/>
                  <a:pt x="11013" y="11361"/>
                </a:cubicBezTo>
                <a:cubicBezTo>
                  <a:pt x="10951" y="11391"/>
                  <a:pt x="10975" y="11381"/>
                  <a:pt x="10914" y="11361"/>
                </a:cubicBezTo>
                <a:cubicBezTo>
                  <a:pt x="10881" y="11361"/>
                  <a:pt x="10872" y="11353"/>
                  <a:pt x="10889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33880" y="3919680"/>
            <a:ext cx="63360" cy="190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1485" y="10889"/>
                </a:moveTo>
                <a:cubicBezTo>
                  <a:pt x="11572" y="10911"/>
                  <a:pt x="11595" y="10923"/>
                  <a:pt x="11658" y="109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06880" y="3919680"/>
            <a:ext cx="9360" cy="11736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1435" y="10889"/>
                </a:moveTo>
                <a:cubicBezTo>
                  <a:pt x="11433" y="10923"/>
                  <a:pt x="11387" y="11141"/>
                  <a:pt x="11410" y="11187"/>
                </a:cubicBezTo>
                <a:cubicBezTo>
                  <a:pt x="11433" y="11210"/>
                  <a:pt x="11441" y="11221"/>
                  <a:pt x="11435" y="111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79960" y="3938760"/>
            <a:ext cx="1440" cy="133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11609" y="10939"/>
                </a:moveTo>
                <a:cubicBezTo>
                  <a:pt x="11609" y="11063"/>
                  <a:pt x="11609" y="11187"/>
                  <a:pt x="11609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24240" y="3929040"/>
            <a:ext cx="81000" cy="268200"/>
          </a:xfrm>
          <a:custGeom>
            <a:avLst/>
            <a:gdLst/>
            <a:ahLst/>
            <a:rect l="l" t="t" r="r" b="b"/>
            <a:pathLst>
              <a:path w="224" h="745">
                <a:moveTo>
                  <a:pt x="11956" y="10914"/>
                </a:moveTo>
                <a:cubicBezTo>
                  <a:pt x="11909" y="11080"/>
                  <a:pt x="11865" y="11248"/>
                  <a:pt x="11807" y="11410"/>
                </a:cubicBezTo>
                <a:cubicBezTo>
                  <a:pt x="11777" y="11493"/>
                  <a:pt x="11733" y="11746"/>
                  <a:pt x="11733" y="11658"/>
                </a:cubicBezTo>
                <a:cubicBezTo>
                  <a:pt x="11733" y="11633"/>
                  <a:pt x="11733" y="11625"/>
                  <a:pt x="11733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3160" y="4054320"/>
            <a:ext cx="223920" cy="15264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1981" y="11286"/>
                </a:moveTo>
                <a:cubicBezTo>
                  <a:pt x="12095" y="11265"/>
                  <a:pt x="12107" y="11276"/>
                  <a:pt x="12179" y="11361"/>
                </a:cubicBezTo>
                <a:cubicBezTo>
                  <a:pt x="12238" y="11431"/>
                  <a:pt x="12181" y="11478"/>
                  <a:pt x="12129" y="11534"/>
                </a:cubicBezTo>
                <a:cubicBezTo>
                  <a:pt x="12095" y="11572"/>
                  <a:pt x="12096" y="11596"/>
                  <a:pt x="12129" y="11633"/>
                </a:cubicBezTo>
                <a:cubicBezTo>
                  <a:pt x="12163" y="11671"/>
                  <a:pt x="12277" y="11691"/>
                  <a:pt x="12328" y="11683"/>
                </a:cubicBezTo>
                <a:cubicBezTo>
                  <a:pt x="12442" y="11644"/>
                  <a:pt x="12508" y="11626"/>
                  <a:pt x="12601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82840" y="4224240"/>
            <a:ext cx="106200" cy="88920"/>
          </a:xfrm>
          <a:custGeom>
            <a:avLst/>
            <a:gdLst/>
            <a:ahLst/>
            <a:rect l="l" t="t" r="r" b="b"/>
            <a:pathLst>
              <a:path w="298" h="249">
                <a:moveTo>
                  <a:pt x="4266" y="11881"/>
                </a:moveTo>
                <a:cubicBezTo>
                  <a:pt x="4279" y="11919"/>
                  <a:pt x="4296" y="11906"/>
                  <a:pt x="4341" y="11906"/>
                </a:cubicBezTo>
                <a:cubicBezTo>
                  <a:pt x="4382" y="11906"/>
                  <a:pt x="4368" y="11868"/>
                  <a:pt x="4390" y="11857"/>
                </a:cubicBezTo>
                <a:cubicBezTo>
                  <a:pt x="4415" y="11857"/>
                  <a:pt x="4423" y="11857"/>
                  <a:pt x="4415" y="11832"/>
                </a:cubicBezTo>
                <a:cubicBezTo>
                  <a:pt x="4403" y="11783"/>
                  <a:pt x="4391" y="11782"/>
                  <a:pt x="4341" y="11782"/>
                </a:cubicBezTo>
                <a:cubicBezTo>
                  <a:pt x="4287" y="11782"/>
                  <a:pt x="4260" y="11823"/>
                  <a:pt x="4242" y="11832"/>
                </a:cubicBezTo>
                <a:cubicBezTo>
                  <a:pt x="4198" y="11854"/>
                  <a:pt x="4192" y="11849"/>
                  <a:pt x="4192" y="11906"/>
                </a:cubicBezTo>
                <a:cubicBezTo>
                  <a:pt x="4192" y="11931"/>
                  <a:pt x="4192" y="11939"/>
                  <a:pt x="4192" y="11956"/>
                </a:cubicBezTo>
                <a:cubicBezTo>
                  <a:pt x="4249" y="11956"/>
                  <a:pt x="4270" y="11946"/>
                  <a:pt x="4316" y="11931"/>
                </a:cubicBezTo>
                <a:cubicBezTo>
                  <a:pt x="4344" y="11922"/>
                  <a:pt x="4361" y="11897"/>
                  <a:pt x="4366" y="11857"/>
                </a:cubicBezTo>
                <a:cubicBezTo>
                  <a:pt x="4372" y="11805"/>
                  <a:pt x="4353" y="11817"/>
                  <a:pt x="4341" y="11782"/>
                </a:cubicBezTo>
                <a:cubicBezTo>
                  <a:pt x="4290" y="11782"/>
                  <a:pt x="4257" y="11775"/>
                  <a:pt x="4217" y="11807"/>
                </a:cubicBezTo>
                <a:cubicBezTo>
                  <a:pt x="4168" y="11846"/>
                  <a:pt x="4167" y="11834"/>
                  <a:pt x="4167" y="11906"/>
                </a:cubicBezTo>
                <a:cubicBezTo>
                  <a:pt x="4167" y="11933"/>
                  <a:pt x="4192" y="11953"/>
                  <a:pt x="4217" y="11956"/>
                </a:cubicBezTo>
                <a:cubicBezTo>
                  <a:pt x="4265" y="11962"/>
                  <a:pt x="4307" y="11962"/>
                  <a:pt x="4341" y="11931"/>
                </a:cubicBezTo>
                <a:cubicBezTo>
                  <a:pt x="4349" y="11923"/>
                  <a:pt x="4358" y="11914"/>
                  <a:pt x="4366" y="11906"/>
                </a:cubicBezTo>
                <a:cubicBezTo>
                  <a:pt x="4336" y="11866"/>
                  <a:pt x="4344" y="11853"/>
                  <a:pt x="4316" y="11832"/>
                </a:cubicBezTo>
                <a:cubicBezTo>
                  <a:pt x="4295" y="11816"/>
                  <a:pt x="4249" y="11814"/>
                  <a:pt x="4217" y="11832"/>
                </a:cubicBezTo>
                <a:cubicBezTo>
                  <a:pt x="4182" y="11852"/>
                  <a:pt x="4182" y="11872"/>
                  <a:pt x="4142" y="11881"/>
                </a:cubicBezTo>
                <a:cubicBezTo>
                  <a:pt x="4142" y="11933"/>
                  <a:pt x="4137" y="11934"/>
                  <a:pt x="4167" y="11956"/>
                </a:cubicBezTo>
                <a:cubicBezTo>
                  <a:pt x="4197" y="11979"/>
                  <a:pt x="4273" y="11999"/>
                  <a:pt x="4316" y="11981"/>
                </a:cubicBezTo>
                <a:cubicBezTo>
                  <a:pt x="4350" y="11967"/>
                  <a:pt x="4387" y="11913"/>
                  <a:pt x="4390" y="11881"/>
                </a:cubicBezTo>
                <a:cubicBezTo>
                  <a:pt x="4394" y="11842"/>
                  <a:pt x="4381" y="11800"/>
                  <a:pt x="4341" y="11782"/>
                </a:cubicBezTo>
                <a:cubicBezTo>
                  <a:pt x="4300" y="11764"/>
                  <a:pt x="4261" y="11755"/>
                  <a:pt x="4217" y="11782"/>
                </a:cubicBezTo>
                <a:cubicBezTo>
                  <a:pt x="4186" y="11801"/>
                  <a:pt x="4171" y="11810"/>
                  <a:pt x="4142" y="11832"/>
                </a:cubicBezTo>
                <a:cubicBezTo>
                  <a:pt x="4154" y="11892"/>
                  <a:pt x="4156" y="11906"/>
                  <a:pt x="4217" y="11906"/>
                </a:cubicBezTo>
                <a:cubicBezTo>
                  <a:pt x="4262" y="11906"/>
                  <a:pt x="4338" y="11924"/>
                  <a:pt x="4366" y="11881"/>
                </a:cubicBezTo>
                <a:cubicBezTo>
                  <a:pt x="4366" y="11857"/>
                  <a:pt x="4366" y="11849"/>
                  <a:pt x="4390" y="11857"/>
                </a:cubicBezTo>
                <a:cubicBezTo>
                  <a:pt x="4390" y="11817"/>
                  <a:pt x="4385" y="11777"/>
                  <a:pt x="4341" y="11757"/>
                </a:cubicBezTo>
                <a:cubicBezTo>
                  <a:pt x="4277" y="11728"/>
                  <a:pt x="4248" y="11741"/>
                  <a:pt x="4192" y="11757"/>
                </a:cubicBezTo>
                <a:cubicBezTo>
                  <a:pt x="4159" y="11757"/>
                  <a:pt x="4143" y="11757"/>
                  <a:pt x="4118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4160" y="3241800"/>
            <a:ext cx="619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5779" y="9029"/>
                </a:moveTo>
                <a:cubicBezTo>
                  <a:pt x="5754" y="9089"/>
                  <a:pt x="5755" y="9089"/>
                  <a:pt x="5755" y="9153"/>
                </a:cubicBezTo>
                <a:cubicBezTo>
                  <a:pt x="5844" y="9153"/>
                  <a:pt x="5784" y="9148"/>
                  <a:pt x="5829" y="9103"/>
                </a:cubicBezTo>
                <a:cubicBezTo>
                  <a:pt x="5864" y="9068"/>
                  <a:pt x="5845" y="9066"/>
                  <a:pt x="5829" y="9029"/>
                </a:cubicBezTo>
                <a:cubicBezTo>
                  <a:pt x="5829" y="9021"/>
                  <a:pt x="5829" y="9012"/>
                  <a:pt x="5829" y="9004"/>
                </a:cubicBezTo>
                <a:cubicBezTo>
                  <a:pt x="5763" y="9020"/>
                  <a:pt x="5780" y="9046"/>
                  <a:pt x="5730" y="9079"/>
                </a:cubicBezTo>
                <a:cubicBezTo>
                  <a:pt x="5708" y="9094"/>
                  <a:pt x="5671" y="9138"/>
                  <a:pt x="5730" y="9153"/>
                </a:cubicBezTo>
                <a:cubicBezTo>
                  <a:pt x="5800" y="9170"/>
                  <a:pt x="5817" y="9148"/>
                  <a:pt x="5854" y="9103"/>
                </a:cubicBezTo>
                <a:cubicBezTo>
                  <a:pt x="5885" y="9066"/>
                  <a:pt x="5870" y="8983"/>
                  <a:pt x="5829" y="9029"/>
                </a:cubicBezTo>
                <a:cubicBezTo>
                  <a:pt x="5809" y="9070"/>
                  <a:pt x="5790" y="9086"/>
                  <a:pt x="5829" y="9079"/>
                </a:cubicBezTo>
                <a:cubicBezTo>
                  <a:pt x="5846" y="9068"/>
                  <a:pt x="5875" y="8981"/>
                  <a:pt x="5829" y="9004"/>
                </a:cubicBezTo>
                <a:cubicBezTo>
                  <a:pt x="5806" y="9027"/>
                  <a:pt x="5802" y="9035"/>
                  <a:pt x="5779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0880" y="3251160"/>
            <a:ext cx="3135240" cy="2670120"/>
          </a:xfrm>
          <a:custGeom>
            <a:avLst/>
            <a:gdLst/>
            <a:ahLst/>
            <a:rect l="l" t="t" r="r" b="b"/>
            <a:pathLst>
              <a:path w="8708" h="7418">
                <a:moveTo>
                  <a:pt x="14833" y="12105"/>
                </a:moveTo>
                <a:cubicBezTo>
                  <a:pt x="14808" y="12105"/>
                  <a:pt x="14800" y="12105"/>
                  <a:pt x="14808" y="12080"/>
                </a:cubicBezTo>
                <a:cubicBezTo>
                  <a:pt x="14822" y="12053"/>
                  <a:pt x="14815" y="12037"/>
                  <a:pt x="14833" y="12005"/>
                </a:cubicBezTo>
                <a:cubicBezTo>
                  <a:pt x="14839" y="11994"/>
                  <a:pt x="14870" y="11959"/>
                  <a:pt x="14883" y="11931"/>
                </a:cubicBezTo>
                <a:cubicBezTo>
                  <a:pt x="14903" y="11888"/>
                  <a:pt x="14934" y="11853"/>
                  <a:pt x="14957" y="11807"/>
                </a:cubicBezTo>
                <a:cubicBezTo>
                  <a:pt x="14978" y="11765"/>
                  <a:pt x="14987" y="11704"/>
                  <a:pt x="15007" y="11658"/>
                </a:cubicBezTo>
                <a:cubicBezTo>
                  <a:pt x="15029" y="11608"/>
                  <a:pt x="15064" y="11558"/>
                  <a:pt x="15081" y="11509"/>
                </a:cubicBezTo>
                <a:cubicBezTo>
                  <a:pt x="15097" y="11463"/>
                  <a:pt x="15119" y="11404"/>
                  <a:pt x="15131" y="11361"/>
                </a:cubicBezTo>
                <a:cubicBezTo>
                  <a:pt x="15148" y="11296"/>
                  <a:pt x="15162" y="11221"/>
                  <a:pt x="15180" y="11162"/>
                </a:cubicBezTo>
                <a:cubicBezTo>
                  <a:pt x="15194" y="11115"/>
                  <a:pt x="15188" y="11061"/>
                  <a:pt x="15205" y="11013"/>
                </a:cubicBezTo>
                <a:cubicBezTo>
                  <a:pt x="15222" y="10965"/>
                  <a:pt x="15237" y="10913"/>
                  <a:pt x="15255" y="10864"/>
                </a:cubicBezTo>
                <a:cubicBezTo>
                  <a:pt x="15268" y="10829"/>
                  <a:pt x="15293" y="10803"/>
                  <a:pt x="15304" y="10765"/>
                </a:cubicBezTo>
                <a:cubicBezTo>
                  <a:pt x="15322" y="10703"/>
                  <a:pt x="15334" y="10624"/>
                  <a:pt x="15354" y="10567"/>
                </a:cubicBezTo>
                <a:cubicBezTo>
                  <a:pt x="15359" y="10552"/>
                  <a:pt x="15390" y="10475"/>
                  <a:pt x="15404" y="10443"/>
                </a:cubicBezTo>
                <a:cubicBezTo>
                  <a:pt x="15417" y="10413"/>
                  <a:pt x="15475" y="10353"/>
                  <a:pt x="15478" y="10344"/>
                </a:cubicBezTo>
                <a:cubicBezTo>
                  <a:pt x="15505" y="10270"/>
                  <a:pt x="15495" y="10266"/>
                  <a:pt x="15528" y="10195"/>
                </a:cubicBezTo>
                <a:cubicBezTo>
                  <a:pt x="15548" y="10152"/>
                  <a:pt x="15555" y="10083"/>
                  <a:pt x="15577" y="10046"/>
                </a:cubicBezTo>
                <a:cubicBezTo>
                  <a:pt x="15581" y="10040"/>
                  <a:pt x="15647" y="9981"/>
                  <a:pt x="15652" y="9971"/>
                </a:cubicBezTo>
                <a:cubicBezTo>
                  <a:pt x="15677" y="9923"/>
                  <a:pt x="15677" y="9887"/>
                  <a:pt x="15701" y="9847"/>
                </a:cubicBezTo>
                <a:cubicBezTo>
                  <a:pt x="15725" y="9806"/>
                  <a:pt x="15755" y="9729"/>
                  <a:pt x="15776" y="9699"/>
                </a:cubicBezTo>
                <a:cubicBezTo>
                  <a:pt x="15810" y="9650"/>
                  <a:pt x="15857" y="9610"/>
                  <a:pt x="15900" y="9550"/>
                </a:cubicBezTo>
                <a:cubicBezTo>
                  <a:pt x="15906" y="9542"/>
                  <a:pt x="15936" y="9492"/>
                  <a:pt x="15949" y="9475"/>
                </a:cubicBezTo>
                <a:cubicBezTo>
                  <a:pt x="15977" y="9440"/>
                  <a:pt x="16002" y="9421"/>
                  <a:pt x="16024" y="9401"/>
                </a:cubicBezTo>
                <a:cubicBezTo>
                  <a:pt x="16070" y="9359"/>
                  <a:pt x="16080" y="9336"/>
                  <a:pt x="16123" y="9302"/>
                </a:cubicBezTo>
                <a:cubicBezTo>
                  <a:pt x="16148" y="9302"/>
                  <a:pt x="16156" y="9302"/>
                  <a:pt x="16173" y="9302"/>
                </a:cubicBezTo>
                <a:cubicBezTo>
                  <a:pt x="16180" y="9297"/>
                  <a:pt x="16221" y="9246"/>
                  <a:pt x="16247" y="9227"/>
                </a:cubicBezTo>
                <a:cubicBezTo>
                  <a:pt x="16277" y="9205"/>
                  <a:pt x="16306" y="9173"/>
                  <a:pt x="16346" y="9153"/>
                </a:cubicBezTo>
                <a:cubicBezTo>
                  <a:pt x="16384" y="9134"/>
                  <a:pt x="16410" y="9120"/>
                  <a:pt x="16446" y="9103"/>
                </a:cubicBezTo>
                <a:cubicBezTo>
                  <a:pt x="16510" y="9073"/>
                  <a:pt x="16611" y="9039"/>
                  <a:pt x="16669" y="9029"/>
                </a:cubicBezTo>
                <a:cubicBezTo>
                  <a:pt x="16816" y="9005"/>
                  <a:pt x="16928" y="9053"/>
                  <a:pt x="17041" y="9079"/>
                </a:cubicBezTo>
                <a:cubicBezTo>
                  <a:pt x="17130" y="9100"/>
                  <a:pt x="17172" y="9119"/>
                  <a:pt x="17239" y="9153"/>
                </a:cubicBezTo>
                <a:cubicBezTo>
                  <a:pt x="17299" y="9184"/>
                  <a:pt x="17307" y="9189"/>
                  <a:pt x="17363" y="9227"/>
                </a:cubicBezTo>
                <a:cubicBezTo>
                  <a:pt x="17398" y="9250"/>
                  <a:pt x="17452" y="9275"/>
                  <a:pt x="17487" y="9302"/>
                </a:cubicBezTo>
                <a:cubicBezTo>
                  <a:pt x="17553" y="9354"/>
                  <a:pt x="17572" y="9397"/>
                  <a:pt x="17636" y="9451"/>
                </a:cubicBezTo>
                <a:cubicBezTo>
                  <a:pt x="17661" y="9472"/>
                  <a:pt x="17706" y="9473"/>
                  <a:pt x="17735" y="9500"/>
                </a:cubicBezTo>
                <a:cubicBezTo>
                  <a:pt x="17768" y="9530"/>
                  <a:pt x="17816" y="9578"/>
                  <a:pt x="17835" y="9599"/>
                </a:cubicBezTo>
                <a:cubicBezTo>
                  <a:pt x="17871" y="9638"/>
                  <a:pt x="17905" y="9663"/>
                  <a:pt x="17934" y="9699"/>
                </a:cubicBezTo>
                <a:cubicBezTo>
                  <a:pt x="17974" y="9749"/>
                  <a:pt x="17995" y="9789"/>
                  <a:pt x="18033" y="9847"/>
                </a:cubicBezTo>
                <a:cubicBezTo>
                  <a:pt x="18066" y="9898"/>
                  <a:pt x="18112" y="9955"/>
                  <a:pt x="18132" y="9996"/>
                </a:cubicBezTo>
                <a:cubicBezTo>
                  <a:pt x="18158" y="10049"/>
                  <a:pt x="18157" y="10142"/>
                  <a:pt x="18182" y="10195"/>
                </a:cubicBezTo>
                <a:cubicBezTo>
                  <a:pt x="18205" y="10243"/>
                  <a:pt x="18237" y="10254"/>
                  <a:pt x="18256" y="10294"/>
                </a:cubicBezTo>
                <a:cubicBezTo>
                  <a:pt x="18278" y="10341"/>
                  <a:pt x="18314" y="10398"/>
                  <a:pt x="18331" y="10443"/>
                </a:cubicBezTo>
                <a:cubicBezTo>
                  <a:pt x="18355" y="10505"/>
                  <a:pt x="18377" y="10574"/>
                  <a:pt x="18405" y="10641"/>
                </a:cubicBezTo>
                <a:cubicBezTo>
                  <a:pt x="18426" y="10691"/>
                  <a:pt x="18433" y="10760"/>
                  <a:pt x="18455" y="10815"/>
                </a:cubicBezTo>
                <a:cubicBezTo>
                  <a:pt x="18474" y="10864"/>
                  <a:pt x="18510" y="10911"/>
                  <a:pt x="18529" y="10964"/>
                </a:cubicBezTo>
                <a:cubicBezTo>
                  <a:pt x="18545" y="11008"/>
                  <a:pt x="18562" y="11063"/>
                  <a:pt x="18579" y="11112"/>
                </a:cubicBezTo>
                <a:cubicBezTo>
                  <a:pt x="18606" y="11192"/>
                  <a:pt x="18625" y="11252"/>
                  <a:pt x="18653" y="11336"/>
                </a:cubicBezTo>
                <a:cubicBezTo>
                  <a:pt x="18669" y="11385"/>
                  <a:pt x="18689" y="11441"/>
                  <a:pt x="18703" y="11485"/>
                </a:cubicBezTo>
                <a:cubicBezTo>
                  <a:pt x="18724" y="11550"/>
                  <a:pt x="18753" y="11614"/>
                  <a:pt x="18777" y="11683"/>
                </a:cubicBezTo>
                <a:cubicBezTo>
                  <a:pt x="18791" y="11723"/>
                  <a:pt x="18815" y="11770"/>
                  <a:pt x="18827" y="11807"/>
                </a:cubicBezTo>
                <a:cubicBezTo>
                  <a:pt x="18846" y="11865"/>
                  <a:pt x="18855" y="11918"/>
                  <a:pt x="18876" y="11981"/>
                </a:cubicBezTo>
                <a:cubicBezTo>
                  <a:pt x="18893" y="12032"/>
                  <a:pt x="18907" y="12097"/>
                  <a:pt x="18926" y="12154"/>
                </a:cubicBezTo>
                <a:cubicBezTo>
                  <a:pt x="18945" y="12212"/>
                  <a:pt x="18957" y="12266"/>
                  <a:pt x="18976" y="12328"/>
                </a:cubicBezTo>
                <a:cubicBezTo>
                  <a:pt x="18994" y="12387"/>
                  <a:pt x="19009" y="12443"/>
                  <a:pt x="19025" y="12502"/>
                </a:cubicBezTo>
                <a:cubicBezTo>
                  <a:pt x="19041" y="12562"/>
                  <a:pt x="19057" y="12611"/>
                  <a:pt x="19075" y="12675"/>
                </a:cubicBezTo>
                <a:cubicBezTo>
                  <a:pt x="19093" y="12735"/>
                  <a:pt x="19102" y="12785"/>
                  <a:pt x="19124" y="12849"/>
                </a:cubicBezTo>
                <a:cubicBezTo>
                  <a:pt x="19154" y="12939"/>
                  <a:pt x="19188" y="13035"/>
                  <a:pt x="19224" y="13122"/>
                </a:cubicBezTo>
                <a:cubicBezTo>
                  <a:pt x="19246" y="13175"/>
                  <a:pt x="19273" y="13234"/>
                  <a:pt x="19298" y="13295"/>
                </a:cubicBezTo>
                <a:cubicBezTo>
                  <a:pt x="19324" y="13360"/>
                  <a:pt x="19350" y="13426"/>
                  <a:pt x="19372" y="13494"/>
                </a:cubicBezTo>
                <a:cubicBezTo>
                  <a:pt x="19396" y="13569"/>
                  <a:pt x="19422" y="13639"/>
                  <a:pt x="19447" y="13717"/>
                </a:cubicBezTo>
                <a:cubicBezTo>
                  <a:pt x="19480" y="13822"/>
                  <a:pt x="19509" y="13935"/>
                  <a:pt x="19546" y="14039"/>
                </a:cubicBezTo>
                <a:cubicBezTo>
                  <a:pt x="19585" y="14150"/>
                  <a:pt x="19633" y="14250"/>
                  <a:pt x="19670" y="14362"/>
                </a:cubicBezTo>
                <a:cubicBezTo>
                  <a:pt x="19698" y="14448"/>
                  <a:pt x="19714" y="14529"/>
                  <a:pt x="19745" y="14610"/>
                </a:cubicBezTo>
                <a:cubicBezTo>
                  <a:pt x="19780" y="14701"/>
                  <a:pt x="19828" y="14795"/>
                  <a:pt x="19869" y="14883"/>
                </a:cubicBezTo>
                <a:cubicBezTo>
                  <a:pt x="20000" y="15166"/>
                  <a:pt x="20147" y="15420"/>
                  <a:pt x="20315" y="15677"/>
                </a:cubicBezTo>
                <a:cubicBezTo>
                  <a:pt x="20348" y="15728"/>
                  <a:pt x="20379" y="15776"/>
                  <a:pt x="20414" y="15825"/>
                </a:cubicBezTo>
                <a:cubicBezTo>
                  <a:pt x="20456" y="15883"/>
                  <a:pt x="20493" y="15943"/>
                  <a:pt x="20538" y="15999"/>
                </a:cubicBezTo>
                <a:cubicBezTo>
                  <a:pt x="20580" y="16051"/>
                  <a:pt x="20617" y="16097"/>
                  <a:pt x="20662" y="16148"/>
                </a:cubicBezTo>
                <a:cubicBezTo>
                  <a:pt x="20744" y="16241"/>
                  <a:pt x="20835" y="16320"/>
                  <a:pt x="20935" y="16371"/>
                </a:cubicBezTo>
                <a:cubicBezTo>
                  <a:pt x="20969" y="16388"/>
                  <a:pt x="21045" y="16411"/>
                  <a:pt x="21084" y="16421"/>
                </a:cubicBezTo>
                <a:cubicBezTo>
                  <a:pt x="21137" y="16435"/>
                  <a:pt x="21178" y="16438"/>
                  <a:pt x="21233" y="16446"/>
                </a:cubicBezTo>
                <a:cubicBezTo>
                  <a:pt x="21393" y="16469"/>
                  <a:pt x="21618" y="16441"/>
                  <a:pt x="21754" y="16371"/>
                </a:cubicBezTo>
                <a:cubicBezTo>
                  <a:pt x="21801" y="16347"/>
                  <a:pt x="21858" y="16303"/>
                  <a:pt x="21903" y="16272"/>
                </a:cubicBezTo>
                <a:cubicBezTo>
                  <a:pt x="22009" y="16199"/>
                  <a:pt x="22102" y="16066"/>
                  <a:pt x="22175" y="15974"/>
                </a:cubicBezTo>
                <a:cubicBezTo>
                  <a:pt x="22288" y="15833"/>
                  <a:pt x="22385" y="15656"/>
                  <a:pt x="22473" y="15503"/>
                </a:cubicBezTo>
                <a:cubicBezTo>
                  <a:pt x="22515" y="15430"/>
                  <a:pt x="22562" y="15355"/>
                  <a:pt x="22597" y="15280"/>
                </a:cubicBezTo>
                <a:cubicBezTo>
                  <a:pt x="22661" y="15142"/>
                  <a:pt x="22698" y="14995"/>
                  <a:pt x="22746" y="14858"/>
                </a:cubicBezTo>
                <a:cubicBezTo>
                  <a:pt x="22793" y="14725"/>
                  <a:pt x="22847" y="14593"/>
                  <a:pt x="22895" y="14461"/>
                </a:cubicBezTo>
                <a:cubicBezTo>
                  <a:pt x="22984" y="14213"/>
                  <a:pt x="23067" y="13964"/>
                  <a:pt x="23143" y="13717"/>
                </a:cubicBezTo>
                <a:cubicBezTo>
                  <a:pt x="23169" y="13633"/>
                  <a:pt x="23190" y="13553"/>
                  <a:pt x="23217" y="13469"/>
                </a:cubicBezTo>
                <a:cubicBezTo>
                  <a:pt x="23257" y="13344"/>
                  <a:pt x="23281" y="13189"/>
                  <a:pt x="23341" y="13072"/>
                </a:cubicBezTo>
                <a:cubicBezTo>
                  <a:pt x="23372" y="13011"/>
                  <a:pt x="23412" y="12955"/>
                  <a:pt x="23440" y="12898"/>
                </a:cubicBezTo>
                <a:cubicBezTo>
                  <a:pt x="23453" y="12871"/>
                  <a:pt x="23512" y="12832"/>
                  <a:pt x="23515" y="12824"/>
                </a:cubicBezTo>
                <a:cubicBezTo>
                  <a:pt x="23515" y="12799"/>
                  <a:pt x="23515" y="12791"/>
                  <a:pt x="23490" y="127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3960" y="4286160"/>
            <a:ext cx="11736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11162" y="12005"/>
                </a:moveTo>
                <a:cubicBezTo>
                  <a:pt x="11120" y="12061"/>
                  <a:pt x="11143" y="12041"/>
                  <a:pt x="11187" y="12080"/>
                </a:cubicBezTo>
                <a:cubicBezTo>
                  <a:pt x="11239" y="12126"/>
                  <a:pt x="11236" y="12097"/>
                  <a:pt x="11286" y="12080"/>
                </a:cubicBezTo>
                <a:cubicBezTo>
                  <a:pt x="11315" y="12070"/>
                  <a:pt x="11331" y="12046"/>
                  <a:pt x="11336" y="12005"/>
                </a:cubicBezTo>
                <a:cubicBezTo>
                  <a:pt x="11336" y="11981"/>
                  <a:pt x="11336" y="11972"/>
                  <a:pt x="11336" y="11956"/>
                </a:cubicBezTo>
                <a:cubicBezTo>
                  <a:pt x="11297" y="11933"/>
                  <a:pt x="11238" y="11914"/>
                  <a:pt x="11187" y="11931"/>
                </a:cubicBezTo>
                <a:cubicBezTo>
                  <a:pt x="11122" y="11953"/>
                  <a:pt x="11093" y="11976"/>
                  <a:pt x="11088" y="12030"/>
                </a:cubicBezTo>
                <a:cubicBezTo>
                  <a:pt x="11083" y="12089"/>
                  <a:pt x="11100" y="12081"/>
                  <a:pt x="11137" y="12105"/>
                </a:cubicBezTo>
                <a:cubicBezTo>
                  <a:pt x="11171" y="12127"/>
                  <a:pt x="11215" y="12104"/>
                  <a:pt x="11237" y="12055"/>
                </a:cubicBezTo>
                <a:cubicBezTo>
                  <a:pt x="11237" y="12027"/>
                  <a:pt x="11239" y="12016"/>
                  <a:pt x="11261" y="12005"/>
                </a:cubicBezTo>
                <a:cubicBezTo>
                  <a:pt x="11246" y="11945"/>
                  <a:pt x="11222" y="11956"/>
                  <a:pt x="11162" y="11956"/>
                </a:cubicBezTo>
                <a:cubicBezTo>
                  <a:pt x="11086" y="11956"/>
                  <a:pt x="11066" y="11953"/>
                  <a:pt x="11013" y="12005"/>
                </a:cubicBezTo>
                <a:cubicBezTo>
                  <a:pt x="11013" y="12051"/>
                  <a:pt x="11020" y="12078"/>
                  <a:pt x="11063" y="12105"/>
                </a:cubicBezTo>
                <a:cubicBezTo>
                  <a:pt x="11121" y="12142"/>
                  <a:pt x="11159" y="12133"/>
                  <a:pt x="11212" y="12105"/>
                </a:cubicBezTo>
                <a:cubicBezTo>
                  <a:pt x="11258" y="12081"/>
                  <a:pt x="11305" y="12059"/>
                  <a:pt x="11311" y="12005"/>
                </a:cubicBezTo>
                <a:cubicBezTo>
                  <a:pt x="11311" y="11997"/>
                  <a:pt x="11311" y="11989"/>
                  <a:pt x="11311" y="11981"/>
                </a:cubicBezTo>
                <a:cubicBezTo>
                  <a:pt x="11272" y="11942"/>
                  <a:pt x="11234" y="11920"/>
                  <a:pt x="11187" y="11906"/>
                </a:cubicBezTo>
                <a:cubicBezTo>
                  <a:pt x="11135" y="11890"/>
                  <a:pt x="11148" y="11926"/>
                  <a:pt x="11112" y="11931"/>
                </a:cubicBezTo>
                <a:cubicBezTo>
                  <a:pt x="11088" y="11931"/>
                  <a:pt x="11080" y="11931"/>
                  <a:pt x="11088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=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03160" y="2759040"/>
            <a:ext cx="455760" cy="36720"/>
          </a:xfrm>
          <a:custGeom>
            <a:avLst/>
            <a:gdLst/>
            <a:ahLst/>
            <a:rect l="l" t="t" r="r" b="b"/>
            <a:pathLst>
              <a:path w="1266" h="100">
                <a:moveTo>
                  <a:pt x="2232" y="7764"/>
                </a:moveTo>
                <a:cubicBezTo>
                  <a:pt x="2393" y="7724"/>
                  <a:pt x="2540" y="7779"/>
                  <a:pt x="2704" y="7764"/>
                </a:cubicBezTo>
                <a:cubicBezTo>
                  <a:pt x="2853" y="7750"/>
                  <a:pt x="2997" y="7739"/>
                  <a:pt x="3150" y="7739"/>
                </a:cubicBezTo>
                <a:cubicBezTo>
                  <a:pt x="3181" y="7739"/>
                  <a:pt x="3515" y="7751"/>
                  <a:pt x="3497" y="7714"/>
                </a:cubicBezTo>
                <a:cubicBezTo>
                  <a:pt x="3475" y="7692"/>
                  <a:pt x="3467" y="7687"/>
                  <a:pt x="3473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8240" y="1500120"/>
            <a:ext cx="696960" cy="706680"/>
          </a:xfrm>
          <a:custGeom>
            <a:avLst/>
            <a:gdLst/>
            <a:ahLst/>
            <a:rect l="l" t="t" r="r" b="b"/>
            <a:pathLst>
              <a:path w="1936" h="1961">
                <a:moveTo>
                  <a:pt x="2629" y="6127"/>
                </a:moveTo>
                <a:cubicBezTo>
                  <a:pt x="2611" y="6096"/>
                  <a:pt x="2607" y="6100"/>
                  <a:pt x="2604" y="6052"/>
                </a:cubicBezTo>
                <a:cubicBezTo>
                  <a:pt x="2600" y="5987"/>
                  <a:pt x="2619" y="5939"/>
                  <a:pt x="2629" y="5879"/>
                </a:cubicBezTo>
                <a:cubicBezTo>
                  <a:pt x="2648" y="5763"/>
                  <a:pt x="2642" y="5624"/>
                  <a:pt x="2654" y="5507"/>
                </a:cubicBezTo>
                <a:cubicBezTo>
                  <a:pt x="2664" y="5408"/>
                  <a:pt x="2675" y="5308"/>
                  <a:pt x="2679" y="5209"/>
                </a:cubicBezTo>
                <a:cubicBezTo>
                  <a:pt x="2683" y="5091"/>
                  <a:pt x="2700" y="4979"/>
                  <a:pt x="2704" y="4862"/>
                </a:cubicBezTo>
                <a:cubicBezTo>
                  <a:pt x="2707" y="4748"/>
                  <a:pt x="2741" y="4650"/>
                  <a:pt x="2753" y="4539"/>
                </a:cubicBezTo>
                <a:cubicBezTo>
                  <a:pt x="2761" y="4463"/>
                  <a:pt x="2757" y="4364"/>
                  <a:pt x="2778" y="4291"/>
                </a:cubicBezTo>
                <a:cubicBezTo>
                  <a:pt x="2793" y="4239"/>
                  <a:pt x="2797" y="4220"/>
                  <a:pt x="2803" y="4167"/>
                </a:cubicBezTo>
              </a:path>
              <a:path w="1936" h="1961">
                <a:moveTo>
                  <a:pt x="2133" y="5333"/>
                </a:moveTo>
                <a:cubicBezTo>
                  <a:pt x="2318" y="5323"/>
                  <a:pt x="2494" y="5276"/>
                  <a:pt x="2679" y="5259"/>
                </a:cubicBezTo>
                <a:cubicBezTo>
                  <a:pt x="2913" y="5238"/>
                  <a:pt x="3144" y="5226"/>
                  <a:pt x="3373" y="5184"/>
                </a:cubicBezTo>
                <a:cubicBezTo>
                  <a:pt x="3511" y="5159"/>
                  <a:pt x="3658" y="5147"/>
                  <a:pt x="3795" y="5135"/>
                </a:cubicBezTo>
                <a:cubicBezTo>
                  <a:pt x="3883" y="5127"/>
                  <a:pt x="3960" y="5116"/>
                  <a:pt x="4043" y="5110"/>
                </a:cubicBezTo>
                <a:cubicBezTo>
                  <a:pt x="4051" y="5110"/>
                  <a:pt x="4060" y="5110"/>
                  <a:pt x="4068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4240" y="1670040"/>
            <a:ext cx="3295800" cy="1847880"/>
          </a:xfrm>
          <a:custGeom>
            <a:avLst/>
            <a:gdLst/>
            <a:ahLst/>
            <a:rect l="l" t="t" r="r" b="b"/>
            <a:pathLst>
              <a:path w="9154" h="5136">
                <a:moveTo>
                  <a:pt x="2629" y="7665"/>
                </a:moveTo>
                <a:cubicBezTo>
                  <a:pt x="2629" y="7703"/>
                  <a:pt x="2647" y="7689"/>
                  <a:pt x="2679" y="7689"/>
                </a:cubicBezTo>
              </a:path>
              <a:path w="9154" h="5136">
                <a:moveTo>
                  <a:pt x="2629" y="7665"/>
                </a:moveTo>
                <a:cubicBezTo>
                  <a:pt x="2637" y="7673"/>
                  <a:pt x="2646" y="7681"/>
                  <a:pt x="2654" y="7689"/>
                </a:cubicBezTo>
              </a:path>
              <a:path w="9154" h="5136">
                <a:moveTo>
                  <a:pt x="2654" y="7689"/>
                </a:moveTo>
                <a:cubicBezTo>
                  <a:pt x="2660" y="7692"/>
                  <a:pt x="2645" y="7689"/>
                  <a:pt x="2679" y="7689"/>
                </a:cubicBezTo>
                <a:cubicBezTo>
                  <a:pt x="2703" y="7689"/>
                  <a:pt x="2680" y="7689"/>
                  <a:pt x="2704" y="7689"/>
                </a:cubicBezTo>
                <a:cubicBezTo>
                  <a:pt x="2704" y="7731"/>
                  <a:pt x="2704" y="7672"/>
                  <a:pt x="2704" y="7714"/>
                </a:cubicBezTo>
                <a:cubicBezTo>
                  <a:pt x="2687" y="7703"/>
                  <a:pt x="2760" y="7667"/>
                  <a:pt x="2679" y="7689"/>
                </a:cubicBezTo>
                <a:cubicBezTo>
                  <a:pt x="2655" y="7695"/>
                  <a:pt x="2653" y="7709"/>
                  <a:pt x="2629" y="7714"/>
                </a:cubicBezTo>
                <a:cubicBezTo>
                  <a:pt x="2631" y="7712"/>
                  <a:pt x="2745" y="7696"/>
                  <a:pt x="2729" y="7689"/>
                </a:cubicBezTo>
                <a:cubicBezTo>
                  <a:pt x="2695" y="7675"/>
                  <a:pt x="2704" y="7692"/>
                  <a:pt x="2679" y="7665"/>
                </a:cubicBezTo>
                <a:cubicBezTo>
                  <a:pt x="2671" y="7673"/>
                  <a:pt x="2662" y="7681"/>
                  <a:pt x="2654" y="7689"/>
                </a:cubicBezTo>
                <a:cubicBezTo>
                  <a:pt x="2665" y="7675"/>
                  <a:pt x="2706" y="7645"/>
                  <a:pt x="2729" y="7615"/>
                </a:cubicBezTo>
                <a:cubicBezTo>
                  <a:pt x="2758" y="7577"/>
                  <a:pt x="2800" y="7512"/>
                  <a:pt x="2828" y="7466"/>
                </a:cubicBezTo>
                <a:cubicBezTo>
                  <a:pt x="2871" y="7396"/>
                  <a:pt x="2908" y="7310"/>
                  <a:pt x="2952" y="7243"/>
                </a:cubicBezTo>
                <a:cubicBezTo>
                  <a:pt x="2991" y="7185"/>
                  <a:pt x="3056" y="7112"/>
                  <a:pt x="3101" y="7045"/>
                </a:cubicBezTo>
                <a:cubicBezTo>
                  <a:pt x="3152" y="6969"/>
                  <a:pt x="3200" y="6897"/>
                  <a:pt x="3249" y="6821"/>
                </a:cubicBezTo>
                <a:cubicBezTo>
                  <a:pt x="3303" y="6738"/>
                  <a:pt x="3367" y="6657"/>
                  <a:pt x="3423" y="6573"/>
                </a:cubicBezTo>
                <a:cubicBezTo>
                  <a:pt x="3523" y="6422"/>
                  <a:pt x="3636" y="6294"/>
                  <a:pt x="3746" y="6152"/>
                </a:cubicBezTo>
                <a:cubicBezTo>
                  <a:pt x="3819" y="6058"/>
                  <a:pt x="3891" y="5969"/>
                  <a:pt x="3969" y="5879"/>
                </a:cubicBezTo>
                <a:cubicBezTo>
                  <a:pt x="4042" y="5795"/>
                  <a:pt x="4116" y="5711"/>
                  <a:pt x="4192" y="5631"/>
                </a:cubicBezTo>
                <a:cubicBezTo>
                  <a:pt x="4266" y="5553"/>
                  <a:pt x="4336" y="5458"/>
                  <a:pt x="4415" y="5383"/>
                </a:cubicBezTo>
                <a:cubicBezTo>
                  <a:pt x="4512" y="5291"/>
                  <a:pt x="4645" y="5171"/>
                  <a:pt x="4762" y="5110"/>
                </a:cubicBezTo>
                <a:cubicBezTo>
                  <a:pt x="4896" y="5040"/>
                  <a:pt x="5088" y="4961"/>
                  <a:pt x="5234" y="4961"/>
                </a:cubicBezTo>
                <a:cubicBezTo>
                  <a:pt x="5286" y="4961"/>
                  <a:pt x="5382" y="4971"/>
                  <a:pt x="5432" y="4986"/>
                </a:cubicBezTo>
                <a:cubicBezTo>
                  <a:pt x="5495" y="5005"/>
                  <a:pt x="5559" y="5068"/>
                  <a:pt x="5606" y="5110"/>
                </a:cubicBezTo>
                <a:cubicBezTo>
                  <a:pt x="5651" y="5150"/>
                  <a:pt x="5670" y="5211"/>
                  <a:pt x="5705" y="5259"/>
                </a:cubicBezTo>
                <a:cubicBezTo>
                  <a:pt x="5757" y="5330"/>
                  <a:pt x="5820" y="5424"/>
                  <a:pt x="5854" y="5507"/>
                </a:cubicBezTo>
                <a:cubicBezTo>
                  <a:pt x="5884" y="5581"/>
                  <a:pt x="5905" y="5676"/>
                  <a:pt x="5928" y="5755"/>
                </a:cubicBezTo>
                <a:cubicBezTo>
                  <a:pt x="5950" y="5829"/>
                  <a:pt x="5956" y="5905"/>
                  <a:pt x="5978" y="5978"/>
                </a:cubicBezTo>
                <a:cubicBezTo>
                  <a:pt x="6001" y="6056"/>
                  <a:pt x="6031" y="6120"/>
                  <a:pt x="6052" y="6201"/>
                </a:cubicBezTo>
                <a:cubicBezTo>
                  <a:pt x="6075" y="6290"/>
                  <a:pt x="6105" y="6384"/>
                  <a:pt x="6127" y="6474"/>
                </a:cubicBezTo>
                <a:cubicBezTo>
                  <a:pt x="6151" y="6572"/>
                  <a:pt x="6180" y="6676"/>
                  <a:pt x="6201" y="6772"/>
                </a:cubicBezTo>
                <a:cubicBezTo>
                  <a:pt x="6221" y="6862"/>
                  <a:pt x="6232" y="6952"/>
                  <a:pt x="6251" y="7045"/>
                </a:cubicBezTo>
                <a:cubicBezTo>
                  <a:pt x="6270" y="7136"/>
                  <a:pt x="6279" y="7226"/>
                  <a:pt x="6300" y="7317"/>
                </a:cubicBezTo>
                <a:cubicBezTo>
                  <a:pt x="6322" y="7409"/>
                  <a:pt x="6354" y="7497"/>
                  <a:pt x="6375" y="7590"/>
                </a:cubicBezTo>
                <a:cubicBezTo>
                  <a:pt x="6398" y="7692"/>
                  <a:pt x="6419" y="7786"/>
                  <a:pt x="6449" y="7888"/>
                </a:cubicBezTo>
                <a:cubicBezTo>
                  <a:pt x="6505" y="8077"/>
                  <a:pt x="6579" y="8309"/>
                  <a:pt x="6672" y="8483"/>
                </a:cubicBezTo>
                <a:cubicBezTo>
                  <a:pt x="6722" y="8576"/>
                  <a:pt x="6770" y="8647"/>
                  <a:pt x="6821" y="8731"/>
                </a:cubicBezTo>
                <a:cubicBezTo>
                  <a:pt x="6874" y="8818"/>
                  <a:pt x="6917" y="8920"/>
                  <a:pt x="6970" y="9004"/>
                </a:cubicBezTo>
                <a:cubicBezTo>
                  <a:pt x="7042" y="9117"/>
                  <a:pt x="7098" y="9207"/>
                  <a:pt x="7193" y="9302"/>
                </a:cubicBezTo>
                <a:cubicBezTo>
                  <a:pt x="7248" y="9357"/>
                  <a:pt x="7307" y="9403"/>
                  <a:pt x="7367" y="9451"/>
                </a:cubicBezTo>
                <a:cubicBezTo>
                  <a:pt x="7408" y="9484"/>
                  <a:pt x="7469" y="9514"/>
                  <a:pt x="7516" y="9550"/>
                </a:cubicBezTo>
                <a:cubicBezTo>
                  <a:pt x="7564" y="9586"/>
                  <a:pt x="7634" y="9649"/>
                  <a:pt x="7689" y="9674"/>
                </a:cubicBezTo>
                <a:cubicBezTo>
                  <a:pt x="7766" y="9709"/>
                  <a:pt x="7903" y="9729"/>
                  <a:pt x="7987" y="9748"/>
                </a:cubicBezTo>
                <a:cubicBezTo>
                  <a:pt x="8049" y="9762"/>
                  <a:pt x="8095" y="9772"/>
                  <a:pt x="8161" y="9773"/>
                </a:cubicBezTo>
                <a:cubicBezTo>
                  <a:pt x="8241" y="9774"/>
                  <a:pt x="8363" y="9780"/>
                  <a:pt x="8434" y="9748"/>
                </a:cubicBezTo>
                <a:cubicBezTo>
                  <a:pt x="8458" y="9737"/>
                  <a:pt x="8589" y="9620"/>
                  <a:pt x="8607" y="9599"/>
                </a:cubicBezTo>
                <a:cubicBezTo>
                  <a:pt x="8648" y="9551"/>
                  <a:pt x="8668" y="9457"/>
                  <a:pt x="8706" y="9401"/>
                </a:cubicBezTo>
                <a:cubicBezTo>
                  <a:pt x="8757" y="9325"/>
                  <a:pt x="8813" y="9249"/>
                  <a:pt x="8855" y="9153"/>
                </a:cubicBezTo>
                <a:cubicBezTo>
                  <a:pt x="8947" y="8941"/>
                  <a:pt x="9025" y="8727"/>
                  <a:pt x="9103" y="8508"/>
                </a:cubicBezTo>
                <a:cubicBezTo>
                  <a:pt x="9126" y="8442"/>
                  <a:pt x="9154" y="8352"/>
                  <a:pt x="9178" y="8285"/>
                </a:cubicBezTo>
                <a:cubicBezTo>
                  <a:pt x="9290" y="7974"/>
                  <a:pt x="9440" y="7672"/>
                  <a:pt x="9550" y="7367"/>
                </a:cubicBezTo>
                <a:cubicBezTo>
                  <a:pt x="9677" y="7013"/>
                  <a:pt x="9761" y="6665"/>
                  <a:pt x="9922" y="6325"/>
                </a:cubicBezTo>
                <a:cubicBezTo>
                  <a:pt x="9988" y="6186"/>
                  <a:pt x="10052" y="6044"/>
                  <a:pt x="10120" y="5904"/>
                </a:cubicBezTo>
                <a:cubicBezTo>
                  <a:pt x="10184" y="5771"/>
                  <a:pt x="10254" y="5640"/>
                  <a:pt x="10319" y="5507"/>
                </a:cubicBezTo>
                <a:cubicBezTo>
                  <a:pt x="10373" y="5395"/>
                  <a:pt x="10431" y="5291"/>
                  <a:pt x="10492" y="5184"/>
                </a:cubicBezTo>
                <a:cubicBezTo>
                  <a:pt x="10558" y="5068"/>
                  <a:pt x="10628" y="4950"/>
                  <a:pt x="10716" y="4862"/>
                </a:cubicBezTo>
                <a:cubicBezTo>
                  <a:pt x="10770" y="4808"/>
                  <a:pt x="10826" y="4778"/>
                  <a:pt x="10889" y="4738"/>
                </a:cubicBezTo>
                <a:cubicBezTo>
                  <a:pt x="10950" y="4699"/>
                  <a:pt x="11028" y="4667"/>
                  <a:pt x="11088" y="4638"/>
                </a:cubicBezTo>
                <a:cubicBezTo>
                  <a:pt x="11110" y="4627"/>
                  <a:pt x="11090" y="4649"/>
                  <a:pt x="11112" y="4638"/>
                </a:cubicBezTo>
              </a:path>
              <a:path w="9154" h="5136">
                <a:moveTo>
                  <a:pt x="1984" y="7689"/>
                </a:moveTo>
                <a:cubicBezTo>
                  <a:pt x="2102" y="7678"/>
                  <a:pt x="2214" y="7676"/>
                  <a:pt x="2332" y="7665"/>
                </a:cubicBezTo>
                <a:cubicBezTo>
                  <a:pt x="2506" y="7649"/>
                  <a:pt x="2678" y="7621"/>
                  <a:pt x="2853" y="7615"/>
                </a:cubicBezTo>
                <a:cubicBezTo>
                  <a:pt x="3126" y="7605"/>
                  <a:pt x="3426" y="7572"/>
                  <a:pt x="3696" y="7590"/>
                </a:cubicBezTo>
                <a:cubicBezTo>
                  <a:pt x="3944" y="7607"/>
                  <a:pt x="4167" y="7601"/>
                  <a:pt x="4415" y="7590"/>
                </a:cubicBezTo>
                <a:cubicBezTo>
                  <a:pt x="4694" y="7578"/>
                  <a:pt x="4978" y="7615"/>
                  <a:pt x="5259" y="7615"/>
                </a:cubicBezTo>
                <a:cubicBezTo>
                  <a:pt x="5581" y="7615"/>
                  <a:pt x="5905" y="7618"/>
                  <a:pt x="6226" y="7640"/>
                </a:cubicBezTo>
                <a:cubicBezTo>
                  <a:pt x="6557" y="7662"/>
                  <a:pt x="6886" y="7703"/>
                  <a:pt x="7218" y="7714"/>
                </a:cubicBezTo>
                <a:cubicBezTo>
                  <a:pt x="7632" y="7727"/>
                  <a:pt x="8045" y="7751"/>
                  <a:pt x="8458" y="7789"/>
                </a:cubicBezTo>
                <a:cubicBezTo>
                  <a:pt x="8764" y="7818"/>
                  <a:pt x="9072" y="7810"/>
                  <a:pt x="9376" y="7863"/>
                </a:cubicBezTo>
                <a:cubicBezTo>
                  <a:pt x="9682" y="7916"/>
                  <a:pt x="9987" y="7971"/>
                  <a:pt x="10294" y="8012"/>
                </a:cubicBezTo>
                <a:cubicBezTo>
                  <a:pt x="10387" y="8024"/>
                  <a:pt x="10458" y="8068"/>
                  <a:pt x="10468" y="8012"/>
                </a:cubicBezTo>
                <a:cubicBezTo>
                  <a:pt x="10443" y="7979"/>
                  <a:pt x="10418" y="7946"/>
                  <a:pt x="10393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27080" y="3759120"/>
            <a:ext cx="4759200" cy="2116080"/>
          </a:xfrm>
          <a:custGeom>
            <a:avLst/>
            <a:gdLst/>
            <a:ahLst/>
            <a:rect l="l" t="t" r="r" b="b"/>
            <a:pathLst>
              <a:path w="13221" h="5879">
                <a:moveTo>
                  <a:pt x="5606" y="13047"/>
                </a:moveTo>
                <a:cubicBezTo>
                  <a:pt x="5724" y="13011"/>
                  <a:pt x="5877" y="13005"/>
                  <a:pt x="6003" y="12998"/>
                </a:cubicBezTo>
                <a:cubicBezTo>
                  <a:pt x="6252" y="12985"/>
                  <a:pt x="6497" y="12951"/>
                  <a:pt x="6747" y="12948"/>
                </a:cubicBezTo>
                <a:cubicBezTo>
                  <a:pt x="7015" y="12944"/>
                  <a:pt x="7276" y="12956"/>
                  <a:pt x="7541" y="12973"/>
                </a:cubicBezTo>
                <a:cubicBezTo>
                  <a:pt x="7632" y="12973"/>
                  <a:pt x="7656" y="12973"/>
                  <a:pt x="7714" y="12973"/>
                </a:cubicBezTo>
              </a:path>
              <a:path w="13221" h="5879">
                <a:moveTo>
                  <a:pt x="6623" y="11757"/>
                </a:moveTo>
                <a:cubicBezTo>
                  <a:pt x="6609" y="11689"/>
                  <a:pt x="6607" y="11634"/>
                  <a:pt x="6623" y="11559"/>
                </a:cubicBezTo>
                <a:cubicBezTo>
                  <a:pt x="6641" y="11476"/>
                  <a:pt x="6677" y="11392"/>
                  <a:pt x="6697" y="11311"/>
                </a:cubicBezTo>
                <a:cubicBezTo>
                  <a:pt x="6725" y="11202"/>
                  <a:pt x="6742" y="11076"/>
                  <a:pt x="6747" y="10964"/>
                </a:cubicBezTo>
                <a:cubicBezTo>
                  <a:pt x="6752" y="10850"/>
                  <a:pt x="6789" y="10592"/>
                  <a:pt x="6722" y="10492"/>
                </a:cubicBezTo>
                <a:cubicBezTo>
                  <a:pt x="6689" y="10492"/>
                  <a:pt x="6681" y="10484"/>
                  <a:pt x="6697" y="10443"/>
                </a:cubicBezTo>
              </a:path>
              <a:path w="13221" h="5879">
                <a:moveTo>
                  <a:pt x="4986" y="11311"/>
                </a:moveTo>
                <a:cubicBezTo>
                  <a:pt x="5177" y="11286"/>
                  <a:pt x="5365" y="11264"/>
                  <a:pt x="5556" y="11237"/>
                </a:cubicBezTo>
                <a:cubicBezTo>
                  <a:pt x="5943" y="11183"/>
                  <a:pt x="6331" y="11141"/>
                  <a:pt x="6722" y="11137"/>
                </a:cubicBezTo>
                <a:cubicBezTo>
                  <a:pt x="7010" y="11134"/>
                  <a:pt x="7281" y="11143"/>
                  <a:pt x="7565" y="11187"/>
                </a:cubicBezTo>
              </a:path>
              <a:path w="13221" h="5879">
                <a:moveTo>
                  <a:pt x="6028" y="16197"/>
                </a:moveTo>
                <a:cubicBezTo>
                  <a:pt x="6320" y="16203"/>
                  <a:pt x="6583" y="16234"/>
                  <a:pt x="6871" y="16272"/>
                </a:cubicBezTo>
                <a:cubicBezTo>
                  <a:pt x="7090" y="16301"/>
                  <a:pt x="7296" y="16321"/>
                  <a:pt x="7516" y="16321"/>
                </a:cubicBezTo>
              </a:path>
              <a:path w="13221" h="5879">
                <a:moveTo>
                  <a:pt x="2853" y="13643"/>
                </a:moveTo>
                <a:cubicBezTo>
                  <a:pt x="2932" y="13659"/>
                  <a:pt x="2966" y="13646"/>
                  <a:pt x="3051" y="13643"/>
                </a:cubicBezTo>
                <a:cubicBezTo>
                  <a:pt x="3187" y="13638"/>
                  <a:pt x="3313" y="13664"/>
                  <a:pt x="3448" y="13667"/>
                </a:cubicBezTo>
                <a:cubicBezTo>
                  <a:pt x="3580" y="13670"/>
                  <a:pt x="3644" y="13657"/>
                  <a:pt x="3770" y="13618"/>
                </a:cubicBezTo>
              </a:path>
              <a:path w="13221" h="5879">
                <a:moveTo>
                  <a:pt x="3994" y="13667"/>
                </a:moveTo>
                <a:cubicBezTo>
                  <a:pt x="4113" y="13693"/>
                  <a:pt x="4218" y="13692"/>
                  <a:pt x="4341" y="13692"/>
                </a:cubicBezTo>
                <a:cubicBezTo>
                  <a:pt x="4440" y="13692"/>
                  <a:pt x="4473" y="13692"/>
                  <a:pt x="4539" y="13692"/>
                </a:cubicBezTo>
              </a:path>
              <a:path w="13221" h="5879">
                <a:moveTo>
                  <a:pt x="4837" y="13717"/>
                </a:moveTo>
                <a:cubicBezTo>
                  <a:pt x="4957" y="13722"/>
                  <a:pt x="5045" y="13742"/>
                  <a:pt x="5159" y="13742"/>
                </a:cubicBezTo>
                <a:cubicBezTo>
                  <a:pt x="5217" y="13742"/>
                  <a:pt x="5242" y="13742"/>
                  <a:pt x="5283" y="13742"/>
                </a:cubicBezTo>
              </a:path>
              <a:path w="13221" h="5879">
                <a:moveTo>
                  <a:pt x="6003" y="13816"/>
                </a:moveTo>
                <a:cubicBezTo>
                  <a:pt x="6061" y="13816"/>
                  <a:pt x="6118" y="13816"/>
                  <a:pt x="6176" y="13816"/>
                </a:cubicBezTo>
              </a:path>
              <a:path w="13221" h="5879">
                <a:moveTo>
                  <a:pt x="6821" y="13767"/>
                </a:moveTo>
                <a:cubicBezTo>
                  <a:pt x="6920" y="13767"/>
                  <a:pt x="7020" y="13767"/>
                  <a:pt x="7119" y="13767"/>
                </a:cubicBezTo>
              </a:path>
              <a:path w="13221" h="5879">
                <a:moveTo>
                  <a:pt x="7689" y="13742"/>
                </a:moveTo>
                <a:cubicBezTo>
                  <a:pt x="7797" y="13742"/>
                  <a:pt x="7904" y="13742"/>
                  <a:pt x="8012" y="13742"/>
                </a:cubicBezTo>
              </a:path>
              <a:path w="13221" h="5879">
                <a:moveTo>
                  <a:pt x="8508" y="13816"/>
                </a:moveTo>
                <a:cubicBezTo>
                  <a:pt x="8624" y="13816"/>
                  <a:pt x="8717" y="13830"/>
                  <a:pt x="8830" y="13816"/>
                </a:cubicBezTo>
              </a:path>
              <a:path w="13221" h="5879">
                <a:moveTo>
                  <a:pt x="9525" y="13791"/>
                </a:moveTo>
                <a:cubicBezTo>
                  <a:pt x="9649" y="13791"/>
                  <a:pt x="9773" y="13791"/>
                  <a:pt x="9897" y="13791"/>
                </a:cubicBezTo>
              </a:path>
              <a:path w="13221" h="5879">
                <a:moveTo>
                  <a:pt x="10592" y="13866"/>
                </a:moveTo>
                <a:cubicBezTo>
                  <a:pt x="10738" y="13866"/>
                  <a:pt x="10870" y="13880"/>
                  <a:pt x="11013" y="13891"/>
                </a:cubicBezTo>
              </a:path>
              <a:path w="13221" h="5879">
                <a:moveTo>
                  <a:pt x="11658" y="13841"/>
                </a:moveTo>
                <a:lnTo>
                  <a:pt x="11658" y="13841"/>
                </a:lnTo>
              </a:path>
              <a:path w="13221" h="5879">
                <a:moveTo>
                  <a:pt x="12725" y="13841"/>
                </a:moveTo>
                <a:cubicBezTo>
                  <a:pt x="12882" y="13866"/>
                  <a:pt x="13017" y="13899"/>
                  <a:pt x="13171" y="13915"/>
                </a:cubicBezTo>
              </a:path>
              <a:path w="13221" h="5879">
                <a:moveTo>
                  <a:pt x="13891" y="13940"/>
                </a:moveTo>
                <a:cubicBezTo>
                  <a:pt x="14030" y="13947"/>
                  <a:pt x="14151" y="13979"/>
                  <a:pt x="14288" y="13990"/>
                </a:cubicBezTo>
              </a:path>
              <a:path w="13221" h="5879">
                <a:moveTo>
                  <a:pt x="14932" y="13940"/>
                </a:moveTo>
                <a:cubicBezTo>
                  <a:pt x="15038" y="13975"/>
                  <a:pt x="15170" y="14041"/>
                  <a:pt x="15280" y="14064"/>
                </a:cubicBezTo>
                <a:cubicBezTo>
                  <a:pt x="15340" y="14077"/>
                  <a:pt x="15450" y="14064"/>
                  <a:pt x="15503" y="14064"/>
                </a:cubicBezTo>
              </a:path>
              <a:path w="13221" h="5879">
                <a:moveTo>
                  <a:pt x="15602" y="14064"/>
                </a:moveTo>
                <a:cubicBezTo>
                  <a:pt x="15656" y="14002"/>
                  <a:pt x="15669" y="14021"/>
                  <a:pt x="15627" y="13965"/>
                </a:cubicBezTo>
              </a:path>
              <a:path w="13221" h="5879">
                <a:moveTo>
                  <a:pt x="15726" y="13891"/>
                </a:moveTo>
                <a:cubicBezTo>
                  <a:pt x="15749" y="13868"/>
                  <a:pt x="15753" y="13860"/>
                  <a:pt x="15776" y="13866"/>
                </a:cubicBezTo>
              </a:path>
              <a:path w="13221" h="5879">
                <a:moveTo>
                  <a:pt x="15999" y="13915"/>
                </a:moveTo>
                <a:cubicBezTo>
                  <a:pt x="16041" y="13957"/>
                  <a:pt x="16049" y="13964"/>
                  <a:pt x="16073" y="13990"/>
                </a:cubicBezTo>
                <a:cubicBezTo>
                  <a:pt x="16022" y="14011"/>
                  <a:pt x="16023" y="14005"/>
                  <a:pt x="15974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47840" y="4000680"/>
            <a:ext cx="4554360" cy="2277720"/>
          </a:xfrm>
          <a:custGeom>
            <a:avLst/>
            <a:gdLst/>
            <a:ahLst/>
            <a:rect l="l" t="t" r="r" b="b"/>
            <a:pathLst>
              <a:path w="12651" h="6327">
                <a:moveTo>
                  <a:pt x="6648" y="11559"/>
                </a:moveTo>
                <a:cubicBezTo>
                  <a:pt x="6607" y="11794"/>
                  <a:pt x="6577" y="12015"/>
                  <a:pt x="6573" y="12254"/>
                </a:cubicBezTo>
                <a:cubicBezTo>
                  <a:pt x="6569" y="12528"/>
                  <a:pt x="6551" y="12799"/>
                  <a:pt x="6548" y="13072"/>
                </a:cubicBezTo>
                <a:cubicBezTo>
                  <a:pt x="6544" y="13413"/>
                  <a:pt x="6570" y="13749"/>
                  <a:pt x="6573" y="14089"/>
                </a:cubicBezTo>
                <a:cubicBezTo>
                  <a:pt x="6577" y="14470"/>
                  <a:pt x="6594" y="14849"/>
                  <a:pt x="6598" y="15230"/>
                </a:cubicBezTo>
                <a:cubicBezTo>
                  <a:pt x="6604" y="15819"/>
                  <a:pt x="6565" y="16378"/>
                  <a:pt x="6524" y="16966"/>
                </a:cubicBezTo>
                <a:cubicBezTo>
                  <a:pt x="6513" y="17125"/>
                  <a:pt x="6504" y="17282"/>
                  <a:pt x="6474" y="17438"/>
                </a:cubicBezTo>
                <a:cubicBezTo>
                  <a:pt x="6474" y="17430"/>
                  <a:pt x="6474" y="17421"/>
                  <a:pt x="6474" y="17413"/>
                </a:cubicBezTo>
              </a:path>
              <a:path w="12651" h="6327">
                <a:moveTo>
                  <a:pt x="3870" y="14238"/>
                </a:moveTo>
                <a:cubicBezTo>
                  <a:pt x="4008" y="14254"/>
                  <a:pt x="4151" y="14272"/>
                  <a:pt x="4291" y="14288"/>
                </a:cubicBezTo>
                <a:cubicBezTo>
                  <a:pt x="4450" y="14306"/>
                  <a:pt x="4601" y="14330"/>
                  <a:pt x="4762" y="14337"/>
                </a:cubicBezTo>
                <a:cubicBezTo>
                  <a:pt x="4969" y="14346"/>
                  <a:pt x="5177" y="14342"/>
                  <a:pt x="5383" y="14362"/>
                </a:cubicBezTo>
                <a:cubicBezTo>
                  <a:pt x="5623" y="14385"/>
                  <a:pt x="5863" y="14408"/>
                  <a:pt x="6102" y="14436"/>
                </a:cubicBezTo>
                <a:cubicBezTo>
                  <a:pt x="6452" y="14477"/>
                  <a:pt x="6794" y="14510"/>
                  <a:pt x="7144" y="14536"/>
                </a:cubicBezTo>
                <a:cubicBezTo>
                  <a:pt x="7690" y="14576"/>
                  <a:pt x="8236" y="14638"/>
                  <a:pt x="8781" y="14684"/>
                </a:cubicBezTo>
                <a:cubicBezTo>
                  <a:pt x="9139" y="14714"/>
                  <a:pt x="9490" y="14772"/>
                  <a:pt x="9847" y="14808"/>
                </a:cubicBezTo>
                <a:cubicBezTo>
                  <a:pt x="10212" y="14845"/>
                  <a:pt x="10574" y="14852"/>
                  <a:pt x="10939" y="14883"/>
                </a:cubicBezTo>
                <a:cubicBezTo>
                  <a:pt x="11286" y="14912"/>
                  <a:pt x="11634" y="14907"/>
                  <a:pt x="11981" y="14932"/>
                </a:cubicBezTo>
                <a:cubicBezTo>
                  <a:pt x="12223" y="14950"/>
                  <a:pt x="12854" y="15102"/>
                  <a:pt x="13196" y="14957"/>
                </a:cubicBezTo>
                <a:cubicBezTo>
                  <a:pt x="13320" y="14905"/>
                  <a:pt x="13230" y="14826"/>
                  <a:pt x="13271" y="14734"/>
                </a:cubicBezTo>
              </a:path>
              <a:path w="12651" h="6327">
                <a:moveTo>
                  <a:pt x="4638" y="14163"/>
                </a:moveTo>
                <a:cubicBezTo>
                  <a:pt x="4638" y="14155"/>
                  <a:pt x="4638" y="14147"/>
                  <a:pt x="4638" y="14139"/>
                </a:cubicBezTo>
              </a:path>
              <a:path w="12651" h="6327">
                <a:moveTo>
                  <a:pt x="4638" y="14163"/>
                </a:moveTo>
                <a:cubicBezTo>
                  <a:pt x="4646" y="14138"/>
                  <a:pt x="4655" y="14114"/>
                  <a:pt x="4663" y="14089"/>
                </a:cubicBezTo>
              </a:path>
              <a:path w="12651" h="6327">
                <a:moveTo>
                  <a:pt x="4663" y="14089"/>
                </a:moveTo>
                <a:cubicBezTo>
                  <a:pt x="4663" y="14064"/>
                  <a:pt x="4663" y="14040"/>
                  <a:pt x="4663" y="14015"/>
                </a:cubicBezTo>
              </a:path>
              <a:path w="12651" h="6327">
                <a:moveTo>
                  <a:pt x="3746" y="15850"/>
                </a:moveTo>
                <a:cubicBezTo>
                  <a:pt x="3754" y="15776"/>
                  <a:pt x="3762" y="15728"/>
                  <a:pt x="3770" y="15652"/>
                </a:cubicBezTo>
                <a:cubicBezTo>
                  <a:pt x="3778" y="15573"/>
                  <a:pt x="3783" y="15506"/>
                  <a:pt x="3795" y="15429"/>
                </a:cubicBezTo>
                <a:cubicBezTo>
                  <a:pt x="3807" y="15352"/>
                  <a:pt x="3828" y="15284"/>
                  <a:pt x="3845" y="15205"/>
                </a:cubicBezTo>
                <a:cubicBezTo>
                  <a:pt x="3866" y="15108"/>
                  <a:pt x="3891" y="15007"/>
                  <a:pt x="3919" y="14908"/>
                </a:cubicBezTo>
                <a:cubicBezTo>
                  <a:pt x="3938" y="14842"/>
                  <a:pt x="3950" y="14773"/>
                  <a:pt x="3969" y="14709"/>
                </a:cubicBezTo>
                <a:cubicBezTo>
                  <a:pt x="3990" y="14641"/>
                  <a:pt x="4021" y="14578"/>
                  <a:pt x="4043" y="14511"/>
                </a:cubicBezTo>
                <a:cubicBezTo>
                  <a:pt x="4075" y="14412"/>
                  <a:pt x="4109" y="14313"/>
                  <a:pt x="4142" y="14213"/>
                </a:cubicBezTo>
                <a:cubicBezTo>
                  <a:pt x="4170" y="14130"/>
                  <a:pt x="4190" y="14051"/>
                  <a:pt x="4217" y="13965"/>
                </a:cubicBezTo>
                <a:cubicBezTo>
                  <a:pt x="4270" y="13794"/>
                  <a:pt x="4331" y="13636"/>
                  <a:pt x="4390" y="13469"/>
                </a:cubicBezTo>
                <a:cubicBezTo>
                  <a:pt x="4466" y="13254"/>
                  <a:pt x="4546" y="13033"/>
                  <a:pt x="4638" y="12824"/>
                </a:cubicBezTo>
                <a:cubicBezTo>
                  <a:pt x="4720" y="12638"/>
                  <a:pt x="4814" y="12434"/>
                  <a:pt x="4911" y="12254"/>
                </a:cubicBezTo>
                <a:cubicBezTo>
                  <a:pt x="5013" y="12065"/>
                  <a:pt x="5116" y="11879"/>
                  <a:pt x="5234" y="11708"/>
                </a:cubicBezTo>
                <a:cubicBezTo>
                  <a:pt x="5335" y="11563"/>
                  <a:pt x="5441" y="11419"/>
                  <a:pt x="5556" y="11311"/>
                </a:cubicBezTo>
                <a:cubicBezTo>
                  <a:pt x="5580" y="11289"/>
                  <a:pt x="5580" y="11254"/>
                  <a:pt x="5606" y="11237"/>
                </a:cubicBezTo>
                <a:cubicBezTo>
                  <a:pt x="5645" y="11212"/>
                  <a:pt x="5681" y="11179"/>
                  <a:pt x="5730" y="11162"/>
                </a:cubicBezTo>
                <a:cubicBezTo>
                  <a:pt x="5781" y="11144"/>
                  <a:pt x="5826" y="11148"/>
                  <a:pt x="5879" y="11137"/>
                </a:cubicBezTo>
                <a:cubicBezTo>
                  <a:pt x="5946" y="11123"/>
                  <a:pt x="5972" y="11133"/>
                  <a:pt x="6028" y="11137"/>
                </a:cubicBezTo>
                <a:cubicBezTo>
                  <a:pt x="6140" y="11144"/>
                  <a:pt x="6258" y="11160"/>
                  <a:pt x="6350" y="11212"/>
                </a:cubicBezTo>
                <a:cubicBezTo>
                  <a:pt x="6477" y="11285"/>
                  <a:pt x="6533" y="11405"/>
                  <a:pt x="6623" y="11509"/>
                </a:cubicBezTo>
                <a:cubicBezTo>
                  <a:pt x="6668" y="11561"/>
                  <a:pt x="6735" y="11625"/>
                  <a:pt x="6772" y="11683"/>
                </a:cubicBezTo>
                <a:cubicBezTo>
                  <a:pt x="6930" y="11932"/>
                  <a:pt x="7037" y="12204"/>
                  <a:pt x="7144" y="12477"/>
                </a:cubicBezTo>
                <a:cubicBezTo>
                  <a:pt x="7189" y="12593"/>
                  <a:pt x="7250" y="12710"/>
                  <a:pt x="7293" y="12824"/>
                </a:cubicBezTo>
                <a:cubicBezTo>
                  <a:pt x="7330" y="12922"/>
                  <a:pt x="7358" y="13023"/>
                  <a:pt x="7392" y="13122"/>
                </a:cubicBezTo>
                <a:cubicBezTo>
                  <a:pt x="7510" y="13463"/>
                  <a:pt x="7642" y="13799"/>
                  <a:pt x="7764" y="14139"/>
                </a:cubicBezTo>
                <a:cubicBezTo>
                  <a:pt x="7838" y="14346"/>
                  <a:pt x="7906" y="14551"/>
                  <a:pt x="7962" y="14759"/>
                </a:cubicBezTo>
                <a:cubicBezTo>
                  <a:pt x="8010" y="14935"/>
                  <a:pt x="8045" y="15135"/>
                  <a:pt x="8111" y="15304"/>
                </a:cubicBezTo>
                <a:cubicBezTo>
                  <a:pt x="8256" y="15679"/>
                  <a:pt x="8478" y="16046"/>
                  <a:pt x="8756" y="16321"/>
                </a:cubicBezTo>
                <a:cubicBezTo>
                  <a:pt x="8818" y="16382"/>
                  <a:pt x="8912" y="16481"/>
                  <a:pt x="8979" y="16520"/>
                </a:cubicBezTo>
                <a:cubicBezTo>
                  <a:pt x="9033" y="16551"/>
                  <a:pt x="9094" y="16577"/>
                  <a:pt x="9153" y="16594"/>
                </a:cubicBezTo>
                <a:cubicBezTo>
                  <a:pt x="9295" y="16635"/>
                  <a:pt x="9483" y="16640"/>
                  <a:pt x="9624" y="16594"/>
                </a:cubicBezTo>
                <a:cubicBezTo>
                  <a:pt x="9782" y="16542"/>
                  <a:pt x="9879" y="16430"/>
                  <a:pt x="9996" y="16321"/>
                </a:cubicBezTo>
                <a:cubicBezTo>
                  <a:pt x="10188" y="16141"/>
                  <a:pt x="10317" y="15905"/>
                  <a:pt x="10443" y="15677"/>
                </a:cubicBezTo>
                <a:cubicBezTo>
                  <a:pt x="10519" y="15540"/>
                  <a:pt x="10572" y="15390"/>
                  <a:pt x="10641" y="15255"/>
                </a:cubicBezTo>
                <a:cubicBezTo>
                  <a:pt x="10722" y="15097"/>
                  <a:pt x="10802" y="14950"/>
                  <a:pt x="10864" y="14784"/>
                </a:cubicBezTo>
                <a:cubicBezTo>
                  <a:pt x="10923" y="14628"/>
                  <a:pt x="10982" y="14470"/>
                  <a:pt x="11038" y="14312"/>
                </a:cubicBezTo>
                <a:cubicBezTo>
                  <a:pt x="11084" y="14180"/>
                  <a:pt x="11123" y="14050"/>
                  <a:pt x="11162" y="13915"/>
                </a:cubicBezTo>
                <a:cubicBezTo>
                  <a:pt x="11227" y="13692"/>
                  <a:pt x="11278" y="13462"/>
                  <a:pt x="11336" y="13246"/>
                </a:cubicBezTo>
                <a:cubicBezTo>
                  <a:pt x="11462" y="12777"/>
                  <a:pt x="11580" y="12233"/>
                  <a:pt x="11857" y="11832"/>
                </a:cubicBezTo>
                <a:cubicBezTo>
                  <a:pt x="11904" y="11763"/>
                  <a:pt x="11968" y="11680"/>
                  <a:pt x="12030" y="11633"/>
                </a:cubicBezTo>
                <a:cubicBezTo>
                  <a:pt x="12086" y="11590"/>
                  <a:pt x="12121" y="11581"/>
                  <a:pt x="12179" y="11559"/>
                </a:cubicBezTo>
                <a:cubicBezTo>
                  <a:pt x="12321" y="11505"/>
                  <a:pt x="12484" y="11539"/>
                  <a:pt x="12626" y="11559"/>
                </a:cubicBezTo>
                <a:cubicBezTo>
                  <a:pt x="12727" y="11573"/>
                  <a:pt x="12827" y="11588"/>
                  <a:pt x="12923" y="11633"/>
                </a:cubicBezTo>
                <a:cubicBezTo>
                  <a:pt x="12998" y="11668"/>
                  <a:pt x="13058" y="11731"/>
                  <a:pt x="13122" y="11782"/>
                </a:cubicBezTo>
                <a:cubicBezTo>
                  <a:pt x="13219" y="11859"/>
                  <a:pt x="13300" y="11949"/>
                  <a:pt x="13370" y="12055"/>
                </a:cubicBezTo>
                <a:cubicBezTo>
                  <a:pt x="13436" y="12154"/>
                  <a:pt x="13466" y="12253"/>
                  <a:pt x="13519" y="12353"/>
                </a:cubicBezTo>
                <a:cubicBezTo>
                  <a:pt x="13571" y="12452"/>
                  <a:pt x="13617" y="12551"/>
                  <a:pt x="13667" y="12650"/>
                </a:cubicBezTo>
                <a:cubicBezTo>
                  <a:pt x="13724" y="12765"/>
                  <a:pt x="13766" y="12881"/>
                  <a:pt x="13816" y="12998"/>
                </a:cubicBezTo>
                <a:cubicBezTo>
                  <a:pt x="13882" y="13152"/>
                  <a:pt x="13970" y="13292"/>
                  <a:pt x="14039" y="13444"/>
                </a:cubicBezTo>
                <a:cubicBezTo>
                  <a:pt x="14126" y="13637"/>
                  <a:pt x="14211" y="13825"/>
                  <a:pt x="14312" y="14015"/>
                </a:cubicBezTo>
                <a:cubicBezTo>
                  <a:pt x="14584" y="14527"/>
                  <a:pt x="14887" y="15011"/>
                  <a:pt x="15230" y="15478"/>
                </a:cubicBezTo>
                <a:cubicBezTo>
                  <a:pt x="15300" y="15573"/>
                  <a:pt x="15379" y="15659"/>
                  <a:pt x="15453" y="15751"/>
                </a:cubicBezTo>
                <a:cubicBezTo>
                  <a:pt x="15564" y="15890"/>
                  <a:pt x="15682" y="16022"/>
                  <a:pt x="15801" y="16148"/>
                </a:cubicBezTo>
                <a:cubicBezTo>
                  <a:pt x="15889" y="16241"/>
                  <a:pt x="15982" y="16326"/>
                  <a:pt x="16073" y="16421"/>
                </a:cubicBezTo>
                <a:cubicBezTo>
                  <a:pt x="16183" y="16537"/>
                  <a:pt x="16253" y="16653"/>
                  <a:pt x="16346" y="16768"/>
                </a:cubicBezTo>
                <a:cubicBezTo>
                  <a:pt x="16371" y="16793"/>
                  <a:pt x="16379" y="16801"/>
                  <a:pt x="16396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6680" y="3732120"/>
            <a:ext cx="268200" cy="32220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7714" y="10517"/>
                </a:moveTo>
                <a:cubicBezTo>
                  <a:pt x="7733" y="10504"/>
                  <a:pt x="7834" y="10428"/>
                  <a:pt x="7838" y="10418"/>
                </a:cubicBezTo>
                <a:cubicBezTo>
                  <a:pt x="7838" y="10368"/>
                  <a:pt x="7838" y="10351"/>
                  <a:pt x="7888" y="10368"/>
                </a:cubicBezTo>
                <a:cubicBezTo>
                  <a:pt x="7941" y="10389"/>
                  <a:pt x="8001" y="10374"/>
                  <a:pt x="8037" y="10418"/>
                </a:cubicBezTo>
                <a:cubicBezTo>
                  <a:pt x="8087" y="10480"/>
                  <a:pt x="8145" y="10562"/>
                  <a:pt x="8186" y="10641"/>
                </a:cubicBezTo>
                <a:cubicBezTo>
                  <a:pt x="8249" y="10762"/>
                  <a:pt x="8256" y="10902"/>
                  <a:pt x="8260" y="11038"/>
                </a:cubicBezTo>
                <a:cubicBezTo>
                  <a:pt x="8262" y="11094"/>
                  <a:pt x="8247" y="11205"/>
                  <a:pt x="8186" y="11237"/>
                </a:cubicBezTo>
                <a:cubicBezTo>
                  <a:pt x="8127" y="11268"/>
                  <a:pt x="8043" y="11270"/>
                  <a:pt x="7987" y="11237"/>
                </a:cubicBezTo>
                <a:cubicBezTo>
                  <a:pt x="7938" y="11208"/>
                  <a:pt x="7931" y="11157"/>
                  <a:pt x="7913" y="11112"/>
                </a:cubicBezTo>
                <a:cubicBezTo>
                  <a:pt x="7883" y="11038"/>
                  <a:pt x="7882" y="11044"/>
                  <a:pt x="7938" y="10988"/>
                </a:cubicBezTo>
                <a:cubicBezTo>
                  <a:pt x="7968" y="10958"/>
                  <a:pt x="8019" y="10955"/>
                  <a:pt x="8062" y="10964"/>
                </a:cubicBezTo>
                <a:cubicBezTo>
                  <a:pt x="8144" y="10982"/>
                  <a:pt x="8260" y="11025"/>
                  <a:pt x="8334" y="11063"/>
                </a:cubicBezTo>
                <a:cubicBezTo>
                  <a:pt x="8399" y="11106"/>
                  <a:pt x="8414" y="11117"/>
                  <a:pt x="8458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5840" y="5732640"/>
            <a:ext cx="268200" cy="403200"/>
          </a:xfrm>
          <a:custGeom>
            <a:avLst/>
            <a:gdLst/>
            <a:ahLst/>
            <a:rect l="l" t="t" r="r" b="b"/>
            <a:pathLst>
              <a:path w="745" h="1117">
                <a:moveTo>
                  <a:pt x="8012" y="15925"/>
                </a:moveTo>
                <a:cubicBezTo>
                  <a:pt x="8057" y="15939"/>
                  <a:pt x="8037" y="15996"/>
                  <a:pt x="8037" y="16049"/>
                </a:cubicBezTo>
                <a:cubicBezTo>
                  <a:pt x="8037" y="16169"/>
                  <a:pt x="8023" y="16281"/>
                  <a:pt x="8012" y="16396"/>
                </a:cubicBezTo>
                <a:cubicBezTo>
                  <a:pt x="7995" y="16578"/>
                  <a:pt x="8007" y="16760"/>
                  <a:pt x="7987" y="16942"/>
                </a:cubicBezTo>
                <a:cubicBezTo>
                  <a:pt x="7981" y="16997"/>
                  <a:pt x="7983" y="17003"/>
                  <a:pt x="8012" y="17041"/>
                </a:cubicBezTo>
              </a:path>
              <a:path w="745" h="1117">
                <a:moveTo>
                  <a:pt x="7516" y="15974"/>
                </a:moveTo>
                <a:cubicBezTo>
                  <a:pt x="7466" y="15974"/>
                  <a:pt x="7299" y="16001"/>
                  <a:pt x="7293" y="15949"/>
                </a:cubicBezTo>
                <a:cubicBezTo>
                  <a:pt x="7293" y="15941"/>
                  <a:pt x="7293" y="15933"/>
                  <a:pt x="7293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240" y="2125800"/>
            <a:ext cx="142920" cy="2946240"/>
          </a:xfrm>
          <a:custGeom>
            <a:avLst/>
            <a:gdLst/>
            <a:ahLst/>
            <a:rect l="l" t="t" r="r" b="b"/>
            <a:pathLst>
              <a:path w="397" h="8186">
                <a:moveTo>
                  <a:pt x="2555" y="5904"/>
                </a:moveTo>
                <a:cubicBezTo>
                  <a:pt x="2559" y="6023"/>
                  <a:pt x="2575" y="6135"/>
                  <a:pt x="2580" y="6251"/>
                </a:cubicBezTo>
                <a:cubicBezTo>
                  <a:pt x="2601" y="6703"/>
                  <a:pt x="2604" y="7165"/>
                  <a:pt x="2604" y="7615"/>
                </a:cubicBezTo>
                <a:cubicBezTo>
                  <a:pt x="2604" y="7857"/>
                  <a:pt x="2584" y="8093"/>
                  <a:pt x="2580" y="8334"/>
                </a:cubicBezTo>
                <a:cubicBezTo>
                  <a:pt x="2573" y="8806"/>
                  <a:pt x="2573" y="9277"/>
                  <a:pt x="2555" y="9748"/>
                </a:cubicBezTo>
                <a:cubicBezTo>
                  <a:pt x="2540" y="10136"/>
                  <a:pt x="2542" y="10526"/>
                  <a:pt x="2530" y="10914"/>
                </a:cubicBezTo>
                <a:cubicBezTo>
                  <a:pt x="2516" y="11365"/>
                  <a:pt x="2514" y="11828"/>
                  <a:pt x="2480" y="12278"/>
                </a:cubicBezTo>
                <a:cubicBezTo>
                  <a:pt x="2450" y="12670"/>
                  <a:pt x="2389" y="13062"/>
                  <a:pt x="2307" y="13444"/>
                </a:cubicBezTo>
                <a:cubicBezTo>
                  <a:pt x="2267" y="13632"/>
                  <a:pt x="2243" y="13828"/>
                  <a:pt x="2208" y="14015"/>
                </a:cubicBezTo>
                <a:cubicBezTo>
                  <a:pt x="2197" y="14072"/>
                  <a:pt x="2222" y="13934"/>
                  <a:pt x="2208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920" y="3562200"/>
            <a:ext cx="3741840" cy="189000"/>
          </a:xfrm>
          <a:custGeom>
            <a:avLst/>
            <a:gdLst/>
            <a:ahLst/>
            <a:rect l="l" t="t" r="r" b="b"/>
            <a:pathLst>
              <a:path w="10394" h="522">
                <a:moveTo>
                  <a:pt x="546" y="9971"/>
                </a:moveTo>
                <a:cubicBezTo>
                  <a:pt x="594" y="9949"/>
                  <a:pt x="556" y="9938"/>
                  <a:pt x="620" y="9922"/>
                </a:cubicBezTo>
                <a:cubicBezTo>
                  <a:pt x="621" y="9922"/>
                  <a:pt x="664" y="9902"/>
                  <a:pt x="695" y="9897"/>
                </a:cubicBezTo>
                <a:cubicBezTo>
                  <a:pt x="1234" y="9811"/>
                  <a:pt x="1830" y="9945"/>
                  <a:pt x="2356" y="9971"/>
                </a:cubicBezTo>
                <a:cubicBezTo>
                  <a:pt x="2744" y="9990"/>
                  <a:pt x="3135" y="9979"/>
                  <a:pt x="3522" y="9996"/>
                </a:cubicBezTo>
                <a:cubicBezTo>
                  <a:pt x="3776" y="10007"/>
                  <a:pt x="4008" y="10046"/>
                  <a:pt x="4266" y="10046"/>
                </a:cubicBezTo>
                <a:cubicBezTo>
                  <a:pt x="4588" y="10046"/>
                  <a:pt x="4892" y="10111"/>
                  <a:pt x="5209" y="10120"/>
                </a:cubicBezTo>
                <a:cubicBezTo>
                  <a:pt x="5597" y="10131"/>
                  <a:pt x="5988" y="10139"/>
                  <a:pt x="6375" y="10145"/>
                </a:cubicBezTo>
                <a:cubicBezTo>
                  <a:pt x="6636" y="10149"/>
                  <a:pt x="6880" y="10195"/>
                  <a:pt x="7144" y="10195"/>
                </a:cubicBezTo>
                <a:cubicBezTo>
                  <a:pt x="7402" y="10195"/>
                  <a:pt x="7685" y="10179"/>
                  <a:pt x="7938" y="10220"/>
                </a:cubicBezTo>
                <a:cubicBezTo>
                  <a:pt x="8190" y="10260"/>
                  <a:pt x="8423" y="10269"/>
                  <a:pt x="8682" y="10269"/>
                </a:cubicBezTo>
                <a:cubicBezTo>
                  <a:pt x="8969" y="10269"/>
                  <a:pt x="9267" y="10259"/>
                  <a:pt x="9550" y="10294"/>
                </a:cubicBezTo>
                <a:cubicBezTo>
                  <a:pt x="9729" y="10316"/>
                  <a:pt x="9909" y="10330"/>
                  <a:pt x="10096" y="10344"/>
                </a:cubicBezTo>
                <a:cubicBezTo>
                  <a:pt x="10240" y="10355"/>
                  <a:pt x="10385" y="10405"/>
                  <a:pt x="10517" y="10418"/>
                </a:cubicBezTo>
                <a:cubicBezTo>
                  <a:pt x="10672" y="10433"/>
                  <a:pt x="10807" y="10399"/>
                  <a:pt x="10914" y="10368"/>
                </a:cubicBezTo>
                <a:cubicBezTo>
                  <a:pt x="10939" y="10368"/>
                  <a:pt x="10947" y="10368"/>
                  <a:pt x="1093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pl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plitude of a trigonometric function is equal to half the height of the function.  (I like to think of it as how far above and below the middle does the graph reach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graph of y=asin(x) or y=acos(x), the amplitude is equal to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4191120"/>
            <a:ext cx="587520" cy="838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0160" y="6161040"/>
            <a:ext cx="36720" cy="19080"/>
          </a:xfrm>
          <a:custGeom>
            <a:avLst/>
            <a:gdLst/>
            <a:ahLst/>
            <a:rect l="l" t="t" r="r" b="b"/>
            <a:pathLst>
              <a:path w="100" h="51">
                <a:moveTo>
                  <a:pt x="2307" y="17165"/>
                </a:moveTo>
                <a:cubicBezTo>
                  <a:pt x="2352" y="17106"/>
                  <a:pt x="2324" y="17124"/>
                  <a:pt x="2356" y="17140"/>
                </a:cubicBezTo>
                <a:cubicBezTo>
                  <a:pt x="2389" y="17157"/>
                  <a:pt x="2370" y="17153"/>
                  <a:pt x="2406" y="17165"/>
                </a:cubicBezTo>
                <a:cubicBezTo>
                  <a:pt x="2406" y="17140"/>
                  <a:pt x="2406" y="17132"/>
                  <a:pt x="2406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s:  Find the amplitude of each grap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=2cos 3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2357280"/>
            <a:ext cx="2438280" cy="126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46280" cy="121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5105520"/>
            <a:ext cx="2438280" cy="1198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81280" y="1768320"/>
            <a:ext cx="588960" cy="258840"/>
          </a:xfrm>
          <a:custGeom>
            <a:avLst/>
            <a:gdLst/>
            <a:ahLst/>
            <a:rect l="l" t="t" r="r" b="b"/>
            <a:pathLst>
              <a:path w="1638" h="721">
                <a:moveTo>
                  <a:pt x="10269" y="5209"/>
                </a:moveTo>
                <a:cubicBezTo>
                  <a:pt x="10284" y="5290"/>
                  <a:pt x="10294" y="5333"/>
                  <a:pt x="10294" y="5407"/>
                </a:cubicBezTo>
                <a:cubicBezTo>
                  <a:pt x="10294" y="5317"/>
                  <a:pt x="10283" y="5243"/>
                  <a:pt x="10269" y="5159"/>
                </a:cubicBezTo>
                <a:cubicBezTo>
                  <a:pt x="10256" y="5084"/>
                  <a:pt x="10276" y="5049"/>
                  <a:pt x="10220" y="4986"/>
                </a:cubicBezTo>
                <a:cubicBezTo>
                  <a:pt x="10183" y="4944"/>
                  <a:pt x="10205" y="4936"/>
                  <a:pt x="10145" y="4936"/>
                </a:cubicBezTo>
                <a:cubicBezTo>
                  <a:pt x="10109" y="4936"/>
                  <a:pt x="10066" y="4980"/>
                  <a:pt x="10046" y="5011"/>
                </a:cubicBezTo>
                <a:cubicBezTo>
                  <a:pt x="10005" y="5074"/>
                  <a:pt x="9961" y="5185"/>
                  <a:pt x="9947" y="5259"/>
                </a:cubicBezTo>
                <a:cubicBezTo>
                  <a:pt x="9932" y="5341"/>
                  <a:pt x="9938" y="5456"/>
                  <a:pt x="9971" y="5531"/>
                </a:cubicBezTo>
                <a:cubicBezTo>
                  <a:pt x="9991" y="5577"/>
                  <a:pt x="10061" y="5651"/>
                  <a:pt x="10120" y="5631"/>
                </a:cubicBezTo>
                <a:cubicBezTo>
                  <a:pt x="10168" y="5615"/>
                  <a:pt x="10215" y="5539"/>
                  <a:pt x="10244" y="5507"/>
                </a:cubicBezTo>
                <a:cubicBezTo>
                  <a:pt x="10303" y="5440"/>
                  <a:pt x="10366" y="5371"/>
                  <a:pt x="10393" y="5283"/>
                </a:cubicBezTo>
                <a:cubicBezTo>
                  <a:pt x="10393" y="5255"/>
                  <a:pt x="10396" y="5245"/>
                  <a:pt x="10418" y="5234"/>
                </a:cubicBezTo>
                <a:cubicBezTo>
                  <a:pt x="10405" y="5287"/>
                  <a:pt x="10393" y="5319"/>
                  <a:pt x="10393" y="5383"/>
                </a:cubicBezTo>
                <a:cubicBezTo>
                  <a:pt x="10393" y="5458"/>
                  <a:pt x="10391" y="5498"/>
                  <a:pt x="10443" y="5556"/>
                </a:cubicBezTo>
                <a:cubicBezTo>
                  <a:pt x="10473" y="5589"/>
                  <a:pt x="10526" y="5626"/>
                  <a:pt x="10567" y="5631"/>
                </a:cubicBezTo>
                <a:cubicBezTo>
                  <a:pt x="10624" y="5637"/>
                  <a:pt x="10666" y="5606"/>
                  <a:pt x="10716" y="5581"/>
                </a:cubicBezTo>
              </a:path>
              <a:path w="1638" h="721">
                <a:moveTo>
                  <a:pt x="11013" y="4961"/>
                </a:moveTo>
                <a:cubicBezTo>
                  <a:pt x="11109" y="4961"/>
                  <a:pt x="11190" y="4947"/>
                  <a:pt x="11286" y="4936"/>
                </a:cubicBezTo>
                <a:cubicBezTo>
                  <a:pt x="11354" y="4928"/>
                  <a:pt x="11396" y="4927"/>
                  <a:pt x="11460" y="4911"/>
                </a:cubicBezTo>
                <a:cubicBezTo>
                  <a:pt x="11468" y="4911"/>
                  <a:pt x="11477" y="4911"/>
                  <a:pt x="11485" y="4911"/>
                </a:cubicBezTo>
              </a:path>
              <a:path w="1638" h="721">
                <a:moveTo>
                  <a:pt x="11088" y="5184"/>
                </a:moveTo>
                <a:cubicBezTo>
                  <a:pt x="11194" y="5216"/>
                  <a:pt x="11204" y="5199"/>
                  <a:pt x="11311" y="5184"/>
                </a:cubicBezTo>
                <a:cubicBezTo>
                  <a:pt x="11380" y="5174"/>
                  <a:pt x="11433" y="5145"/>
                  <a:pt x="11509" y="5135"/>
                </a:cubicBezTo>
                <a:cubicBezTo>
                  <a:pt x="11551" y="5135"/>
                  <a:pt x="11559" y="5135"/>
                  <a:pt x="11584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2080" y="1616040"/>
            <a:ext cx="36684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12229" y="4663"/>
                </a:moveTo>
                <a:cubicBezTo>
                  <a:pt x="12307" y="4585"/>
                  <a:pt x="12365" y="4513"/>
                  <a:pt x="12477" y="4490"/>
                </a:cubicBezTo>
                <a:cubicBezTo>
                  <a:pt x="12553" y="4474"/>
                  <a:pt x="12632" y="4510"/>
                  <a:pt x="12700" y="4539"/>
                </a:cubicBezTo>
                <a:cubicBezTo>
                  <a:pt x="12779" y="4573"/>
                  <a:pt x="12818" y="4636"/>
                  <a:pt x="12849" y="4713"/>
                </a:cubicBezTo>
                <a:cubicBezTo>
                  <a:pt x="12895" y="4830"/>
                  <a:pt x="12887" y="4871"/>
                  <a:pt x="12874" y="4986"/>
                </a:cubicBezTo>
                <a:cubicBezTo>
                  <a:pt x="12862" y="5097"/>
                  <a:pt x="12834" y="5162"/>
                  <a:pt x="12774" y="5259"/>
                </a:cubicBezTo>
                <a:cubicBezTo>
                  <a:pt x="12726" y="5337"/>
                  <a:pt x="12651" y="5428"/>
                  <a:pt x="12576" y="5482"/>
                </a:cubicBezTo>
                <a:cubicBezTo>
                  <a:pt x="12538" y="5509"/>
                  <a:pt x="12397" y="5563"/>
                  <a:pt x="12353" y="5556"/>
                </a:cubicBezTo>
                <a:cubicBezTo>
                  <a:pt x="12318" y="5551"/>
                  <a:pt x="12286" y="5480"/>
                  <a:pt x="12278" y="5457"/>
                </a:cubicBezTo>
                <a:cubicBezTo>
                  <a:pt x="12278" y="5449"/>
                  <a:pt x="12278" y="5440"/>
                  <a:pt x="12278" y="5432"/>
                </a:cubicBezTo>
                <a:cubicBezTo>
                  <a:pt x="12327" y="5416"/>
                  <a:pt x="12344" y="5410"/>
                  <a:pt x="12402" y="5407"/>
                </a:cubicBezTo>
                <a:cubicBezTo>
                  <a:pt x="12498" y="5402"/>
                  <a:pt x="12584" y="5405"/>
                  <a:pt x="12675" y="5432"/>
                </a:cubicBezTo>
                <a:cubicBezTo>
                  <a:pt x="12768" y="5460"/>
                  <a:pt x="12858" y="5475"/>
                  <a:pt x="12948" y="5507"/>
                </a:cubicBezTo>
                <a:cubicBezTo>
                  <a:pt x="13012" y="5530"/>
                  <a:pt x="13080" y="5547"/>
                  <a:pt x="13146" y="5556"/>
                </a:cubicBezTo>
                <a:cubicBezTo>
                  <a:pt x="13191" y="5562"/>
                  <a:pt x="13189" y="5549"/>
                  <a:pt x="13221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0200" y="2741760"/>
            <a:ext cx="1187640" cy="615960"/>
          </a:xfrm>
          <a:custGeom>
            <a:avLst/>
            <a:gdLst/>
            <a:ahLst/>
            <a:rect l="l" t="t" r="r" b="b"/>
            <a:pathLst>
              <a:path w="3300" h="1713">
                <a:moveTo>
                  <a:pt x="10616" y="8111"/>
                </a:moveTo>
                <a:cubicBezTo>
                  <a:pt x="10639" y="8151"/>
                  <a:pt x="10668" y="8187"/>
                  <a:pt x="10691" y="8210"/>
                </a:cubicBezTo>
                <a:cubicBezTo>
                  <a:pt x="10716" y="8234"/>
                  <a:pt x="10726" y="8246"/>
                  <a:pt x="10740" y="8260"/>
                </a:cubicBezTo>
                <a:cubicBezTo>
                  <a:pt x="10723" y="8224"/>
                  <a:pt x="10720" y="8193"/>
                  <a:pt x="10691" y="8161"/>
                </a:cubicBezTo>
                <a:cubicBezTo>
                  <a:pt x="10638" y="8102"/>
                  <a:pt x="10580" y="8046"/>
                  <a:pt x="10517" y="8012"/>
                </a:cubicBezTo>
                <a:cubicBezTo>
                  <a:pt x="10460" y="7982"/>
                  <a:pt x="10412" y="7976"/>
                  <a:pt x="10368" y="8037"/>
                </a:cubicBezTo>
                <a:cubicBezTo>
                  <a:pt x="10308" y="8122"/>
                  <a:pt x="10277" y="8237"/>
                  <a:pt x="10244" y="8334"/>
                </a:cubicBezTo>
                <a:cubicBezTo>
                  <a:pt x="10213" y="8425"/>
                  <a:pt x="10198" y="8488"/>
                  <a:pt x="10195" y="8582"/>
                </a:cubicBezTo>
                <a:cubicBezTo>
                  <a:pt x="10193" y="8645"/>
                  <a:pt x="10217" y="8756"/>
                  <a:pt x="10294" y="8781"/>
                </a:cubicBezTo>
                <a:cubicBezTo>
                  <a:pt x="10357" y="8801"/>
                  <a:pt x="10451" y="8749"/>
                  <a:pt x="10492" y="8706"/>
                </a:cubicBezTo>
                <a:cubicBezTo>
                  <a:pt x="10541" y="8654"/>
                  <a:pt x="10536" y="8580"/>
                  <a:pt x="10567" y="8508"/>
                </a:cubicBezTo>
                <a:cubicBezTo>
                  <a:pt x="10583" y="8470"/>
                  <a:pt x="10587" y="8455"/>
                  <a:pt x="10592" y="8409"/>
                </a:cubicBezTo>
                <a:cubicBezTo>
                  <a:pt x="10611" y="8437"/>
                  <a:pt x="10661" y="8511"/>
                  <a:pt x="10691" y="8558"/>
                </a:cubicBezTo>
                <a:cubicBezTo>
                  <a:pt x="10730" y="8620"/>
                  <a:pt x="10787" y="8710"/>
                  <a:pt x="10864" y="8731"/>
                </a:cubicBezTo>
                <a:cubicBezTo>
                  <a:pt x="10923" y="8747"/>
                  <a:pt x="10952" y="8774"/>
                  <a:pt x="11013" y="8781"/>
                </a:cubicBezTo>
                <a:cubicBezTo>
                  <a:pt x="11101" y="8791"/>
                  <a:pt x="11145" y="8782"/>
                  <a:pt x="11212" y="8731"/>
                </a:cubicBezTo>
              </a:path>
              <a:path w="3300" h="1713">
                <a:moveTo>
                  <a:pt x="11485" y="8260"/>
                </a:moveTo>
                <a:cubicBezTo>
                  <a:pt x="11545" y="8260"/>
                  <a:pt x="11577" y="8245"/>
                  <a:pt x="11633" y="8235"/>
                </a:cubicBezTo>
                <a:cubicBezTo>
                  <a:pt x="11712" y="8221"/>
                  <a:pt x="11844" y="8222"/>
                  <a:pt x="11906" y="8260"/>
                </a:cubicBezTo>
              </a:path>
              <a:path w="3300" h="1713">
                <a:moveTo>
                  <a:pt x="11485" y="8508"/>
                </a:moveTo>
                <a:cubicBezTo>
                  <a:pt x="11493" y="8525"/>
                  <a:pt x="11501" y="8541"/>
                  <a:pt x="11509" y="8558"/>
                </a:cubicBezTo>
                <a:cubicBezTo>
                  <a:pt x="11572" y="8527"/>
                  <a:pt x="11575" y="8523"/>
                  <a:pt x="11658" y="8508"/>
                </a:cubicBezTo>
                <a:cubicBezTo>
                  <a:pt x="11754" y="8491"/>
                  <a:pt x="11834" y="8483"/>
                  <a:pt x="11931" y="8483"/>
                </a:cubicBezTo>
                <a:cubicBezTo>
                  <a:pt x="11964" y="8483"/>
                  <a:pt x="11921" y="8538"/>
                  <a:pt x="11906" y="8508"/>
                </a:cubicBezTo>
                <a:cubicBezTo>
                  <a:pt x="11883" y="8463"/>
                  <a:pt x="11907" y="8531"/>
                  <a:pt x="11881" y="8558"/>
                </a:cubicBezTo>
                <a:cubicBezTo>
                  <a:pt x="11858" y="8581"/>
                  <a:pt x="11919" y="8588"/>
                  <a:pt x="11931" y="8558"/>
                </a:cubicBezTo>
                <a:cubicBezTo>
                  <a:pt x="11931" y="8541"/>
                  <a:pt x="11931" y="8525"/>
                  <a:pt x="11931" y="8508"/>
                </a:cubicBezTo>
              </a:path>
              <a:path w="3300" h="1713">
                <a:moveTo>
                  <a:pt x="12849" y="7913"/>
                </a:moveTo>
                <a:cubicBezTo>
                  <a:pt x="12834" y="7883"/>
                  <a:pt x="12794" y="7823"/>
                  <a:pt x="12799" y="7789"/>
                </a:cubicBezTo>
                <a:cubicBezTo>
                  <a:pt x="12805" y="7749"/>
                  <a:pt x="12846" y="7742"/>
                  <a:pt x="12874" y="7714"/>
                </a:cubicBezTo>
                <a:cubicBezTo>
                  <a:pt x="12923" y="7665"/>
                  <a:pt x="12976" y="7636"/>
                  <a:pt x="13047" y="7615"/>
                </a:cubicBezTo>
                <a:cubicBezTo>
                  <a:pt x="13108" y="7597"/>
                  <a:pt x="13192" y="7615"/>
                  <a:pt x="13246" y="7640"/>
                </a:cubicBezTo>
                <a:cubicBezTo>
                  <a:pt x="13331" y="7679"/>
                  <a:pt x="13391" y="7712"/>
                  <a:pt x="13370" y="7813"/>
                </a:cubicBezTo>
                <a:cubicBezTo>
                  <a:pt x="13348" y="7916"/>
                  <a:pt x="13289" y="7936"/>
                  <a:pt x="13221" y="7987"/>
                </a:cubicBezTo>
                <a:cubicBezTo>
                  <a:pt x="13134" y="8052"/>
                  <a:pt x="13070" y="8115"/>
                  <a:pt x="12973" y="8161"/>
                </a:cubicBezTo>
                <a:cubicBezTo>
                  <a:pt x="12915" y="8189"/>
                  <a:pt x="12892" y="8238"/>
                  <a:pt x="12849" y="8285"/>
                </a:cubicBezTo>
                <a:cubicBezTo>
                  <a:pt x="12841" y="8293"/>
                  <a:pt x="12832" y="8302"/>
                  <a:pt x="12824" y="8310"/>
                </a:cubicBezTo>
                <a:cubicBezTo>
                  <a:pt x="12873" y="8326"/>
                  <a:pt x="12890" y="8332"/>
                  <a:pt x="12948" y="8334"/>
                </a:cubicBezTo>
                <a:cubicBezTo>
                  <a:pt x="13032" y="8337"/>
                  <a:pt x="13121" y="8316"/>
                  <a:pt x="13196" y="8359"/>
                </a:cubicBezTo>
                <a:cubicBezTo>
                  <a:pt x="13298" y="8417"/>
                  <a:pt x="13334" y="8460"/>
                  <a:pt x="13395" y="8558"/>
                </a:cubicBezTo>
                <a:cubicBezTo>
                  <a:pt x="13440" y="8630"/>
                  <a:pt x="13488" y="8701"/>
                  <a:pt x="13494" y="8781"/>
                </a:cubicBezTo>
                <a:cubicBezTo>
                  <a:pt x="13505" y="8911"/>
                  <a:pt x="13482" y="8910"/>
                  <a:pt x="13419" y="9004"/>
                </a:cubicBezTo>
                <a:cubicBezTo>
                  <a:pt x="13345" y="9114"/>
                  <a:pt x="13260" y="9117"/>
                  <a:pt x="13146" y="9178"/>
                </a:cubicBezTo>
                <a:cubicBezTo>
                  <a:pt x="13036" y="9237"/>
                  <a:pt x="12853" y="9279"/>
                  <a:pt x="12725" y="9302"/>
                </a:cubicBezTo>
                <a:cubicBezTo>
                  <a:pt x="12688" y="9309"/>
                  <a:pt x="12533" y="9330"/>
                  <a:pt x="12502" y="9327"/>
                </a:cubicBezTo>
                <a:cubicBezTo>
                  <a:pt x="12435" y="9320"/>
                  <a:pt x="12464" y="9312"/>
                  <a:pt x="12502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0120" y="3956040"/>
            <a:ext cx="1258920" cy="581040"/>
          </a:xfrm>
          <a:custGeom>
            <a:avLst/>
            <a:gdLst/>
            <a:ahLst/>
            <a:rect l="l" t="t" r="r" b="b"/>
            <a:pathLst>
              <a:path w="3498" h="1614">
                <a:moveTo>
                  <a:pt x="11162" y="12129"/>
                </a:moveTo>
                <a:cubicBezTo>
                  <a:pt x="11147" y="12104"/>
                  <a:pt x="11124" y="12070"/>
                  <a:pt x="11112" y="12030"/>
                </a:cubicBezTo>
                <a:cubicBezTo>
                  <a:pt x="11099" y="11988"/>
                  <a:pt x="11112" y="11943"/>
                  <a:pt x="11088" y="11906"/>
                </a:cubicBezTo>
                <a:cubicBezTo>
                  <a:pt x="11060" y="11864"/>
                  <a:pt x="11006" y="11821"/>
                  <a:pt x="10964" y="11807"/>
                </a:cubicBezTo>
                <a:cubicBezTo>
                  <a:pt x="10956" y="11807"/>
                  <a:pt x="10947" y="11807"/>
                  <a:pt x="10939" y="11807"/>
                </a:cubicBezTo>
                <a:cubicBezTo>
                  <a:pt x="10894" y="11878"/>
                  <a:pt x="10836" y="11936"/>
                  <a:pt x="10790" y="12005"/>
                </a:cubicBezTo>
                <a:cubicBezTo>
                  <a:pt x="10737" y="12085"/>
                  <a:pt x="10727" y="12190"/>
                  <a:pt x="10691" y="12278"/>
                </a:cubicBezTo>
                <a:cubicBezTo>
                  <a:pt x="10654" y="12367"/>
                  <a:pt x="10676" y="12423"/>
                  <a:pt x="10691" y="12502"/>
                </a:cubicBezTo>
                <a:cubicBezTo>
                  <a:pt x="10700" y="12551"/>
                  <a:pt x="10730" y="12609"/>
                  <a:pt x="10790" y="12601"/>
                </a:cubicBezTo>
                <a:cubicBezTo>
                  <a:pt x="10849" y="12593"/>
                  <a:pt x="10913" y="12529"/>
                  <a:pt x="10964" y="12502"/>
                </a:cubicBezTo>
                <a:cubicBezTo>
                  <a:pt x="11031" y="12467"/>
                  <a:pt x="11075" y="12395"/>
                  <a:pt x="11112" y="12328"/>
                </a:cubicBezTo>
                <a:cubicBezTo>
                  <a:pt x="11122" y="12309"/>
                  <a:pt x="11175" y="12212"/>
                  <a:pt x="11187" y="12204"/>
                </a:cubicBezTo>
                <a:cubicBezTo>
                  <a:pt x="11195" y="12204"/>
                  <a:pt x="11204" y="12204"/>
                  <a:pt x="11212" y="12204"/>
                </a:cubicBezTo>
                <a:cubicBezTo>
                  <a:pt x="11257" y="12219"/>
                  <a:pt x="11277" y="12323"/>
                  <a:pt x="11286" y="12378"/>
                </a:cubicBezTo>
                <a:cubicBezTo>
                  <a:pt x="11298" y="12450"/>
                  <a:pt x="11307" y="12461"/>
                  <a:pt x="11385" y="12477"/>
                </a:cubicBezTo>
                <a:cubicBezTo>
                  <a:pt x="11447" y="12489"/>
                  <a:pt x="11487" y="12476"/>
                  <a:pt x="11534" y="12452"/>
                </a:cubicBezTo>
              </a:path>
              <a:path w="3498" h="1614">
                <a:moveTo>
                  <a:pt x="11782" y="11981"/>
                </a:moveTo>
                <a:cubicBezTo>
                  <a:pt x="11852" y="11974"/>
                  <a:pt x="11886" y="11956"/>
                  <a:pt x="11956" y="11956"/>
                </a:cubicBezTo>
                <a:cubicBezTo>
                  <a:pt x="12027" y="11956"/>
                  <a:pt x="12065" y="11940"/>
                  <a:pt x="12129" y="11931"/>
                </a:cubicBezTo>
              </a:path>
              <a:path w="3498" h="1614">
                <a:moveTo>
                  <a:pt x="11931" y="12129"/>
                </a:moveTo>
                <a:cubicBezTo>
                  <a:pt x="11979" y="12129"/>
                  <a:pt x="12037" y="12119"/>
                  <a:pt x="12080" y="12105"/>
                </a:cubicBezTo>
                <a:cubicBezTo>
                  <a:pt x="12147" y="12083"/>
                  <a:pt x="12209" y="12051"/>
                  <a:pt x="12278" y="12030"/>
                </a:cubicBezTo>
                <a:cubicBezTo>
                  <a:pt x="12313" y="12030"/>
                  <a:pt x="12331" y="12025"/>
                  <a:pt x="12353" y="12005"/>
                </a:cubicBezTo>
              </a:path>
              <a:path w="3498" h="1614">
                <a:moveTo>
                  <a:pt x="13022" y="11162"/>
                </a:moveTo>
                <a:cubicBezTo>
                  <a:pt x="13168" y="11045"/>
                  <a:pt x="13202" y="11014"/>
                  <a:pt x="13370" y="10988"/>
                </a:cubicBezTo>
                <a:cubicBezTo>
                  <a:pt x="13453" y="10975"/>
                  <a:pt x="13519" y="11001"/>
                  <a:pt x="13593" y="11013"/>
                </a:cubicBezTo>
                <a:cubicBezTo>
                  <a:pt x="13651" y="11023"/>
                  <a:pt x="13696" y="11033"/>
                  <a:pt x="13692" y="11112"/>
                </a:cubicBezTo>
                <a:cubicBezTo>
                  <a:pt x="13689" y="11170"/>
                  <a:pt x="13503" y="11265"/>
                  <a:pt x="13469" y="11286"/>
                </a:cubicBezTo>
                <a:cubicBezTo>
                  <a:pt x="13425" y="11314"/>
                  <a:pt x="13344" y="11357"/>
                  <a:pt x="13320" y="11410"/>
                </a:cubicBezTo>
                <a:cubicBezTo>
                  <a:pt x="13320" y="11418"/>
                  <a:pt x="13320" y="11427"/>
                  <a:pt x="13320" y="11435"/>
                </a:cubicBezTo>
                <a:cubicBezTo>
                  <a:pt x="13341" y="11464"/>
                  <a:pt x="13350" y="11497"/>
                  <a:pt x="13395" y="11509"/>
                </a:cubicBezTo>
                <a:cubicBezTo>
                  <a:pt x="13453" y="11524"/>
                  <a:pt x="13546" y="11534"/>
                  <a:pt x="13593" y="11584"/>
                </a:cubicBezTo>
                <a:cubicBezTo>
                  <a:pt x="13627" y="11620"/>
                  <a:pt x="13607" y="11696"/>
                  <a:pt x="13568" y="11733"/>
                </a:cubicBezTo>
                <a:cubicBezTo>
                  <a:pt x="13501" y="11796"/>
                  <a:pt x="13355" y="11866"/>
                  <a:pt x="13271" y="11906"/>
                </a:cubicBezTo>
                <a:cubicBezTo>
                  <a:pt x="13193" y="11943"/>
                  <a:pt x="13113" y="11987"/>
                  <a:pt x="13047" y="12030"/>
                </a:cubicBezTo>
              </a:path>
              <a:path w="3498" h="1614">
                <a:moveTo>
                  <a:pt x="14139" y="11187"/>
                </a:moveTo>
                <a:cubicBezTo>
                  <a:pt x="14169" y="11219"/>
                  <a:pt x="14146" y="11237"/>
                  <a:pt x="14139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9840" y="4106880"/>
            <a:ext cx="546120" cy="768240"/>
          </a:xfrm>
          <a:custGeom>
            <a:avLst/>
            <a:gdLst/>
            <a:ahLst/>
            <a:rect l="l" t="t" r="r" b="b"/>
            <a:pathLst>
              <a:path w="1514" h="2134">
                <a:moveTo>
                  <a:pt x="14064" y="11410"/>
                </a:moveTo>
                <a:cubicBezTo>
                  <a:pt x="13974" y="11597"/>
                  <a:pt x="13871" y="11791"/>
                  <a:pt x="13791" y="11981"/>
                </a:cubicBezTo>
                <a:cubicBezTo>
                  <a:pt x="13707" y="12182"/>
                  <a:pt x="13645" y="12398"/>
                  <a:pt x="13568" y="12601"/>
                </a:cubicBezTo>
                <a:cubicBezTo>
                  <a:pt x="13480" y="12833"/>
                  <a:pt x="13396" y="13068"/>
                  <a:pt x="13295" y="13295"/>
                </a:cubicBezTo>
                <a:cubicBezTo>
                  <a:pt x="13251" y="13394"/>
                  <a:pt x="13213" y="13441"/>
                  <a:pt x="13196" y="13543"/>
                </a:cubicBezTo>
              </a:path>
              <a:path w="1514" h="2134">
                <a:moveTo>
                  <a:pt x="13667" y="12874"/>
                </a:moveTo>
                <a:lnTo>
                  <a:pt x="13791" y="12750"/>
                </a:lnTo>
                <a:lnTo>
                  <a:pt x="13940" y="12675"/>
                </a:lnTo>
                <a:lnTo>
                  <a:pt x="13990" y="12650"/>
                </a:lnTo>
                <a:lnTo>
                  <a:pt x="14089" y="12650"/>
                </a:lnTo>
                <a:lnTo>
                  <a:pt x="14139" y="12650"/>
                </a:lnTo>
                <a:lnTo>
                  <a:pt x="14213" y="12650"/>
                </a:lnTo>
                <a:lnTo>
                  <a:pt x="14288" y="12650"/>
                </a:lnTo>
                <a:lnTo>
                  <a:pt x="14337" y="12675"/>
                </a:lnTo>
                <a:lnTo>
                  <a:pt x="14387" y="12700"/>
                </a:lnTo>
                <a:lnTo>
                  <a:pt x="14436" y="12750"/>
                </a:lnTo>
                <a:lnTo>
                  <a:pt x="14461" y="12799"/>
                </a:lnTo>
                <a:lnTo>
                  <a:pt x="14486" y="12849"/>
                </a:lnTo>
                <a:lnTo>
                  <a:pt x="14461" y="12898"/>
                </a:lnTo>
                <a:lnTo>
                  <a:pt x="14461" y="12948"/>
                </a:lnTo>
                <a:lnTo>
                  <a:pt x="14436" y="13022"/>
                </a:lnTo>
                <a:lnTo>
                  <a:pt x="14387" y="13072"/>
                </a:lnTo>
                <a:lnTo>
                  <a:pt x="14337" y="13146"/>
                </a:lnTo>
                <a:lnTo>
                  <a:pt x="14312" y="13196"/>
                </a:lnTo>
                <a:lnTo>
                  <a:pt x="14263" y="13246"/>
                </a:lnTo>
                <a:lnTo>
                  <a:pt x="14238" y="13271"/>
                </a:lnTo>
                <a:lnTo>
                  <a:pt x="14238" y="13295"/>
                </a:lnTo>
                <a:lnTo>
                  <a:pt x="14238" y="13320"/>
                </a:lnTo>
                <a:lnTo>
                  <a:pt x="14263" y="13345"/>
                </a:lnTo>
                <a:lnTo>
                  <a:pt x="14288" y="13345"/>
                </a:lnTo>
                <a:lnTo>
                  <a:pt x="14337" y="13345"/>
                </a:lnTo>
                <a:lnTo>
                  <a:pt x="14362" y="13320"/>
                </a:lnTo>
                <a:lnTo>
                  <a:pt x="14412" y="13320"/>
                </a:lnTo>
                <a:lnTo>
                  <a:pt x="14486" y="13295"/>
                </a:lnTo>
                <a:lnTo>
                  <a:pt x="14560" y="13246"/>
                </a:lnTo>
                <a:lnTo>
                  <a:pt x="14610" y="13221"/>
                </a:lnTo>
                <a:lnTo>
                  <a:pt x="14635" y="13196"/>
                </a:lnTo>
                <a:lnTo>
                  <a:pt x="14684" y="13196"/>
                </a:lnTo>
                <a:lnTo>
                  <a:pt x="14709" y="13196"/>
                </a:lnTo>
                <a:lnTo>
                  <a:pt x="14684" y="13196"/>
                </a:lnTo>
                <a:lnTo>
                  <a:pt x="14684" y="13221"/>
                </a:lnTo>
                <a:lnTo>
                  <a:pt x="14684" y="13196"/>
                </a:lnTo>
                <a:lnTo>
                  <a:pt x="14684" y="13221"/>
                </a:lnTo>
                <a:lnTo>
                  <a:pt x="14684" y="13196"/>
                </a:lnTo>
                <a:lnTo>
                  <a:pt x="14684" y="13221"/>
                </a:lnTo>
                <a:lnTo>
                  <a:pt x="14684" y="13196"/>
                </a:lnTo>
                <a:lnTo>
                  <a:pt x="14684" y="1319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52960" y="5643720"/>
            <a:ext cx="865080" cy="411120"/>
          </a:xfrm>
          <a:custGeom>
            <a:avLst/>
            <a:gdLst/>
            <a:ahLst/>
            <a:rect l="l" t="t" r="r" b="b"/>
            <a:pathLst>
              <a:path w="2407" h="1142">
                <a:moveTo>
                  <a:pt x="12477" y="15801"/>
                </a:moveTo>
                <a:cubicBezTo>
                  <a:pt x="12400" y="15834"/>
                  <a:pt x="12468" y="15794"/>
                  <a:pt x="12402" y="15875"/>
                </a:cubicBezTo>
                <a:cubicBezTo>
                  <a:pt x="12379" y="15903"/>
                  <a:pt x="12354" y="15949"/>
                  <a:pt x="12328" y="15949"/>
                </a:cubicBezTo>
                <a:cubicBezTo>
                  <a:pt x="12286" y="15949"/>
                  <a:pt x="12263" y="15917"/>
                  <a:pt x="12229" y="15900"/>
                </a:cubicBezTo>
                <a:cubicBezTo>
                  <a:pt x="12174" y="15873"/>
                  <a:pt x="12152" y="15836"/>
                  <a:pt x="12105" y="15801"/>
                </a:cubicBezTo>
                <a:cubicBezTo>
                  <a:pt x="12064" y="15770"/>
                  <a:pt x="12024" y="15729"/>
                  <a:pt x="11981" y="15701"/>
                </a:cubicBezTo>
                <a:cubicBezTo>
                  <a:pt x="11957" y="15685"/>
                  <a:pt x="11890" y="15662"/>
                  <a:pt x="11857" y="15677"/>
                </a:cubicBezTo>
                <a:cubicBezTo>
                  <a:pt x="11788" y="15709"/>
                  <a:pt x="11711" y="15804"/>
                  <a:pt x="11683" y="15875"/>
                </a:cubicBezTo>
                <a:cubicBezTo>
                  <a:pt x="11622" y="16031"/>
                  <a:pt x="11561" y="16204"/>
                  <a:pt x="11534" y="16371"/>
                </a:cubicBezTo>
                <a:cubicBezTo>
                  <a:pt x="11519" y="16461"/>
                  <a:pt x="11532" y="16584"/>
                  <a:pt x="11559" y="16669"/>
                </a:cubicBezTo>
                <a:cubicBezTo>
                  <a:pt x="11579" y="16730"/>
                  <a:pt x="11623" y="16794"/>
                  <a:pt x="11683" y="16818"/>
                </a:cubicBezTo>
                <a:cubicBezTo>
                  <a:pt x="11735" y="16839"/>
                  <a:pt x="11844" y="16807"/>
                  <a:pt x="11881" y="16768"/>
                </a:cubicBezTo>
                <a:cubicBezTo>
                  <a:pt x="11951" y="16695"/>
                  <a:pt x="12036" y="16586"/>
                  <a:pt x="12080" y="16495"/>
                </a:cubicBezTo>
                <a:cubicBezTo>
                  <a:pt x="12134" y="16384"/>
                  <a:pt x="12185" y="16264"/>
                  <a:pt x="12229" y="16148"/>
                </a:cubicBezTo>
                <a:cubicBezTo>
                  <a:pt x="12251" y="16090"/>
                  <a:pt x="12279" y="16048"/>
                  <a:pt x="12303" y="15999"/>
                </a:cubicBezTo>
                <a:cubicBezTo>
                  <a:pt x="12319" y="16015"/>
                  <a:pt x="12349" y="16044"/>
                  <a:pt x="12378" y="16073"/>
                </a:cubicBezTo>
                <a:cubicBezTo>
                  <a:pt x="12445" y="16141"/>
                  <a:pt x="12500" y="16215"/>
                  <a:pt x="12551" y="16297"/>
                </a:cubicBezTo>
                <a:cubicBezTo>
                  <a:pt x="12593" y="16363"/>
                  <a:pt x="12620" y="16412"/>
                  <a:pt x="12675" y="16470"/>
                </a:cubicBezTo>
                <a:cubicBezTo>
                  <a:pt x="12716" y="16513"/>
                  <a:pt x="12784" y="16577"/>
                  <a:pt x="12849" y="16570"/>
                </a:cubicBezTo>
                <a:cubicBezTo>
                  <a:pt x="12892" y="16548"/>
                  <a:pt x="12904" y="16544"/>
                  <a:pt x="12923" y="16520"/>
                </a:cubicBezTo>
              </a:path>
              <a:path w="2407" h="1142">
                <a:moveTo>
                  <a:pt x="13146" y="15726"/>
                </a:moveTo>
                <a:cubicBezTo>
                  <a:pt x="13209" y="15726"/>
                  <a:pt x="13236" y="15748"/>
                  <a:pt x="13295" y="15751"/>
                </a:cubicBezTo>
                <a:cubicBezTo>
                  <a:pt x="13369" y="15755"/>
                  <a:pt x="13420" y="15730"/>
                  <a:pt x="13494" y="15726"/>
                </a:cubicBezTo>
                <a:cubicBezTo>
                  <a:pt x="13576" y="15722"/>
                  <a:pt x="13660" y="15726"/>
                  <a:pt x="13742" y="15726"/>
                </a:cubicBezTo>
              </a:path>
              <a:path w="2407" h="1142">
                <a:moveTo>
                  <a:pt x="13320" y="15999"/>
                </a:moveTo>
                <a:cubicBezTo>
                  <a:pt x="13410" y="15999"/>
                  <a:pt x="13478" y="15988"/>
                  <a:pt x="13568" y="15974"/>
                </a:cubicBezTo>
                <a:cubicBezTo>
                  <a:pt x="13621" y="15966"/>
                  <a:pt x="13660" y="15949"/>
                  <a:pt x="13717" y="15949"/>
                </a:cubicBezTo>
                <a:cubicBezTo>
                  <a:pt x="13753" y="15949"/>
                  <a:pt x="13789" y="15956"/>
                  <a:pt x="13816" y="15974"/>
                </a:cubicBezTo>
                <a:cubicBezTo>
                  <a:pt x="13837" y="15988"/>
                  <a:pt x="13887" y="16016"/>
                  <a:pt x="13891" y="16024"/>
                </a:cubicBezTo>
                <a:cubicBezTo>
                  <a:pt x="13909" y="16060"/>
                  <a:pt x="13898" y="16056"/>
                  <a:pt x="13940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5160" y="5133960"/>
            <a:ext cx="125640" cy="903240"/>
          </a:xfrm>
          <a:custGeom>
            <a:avLst/>
            <a:gdLst/>
            <a:ahLst/>
            <a:rect l="l" t="t" r="r" b="b"/>
            <a:pathLst>
              <a:path w="349" h="2506">
                <a:moveTo>
                  <a:pt x="15280" y="14263"/>
                </a:moveTo>
                <a:cubicBezTo>
                  <a:pt x="15256" y="14293"/>
                  <a:pt x="15234" y="14320"/>
                  <a:pt x="15230" y="14387"/>
                </a:cubicBezTo>
                <a:cubicBezTo>
                  <a:pt x="15226" y="14455"/>
                  <a:pt x="15220" y="14520"/>
                  <a:pt x="15205" y="14585"/>
                </a:cubicBezTo>
                <a:cubicBezTo>
                  <a:pt x="15179" y="14698"/>
                  <a:pt x="15160" y="14816"/>
                  <a:pt x="15156" y="14932"/>
                </a:cubicBezTo>
                <a:cubicBezTo>
                  <a:pt x="15152" y="15043"/>
                  <a:pt x="15138" y="15146"/>
                  <a:pt x="15131" y="15255"/>
                </a:cubicBezTo>
                <a:cubicBezTo>
                  <a:pt x="15119" y="15441"/>
                  <a:pt x="15114" y="15703"/>
                  <a:pt x="15081" y="15900"/>
                </a:cubicBezTo>
                <a:cubicBezTo>
                  <a:pt x="15060" y="16023"/>
                  <a:pt x="15038" y="16147"/>
                  <a:pt x="15032" y="16272"/>
                </a:cubicBezTo>
                <a:cubicBezTo>
                  <a:pt x="15029" y="16344"/>
                  <a:pt x="15011" y="16401"/>
                  <a:pt x="15007" y="16470"/>
                </a:cubicBezTo>
                <a:cubicBezTo>
                  <a:pt x="15004" y="16521"/>
                  <a:pt x="14993" y="16568"/>
                  <a:pt x="14982" y="16619"/>
                </a:cubicBezTo>
                <a:cubicBezTo>
                  <a:pt x="14973" y="16658"/>
                  <a:pt x="14957" y="16693"/>
                  <a:pt x="14957" y="16743"/>
                </a:cubicBezTo>
                <a:cubicBezTo>
                  <a:pt x="14957" y="16751"/>
                  <a:pt x="14934" y="16723"/>
                  <a:pt x="14957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1838160" cy="373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12960" y="1231920"/>
            <a:ext cx="1089000" cy="768240"/>
          </a:xfrm>
          <a:custGeom>
            <a:avLst/>
            <a:gdLst/>
            <a:ahLst/>
            <a:rect l="l" t="t" r="r" b="b"/>
            <a:pathLst>
              <a:path w="3028" h="2134">
                <a:moveTo>
                  <a:pt x="5755" y="4663"/>
                </a:moveTo>
                <a:cubicBezTo>
                  <a:pt x="5763" y="4680"/>
                  <a:pt x="5771" y="4696"/>
                  <a:pt x="5779" y="4713"/>
                </a:cubicBezTo>
                <a:cubicBezTo>
                  <a:pt x="5779" y="4632"/>
                  <a:pt x="5767" y="4557"/>
                  <a:pt x="5755" y="4490"/>
                </a:cubicBezTo>
                <a:cubicBezTo>
                  <a:pt x="5742" y="4418"/>
                  <a:pt x="5732" y="4393"/>
                  <a:pt x="5680" y="4341"/>
                </a:cubicBezTo>
                <a:cubicBezTo>
                  <a:pt x="5649" y="4311"/>
                  <a:pt x="5576" y="4304"/>
                  <a:pt x="5531" y="4316"/>
                </a:cubicBezTo>
                <a:cubicBezTo>
                  <a:pt x="5455" y="4336"/>
                  <a:pt x="5364" y="4350"/>
                  <a:pt x="5308" y="4415"/>
                </a:cubicBezTo>
                <a:cubicBezTo>
                  <a:pt x="5259" y="4472"/>
                  <a:pt x="5131" y="4592"/>
                  <a:pt x="5110" y="4663"/>
                </a:cubicBezTo>
                <a:cubicBezTo>
                  <a:pt x="5073" y="4784"/>
                  <a:pt x="5021" y="4962"/>
                  <a:pt x="5035" y="5085"/>
                </a:cubicBezTo>
                <a:cubicBezTo>
                  <a:pt x="5043" y="5157"/>
                  <a:pt x="5095" y="5207"/>
                  <a:pt x="5159" y="5209"/>
                </a:cubicBezTo>
                <a:cubicBezTo>
                  <a:pt x="5244" y="5212"/>
                  <a:pt x="5284" y="5196"/>
                  <a:pt x="5358" y="5159"/>
                </a:cubicBezTo>
                <a:cubicBezTo>
                  <a:pt x="5460" y="5109"/>
                  <a:pt x="5500" y="5059"/>
                  <a:pt x="5556" y="4961"/>
                </a:cubicBezTo>
                <a:cubicBezTo>
                  <a:pt x="5592" y="4898"/>
                  <a:pt x="5643" y="4848"/>
                  <a:pt x="5680" y="4787"/>
                </a:cubicBezTo>
                <a:cubicBezTo>
                  <a:pt x="5707" y="4743"/>
                  <a:pt x="5704" y="4726"/>
                  <a:pt x="5730" y="4688"/>
                </a:cubicBezTo>
                <a:cubicBezTo>
                  <a:pt x="5738" y="4756"/>
                  <a:pt x="5737" y="4800"/>
                  <a:pt x="5779" y="4862"/>
                </a:cubicBezTo>
                <a:cubicBezTo>
                  <a:pt x="5812" y="4911"/>
                  <a:pt x="5858" y="4915"/>
                  <a:pt x="5904" y="4936"/>
                </a:cubicBezTo>
                <a:cubicBezTo>
                  <a:pt x="5989" y="4975"/>
                  <a:pt x="6070" y="4975"/>
                  <a:pt x="6152" y="4936"/>
                </a:cubicBezTo>
                <a:cubicBezTo>
                  <a:pt x="6176" y="4911"/>
                  <a:pt x="6184" y="4903"/>
                  <a:pt x="6201" y="4887"/>
                </a:cubicBezTo>
              </a:path>
              <a:path w="3028" h="2134">
                <a:moveTo>
                  <a:pt x="6375" y="4266"/>
                </a:moveTo>
                <a:cubicBezTo>
                  <a:pt x="6519" y="4246"/>
                  <a:pt x="6590" y="4258"/>
                  <a:pt x="6722" y="4266"/>
                </a:cubicBezTo>
                <a:cubicBezTo>
                  <a:pt x="6730" y="4266"/>
                  <a:pt x="6739" y="4266"/>
                  <a:pt x="6747" y="4266"/>
                </a:cubicBezTo>
              </a:path>
              <a:path w="3028" h="2134">
                <a:moveTo>
                  <a:pt x="6474" y="4564"/>
                </a:moveTo>
                <a:cubicBezTo>
                  <a:pt x="6566" y="4556"/>
                  <a:pt x="6660" y="4547"/>
                  <a:pt x="6747" y="4514"/>
                </a:cubicBezTo>
                <a:cubicBezTo>
                  <a:pt x="6818" y="4487"/>
                  <a:pt x="6863" y="4460"/>
                  <a:pt x="6921" y="4415"/>
                </a:cubicBezTo>
              </a:path>
              <a:path w="3028" h="2134">
                <a:moveTo>
                  <a:pt x="7392" y="3423"/>
                </a:moveTo>
                <a:cubicBezTo>
                  <a:pt x="7362" y="3472"/>
                  <a:pt x="7329" y="3558"/>
                  <a:pt x="7317" y="3621"/>
                </a:cubicBezTo>
                <a:cubicBezTo>
                  <a:pt x="7303" y="3696"/>
                  <a:pt x="7307" y="3809"/>
                  <a:pt x="7342" y="3870"/>
                </a:cubicBezTo>
                <a:cubicBezTo>
                  <a:pt x="7365" y="3909"/>
                  <a:pt x="7404" y="3955"/>
                  <a:pt x="7417" y="3994"/>
                </a:cubicBezTo>
                <a:cubicBezTo>
                  <a:pt x="7417" y="4028"/>
                  <a:pt x="7422" y="4046"/>
                  <a:pt x="7441" y="4068"/>
                </a:cubicBezTo>
              </a:path>
              <a:path w="3028" h="2134">
                <a:moveTo>
                  <a:pt x="7193" y="4316"/>
                </a:moveTo>
                <a:cubicBezTo>
                  <a:pt x="7299" y="4298"/>
                  <a:pt x="7414" y="4279"/>
                  <a:pt x="7516" y="4266"/>
                </a:cubicBezTo>
                <a:cubicBezTo>
                  <a:pt x="7644" y="4250"/>
                  <a:pt x="7784" y="4266"/>
                  <a:pt x="7913" y="4266"/>
                </a:cubicBezTo>
              </a:path>
              <a:path w="3028" h="2134">
                <a:moveTo>
                  <a:pt x="7466" y="4564"/>
                </a:moveTo>
                <a:cubicBezTo>
                  <a:pt x="7526" y="4540"/>
                  <a:pt x="7604" y="4527"/>
                  <a:pt x="7665" y="4490"/>
                </a:cubicBezTo>
                <a:cubicBezTo>
                  <a:pt x="7715" y="4460"/>
                  <a:pt x="7799" y="4448"/>
                  <a:pt x="7863" y="4465"/>
                </a:cubicBezTo>
                <a:cubicBezTo>
                  <a:pt x="7905" y="4476"/>
                  <a:pt x="7938" y="4522"/>
                  <a:pt x="7938" y="4564"/>
                </a:cubicBezTo>
                <a:cubicBezTo>
                  <a:pt x="7938" y="4627"/>
                  <a:pt x="7836" y="4714"/>
                  <a:pt x="7789" y="4738"/>
                </a:cubicBezTo>
                <a:cubicBezTo>
                  <a:pt x="7723" y="4772"/>
                  <a:pt x="7672" y="4786"/>
                  <a:pt x="7615" y="4837"/>
                </a:cubicBezTo>
                <a:cubicBezTo>
                  <a:pt x="7592" y="4860"/>
                  <a:pt x="7588" y="4868"/>
                  <a:pt x="7565" y="4862"/>
                </a:cubicBezTo>
                <a:cubicBezTo>
                  <a:pt x="7601" y="4876"/>
                  <a:pt x="7563" y="4883"/>
                  <a:pt x="7640" y="4862"/>
                </a:cubicBezTo>
                <a:cubicBezTo>
                  <a:pt x="7687" y="4849"/>
                  <a:pt x="7736" y="4826"/>
                  <a:pt x="7789" y="4837"/>
                </a:cubicBezTo>
                <a:cubicBezTo>
                  <a:pt x="7861" y="4852"/>
                  <a:pt x="7945" y="4898"/>
                  <a:pt x="7987" y="4961"/>
                </a:cubicBezTo>
                <a:cubicBezTo>
                  <a:pt x="8020" y="5010"/>
                  <a:pt x="8076" y="5124"/>
                  <a:pt x="8062" y="5184"/>
                </a:cubicBezTo>
                <a:cubicBezTo>
                  <a:pt x="8045" y="5262"/>
                  <a:pt x="8019" y="5300"/>
                  <a:pt x="7962" y="5358"/>
                </a:cubicBezTo>
                <a:cubicBezTo>
                  <a:pt x="7910" y="5411"/>
                  <a:pt x="7855" y="5405"/>
                  <a:pt x="7789" y="5432"/>
                </a:cubicBezTo>
                <a:cubicBezTo>
                  <a:pt x="7706" y="5466"/>
                  <a:pt x="7620" y="5469"/>
                  <a:pt x="7541" y="5507"/>
                </a:cubicBezTo>
                <a:cubicBezTo>
                  <a:pt x="7516" y="5523"/>
                  <a:pt x="7491" y="5540"/>
                  <a:pt x="7466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46200" y="2820960"/>
            <a:ext cx="1108080" cy="662040"/>
          </a:xfrm>
          <a:custGeom>
            <a:avLst/>
            <a:gdLst/>
            <a:ahLst/>
            <a:rect l="l" t="t" r="r" b="b"/>
            <a:pathLst>
              <a:path w="3077" h="1837">
                <a:moveTo>
                  <a:pt x="7317" y="8855"/>
                </a:moveTo>
                <a:cubicBezTo>
                  <a:pt x="7340" y="8878"/>
                  <a:pt x="7344" y="8886"/>
                  <a:pt x="7367" y="8880"/>
                </a:cubicBezTo>
                <a:cubicBezTo>
                  <a:pt x="7367" y="8804"/>
                  <a:pt x="7381" y="8725"/>
                  <a:pt x="7342" y="8657"/>
                </a:cubicBezTo>
                <a:cubicBezTo>
                  <a:pt x="7308" y="8597"/>
                  <a:pt x="7322" y="8574"/>
                  <a:pt x="7243" y="8558"/>
                </a:cubicBezTo>
                <a:cubicBezTo>
                  <a:pt x="7170" y="8543"/>
                  <a:pt x="7114" y="8577"/>
                  <a:pt x="7069" y="8632"/>
                </a:cubicBezTo>
                <a:cubicBezTo>
                  <a:pt x="7000" y="8716"/>
                  <a:pt x="6910" y="8742"/>
                  <a:pt x="6871" y="8855"/>
                </a:cubicBezTo>
                <a:cubicBezTo>
                  <a:pt x="6835" y="8958"/>
                  <a:pt x="6773" y="9118"/>
                  <a:pt x="6796" y="9227"/>
                </a:cubicBezTo>
                <a:cubicBezTo>
                  <a:pt x="6799" y="9240"/>
                  <a:pt x="6883" y="9370"/>
                  <a:pt x="6896" y="9376"/>
                </a:cubicBezTo>
                <a:cubicBezTo>
                  <a:pt x="6977" y="9417"/>
                  <a:pt x="7074" y="9360"/>
                  <a:pt x="7119" y="9327"/>
                </a:cubicBezTo>
                <a:cubicBezTo>
                  <a:pt x="7187" y="9278"/>
                  <a:pt x="7219" y="9243"/>
                  <a:pt x="7268" y="9178"/>
                </a:cubicBezTo>
                <a:cubicBezTo>
                  <a:pt x="7307" y="9127"/>
                  <a:pt x="7333" y="9060"/>
                  <a:pt x="7367" y="9004"/>
                </a:cubicBezTo>
                <a:cubicBezTo>
                  <a:pt x="7387" y="8964"/>
                  <a:pt x="7396" y="8957"/>
                  <a:pt x="7392" y="8930"/>
                </a:cubicBezTo>
                <a:cubicBezTo>
                  <a:pt x="7396" y="8976"/>
                  <a:pt x="7393" y="9118"/>
                  <a:pt x="7441" y="9153"/>
                </a:cubicBezTo>
                <a:cubicBezTo>
                  <a:pt x="7460" y="9167"/>
                  <a:pt x="7592" y="9177"/>
                  <a:pt x="7615" y="9178"/>
                </a:cubicBezTo>
                <a:cubicBezTo>
                  <a:pt x="7680" y="9181"/>
                  <a:pt x="7705" y="9173"/>
                  <a:pt x="7764" y="9153"/>
                </a:cubicBezTo>
              </a:path>
              <a:path w="3077" h="1837">
                <a:moveTo>
                  <a:pt x="7938" y="8706"/>
                </a:moveTo>
                <a:cubicBezTo>
                  <a:pt x="8095" y="8644"/>
                  <a:pt x="8087" y="8685"/>
                  <a:pt x="8235" y="8706"/>
                </a:cubicBezTo>
                <a:cubicBezTo>
                  <a:pt x="8290" y="8714"/>
                  <a:pt x="8278" y="8704"/>
                  <a:pt x="8310" y="8657"/>
                </a:cubicBezTo>
              </a:path>
              <a:path w="3077" h="1837">
                <a:moveTo>
                  <a:pt x="7863" y="8880"/>
                </a:moveTo>
                <a:cubicBezTo>
                  <a:pt x="8032" y="8948"/>
                  <a:pt x="8023" y="8921"/>
                  <a:pt x="8186" y="8880"/>
                </a:cubicBezTo>
                <a:cubicBezTo>
                  <a:pt x="8235" y="8872"/>
                  <a:pt x="8285" y="8863"/>
                  <a:pt x="8334" y="8855"/>
                </a:cubicBezTo>
              </a:path>
              <a:path w="3077" h="1837">
                <a:moveTo>
                  <a:pt x="9004" y="7987"/>
                </a:moveTo>
                <a:cubicBezTo>
                  <a:pt x="9114" y="7958"/>
                  <a:pt x="9221" y="7962"/>
                  <a:pt x="9327" y="7938"/>
                </a:cubicBezTo>
                <a:cubicBezTo>
                  <a:pt x="9405" y="7920"/>
                  <a:pt x="9462" y="7891"/>
                  <a:pt x="9525" y="7838"/>
                </a:cubicBezTo>
              </a:path>
              <a:path w="3077" h="1837">
                <a:moveTo>
                  <a:pt x="9029" y="7913"/>
                </a:moveTo>
                <a:cubicBezTo>
                  <a:pt x="8996" y="7979"/>
                  <a:pt x="8946" y="8119"/>
                  <a:pt x="8905" y="8186"/>
                </a:cubicBezTo>
                <a:cubicBezTo>
                  <a:pt x="8882" y="8208"/>
                  <a:pt x="8874" y="8213"/>
                  <a:pt x="8880" y="8235"/>
                </a:cubicBezTo>
                <a:cubicBezTo>
                  <a:pt x="8902" y="8252"/>
                  <a:pt x="8946" y="8279"/>
                  <a:pt x="8979" y="8260"/>
                </a:cubicBezTo>
                <a:cubicBezTo>
                  <a:pt x="9011" y="8242"/>
                  <a:pt x="9069" y="8196"/>
                  <a:pt x="9103" y="8186"/>
                </a:cubicBezTo>
                <a:cubicBezTo>
                  <a:pt x="9148" y="8173"/>
                  <a:pt x="9291" y="8170"/>
                  <a:pt x="9327" y="8210"/>
                </a:cubicBezTo>
                <a:cubicBezTo>
                  <a:pt x="9357" y="8243"/>
                  <a:pt x="9398" y="8315"/>
                  <a:pt x="9401" y="8359"/>
                </a:cubicBezTo>
                <a:cubicBezTo>
                  <a:pt x="9405" y="8425"/>
                  <a:pt x="9361" y="8531"/>
                  <a:pt x="9302" y="8558"/>
                </a:cubicBezTo>
                <a:cubicBezTo>
                  <a:pt x="9205" y="8603"/>
                  <a:pt x="9060" y="8538"/>
                  <a:pt x="8954" y="8582"/>
                </a:cubicBezTo>
              </a:path>
              <a:path w="3077" h="1837">
                <a:moveTo>
                  <a:pt x="8830" y="8657"/>
                </a:moveTo>
                <a:cubicBezTo>
                  <a:pt x="8991" y="8638"/>
                  <a:pt x="9140" y="8632"/>
                  <a:pt x="9302" y="8632"/>
                </a:cubicBezTo>
                <a:cubicBezTo>
                  <a:pt x="9422" y="8632"/>
                  <a:pt x="9530" y="8657"/>
                  <a:pt x="9649" y="8657"/>
                </a:cubicBezTo>
              </a:path>
              <a:path w="3077" h="1837">
                <a:moveTo>
                  <a:pt x="9079" y="9004"/>
                </a:moveTo>
                <a:cubicBezTo>
                  <a:pt x="9118" y="8943"/>
                  <a:pt x="9147" y="8934"/>
                  <a:pt x="9227" y="8930"/>
                </a:cubicBezTo>
                <a:cubicBezTo>
                  <a:pt x="9322" y="8925"/>
                  <a:pt x="9374" y="8860"/>
                  <a:pt x="9475" y="8855"/>
                </a:cubicBezTo>
                <a:cubicBezTo>
                  <a:pt x="9542" y="8852"/>
                  <a:pt x="9618" y="8891"/>
                  <a:pt x="9649" y="8954"/>
                </a:cubicBezTo>
                <a:cubicBezTo>
                  <a:pt x="9692" y="9040"/>
                  <a:pt x="9684" y="9165"/>
                  <a:pt x="9649" y="9252"/>
                </a:cubicBezTo>
                <a:cubicBezTo>
                  <a:pt x="9599" y="9377"/>
                  <a:pt x="9540" y="9461"/>
                  <a:pt x="9426" y="9525"/>
                </a:cubicBezTo>
                <a:cubicBezTo>
                  <a:pt x="9355" y="9564"/>
                  <a:pt x="9335" y="9599"/>
                  <a:pt x="9252" y="9599"/>
                </a:cubicBezTo>
                <a:cubicBezTo>
                  <a:pt x="9227" y="9599"/>
                  <a:pt x="9203" y="9599"/>
                  <a:pt x="9178" y="9599"/>
                </a:cubicBezTo>
                <a:cubicBezTo>
                  <a:pt x="9178" y="9511"/>
                  <a:pt x="9169" y="9547"/>
                  <a:pt x="9227" y="9525"/>
                </a:cubicBezTo>
                <a:cubicBezTo>
                  <a:pt x="9325" y="9488"/>
                  <a:pt x="9374" y="9516"/>
                  <a:pt x="9475" y="9525"/>
                </a:cubicBezTo>
                <a:cubicBezTo>
                  <a:pt x="9592" y="9536"/>
                  <a:pt x="9691" y="9565"/>
                  <a:pt x="9798" y="9599"/>
                </a:cubicBezTo>
                <a:cubicBezTo>
                  <a:pt x="9885" y="9627"/>
                  <a:pt x="9877" y="9652"/>
                  <a:pt x="9823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30280" y="4537080"/>
            <a:ext cx="982800" cy="901800"/>
          </a:xfrm>
          <a:custGeom>
            <a:avLst/>
            <a:gdLst/>
            <a:ahLst/>
            <a:rect l="l" t="t" r="r" b="b"/>
            <a:pathLst>
              <a:path w="2730" h="2506">
                <a:moveTo>
                  <a:pt x="7144" y="13593"/>
                </a:moveTo>
                <a:cubicBezTo>
                  <a:pt x="7154" y="13521"/>
                  <a:pt x="7169" y="13478"/>
                  <a:pt x="7169" y="13395"/>
                </a:cubicBezTo>
                <a:cubicBezTo>
                  <a:pt x="7169" y="13283"/>
                  <a:pt x="7185" y="13178"/>
                  <a:pt x="7094" y="13097"/>
                </a:cubicBezTo>
                <a:cubicBezTo>
                  <a:pt x="7046" y="13055"/>
                  <a:pt x="6933" y="13023"/>
                  <a:pt x="6871" y="13047"/>
                </a:cubicBezTo>
                <a:cubicBezTo>
                  <a:pt x="6783" y="13081"/>
                  <a:pt x="6657" y="13202"/>
                  <a:pt x="6598" y="13271"/>
                </a:cubicBezTo>
                <a:cubicBezTo>
                  <a:pt x="6547" y="13331"/>
                  <a:pt x="6470" y="13511"/>
                  <a:pt x="6474" y="13593"/>
                </a:cubicBezTo>
                <a:cubicBezTo>
                  <a:pt x="6476" y="13637"/>
                  <a:pt x="6537" y="13783"/>
                  <a:pt x="6573" y="13816"/>
                </a:cubicBezTo>
                <a:cubicBezTo>
                  <a:pt x="6630" y="13869"/>
                  <a:pt x="6813" y="13843"/>
                  <a:pt x="6871" y="13816"/>
                </a:cubicBezTo>
                <a:cubicBezTo>
                  <a:pt x="6927" y="13789"/>
                  <a:pt x="6991" y="13670"/>
                  <a:pt x="7020" y="13618"/>
                </a:cubicBezTo>
                <a:cubicBezTo>
                  <a:pt x="7041" y="13580"/>
                  <a:pt x="7013" y="13465"/>
                  <a:pt x="7045" y="13494"/>
                </a:cubicBezTo>
                <a:cubicBezTo>
                  <a:pt x="7072" y="13519"/>
                  <a:pt x="7012" y="13608"/>
                  <a:pt x="7020" y="13643"/>
                </a:cubicBezTo>
                <a:cubicBezTo>
                  <a:pt x="7039" y="13729"/>
                  <a:pt x="7139" y="13833"/>
                  <a:pt x="7218" y="13866"/>
                </a:cubicBezTo>
                <a:cubicBezTo>
                  <a:pt x="7297" y="13899"/>
                  <a:pt x="7424" y="13911"/>
                  <a:pt x="7491" y="13841"/>
                </a:cubicBezTo>
                <a:cubicBezTo>
                  <a:pt x="7508" y="13816"/>
                  <a:pt x="7524" y="13792"/>
                  <a:pt x="7541" y="13767"/>
                </a:cubicBezTo>
              </a:path>
              <a:path w="2730" h="2506">
                <a:moveTo>
                  <a:pt x="7590" y="13221"/>
                </a:moveTo>
                <a:cubicBezTo>
                  <a:pt x="7708" y="13228"/>
                  <a:pt x="7803" y="13247"/>
                  <a:pt x="7913" y="13271"/>
                </a:cubicBezTo>
                <a:cubicBezTo>
                  <a:pt x="7921" y="13271"/>
                  <a:pt x="7930" y="13271"/>
                  <a:pt x="7938" y="13271"/>
                </a:cubicBezTo>
              </a:path>
              <a:path w="2730" h="2506">
                <a:moveTo>
                  <a:pt x="7565" y="13469"/>
                </a:moveTo>
                <a:cubicBezTo>
                  <a:pt x="7827" y="13485"/>
                  <a:pt x="7802" y="13501"/>
                  <a:pt x="8012" y="13419"/>
                </a:cubicBezTo>
              </a:path>
              <a:path w="2730" h="2506">
                <a:moveTo>
                  <a:pt x="8458" y="12650"/>
                </a:moveTo>
                <a:cubicBezTo>
                  <a:pt x="8624" y="12614"/>
                  <a:pt x="8777" y="12561"/>
                  <a:pt x="8930" y="12675"/>
                </a:cubicBezTo>
                <a:cubicBezTo>
                  <a:pt x="8938" y="12692"/>
                  <a:pt x="8946" y="12708"/>
                  <a:pt x="8954" y="12725"/>
                </a:cubicBezTo>
                <a:cubicBezTo>
                  <a:pt x="8928" y="12791"/>
                  <a:pt x="8872" y="12838"/>
                  <a:pt x="8806" y="12874"/>
                </a:cubicBezTo>
                <a:cubicBezTo>
                  <a:pt x="8763" y="12898"/>
                  <a:pt x="8702" y="12943"/>
                  <a:pt x="8657" y="12948"/>
                </a:cubicBezTo>
                <a:cubicBezTo>
                  <a:pt x="8632" y="12948"/>
                  <a:pt x="8624" y="12948"/>
                  <a:pt x="8657" y="12948"/>
                </a:cubicBezTo>
                <a:cubicBezTo>
                  <a:pt x="8723" y="12948"/>
                  <a:pt x="8792" y="12957"/>
                  <a:pt x="8855" y="12973"/>
                </a:cubicBezTo>
                <a:cubicBezTo>
                  <a:pt x="8953" y="12998"/>
                  <a:pt x="8999" y="13049"/>
                  <a:pt x="9029" y="13122"/>
                </a:cubicBezTo>
                <a:cubicBezTo>
                  <a:pt x="9068" y="13217"/>
                  <a:pt x="9023" y="13280"/>
                  <a:pt x="8930" y="13320"/>
                </a:cubicBezTo>
                <a:cubicBezTo>
                  <a:pt x="8846" y="13356"/>
                  <a:pt x="8743" y="13381"/>
                  <a:pt x="8657" y="13395"/>
                </a:cubicBezTo>
                <a:cubicBezTo>
                  <a:pt x="8605" y="13403"/>
                  <a:pt x="8558" y="13378"/>
                  <a:pt x="8508" y="13370"/>
                </a:cubicBezTo>
              </a:path>
              <a:path w="2730" h="2506">
                <a:moveTo>
                  <a:pt x="8483" y="13419"/>
                </a:moveTo>
                <a:cubicBezTo>
                  <a:pt x="8652" y="13482"/>
                  <a:pt x="8824" y="13525"/>
                  <a:pt x="9004" y="13543"/>
                </a:cubicBezTo>
                <a:cubicBezTo>
                  <a:pt x="9037" y="13543"/>
                  <a:pt x="9070" y="13543"/>
                  <a:pt x="9103" y="13543"/>
                </a:cubicBezTo>
              </a:path>
              <a:path w="2730" h="2506">
                <a:moveTo>
                  <a:pt x="8607" y="13816"/>
                </a:moveTo>
                <a:cubicBezTo>
                  <a:pt x="8575" y="13895"/>
                  <a:pt x="8544" y="13919"/>
                  <a:pt x="8582" y="13990"/>
                </a:cubicBezTo>
                <a:cubicBezTo>
                  <a:pt x="8623" y="14066"/>
                  <a:pt x="8698" y="14153"/>
                  <a:pt x="8781" y="14188"/>
                </a:cubicBezTo>
                <a:cubicBezTo>
                  <a:pt x="8836" y="14211"/>
                  <a:pt x="9042" y="14291"/>
                  <a:pt x="9103" y="14263"/>
                </a:cubicBezTo>
                <a:cubicBezTo>
                  <a:pt x="9136" y="14238"/>
                  <a:pt x="9170" y="14213"/>
                  <a:pt x="9203" y="14188"/>
                </a:cubicBezTo>
              </a:path>
              <a:path w="2730" h="2506">
                <a:moveTo>
                  <a:pt x="9103" y="13866"/>
                </a:moveTo>
                <a:cubicBezTo>
                  <a:pt x="9079" y="14071"/>
                  <a:pt x="9065" y="14280"/>
                  <a:pt x="9054" y="14486"/>
                </a:cubicBezTo>
                <a:cubicBezTo>
                  <a:pt x="9045" y="14654"/>
                  <a:pt x="9071" y="14818"/>
                  <a:pt x="9029" y="14982"/>
                </a:cubicBezTo>
                <a:cubicBezTo>
                  <a:pt x="9006" y="15049"/>
                  <a:pt x="9001" y="15067"/>
                  <a:pt x="8979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eriod of a function is the length of the function before it starts repeating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iod of y=asinbx and y=acosbx is equal to 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035080"/>
            <a:ext cx="1224000" cy="723960"/>
          </a:xfrm>
          <a:custGeom>
            <a:avLst/>
            <a:gdLst/>
            <a:ahLst/>
            <a:rect l="l" t="t" r="r" b="b"/>
            <a:pathLst>
              <a:path w="3399" h="2011">
                <a:moveTo>
                  <a:pt x="3696" y="5829"/>
                </a:moveTo>
                <a:cubicBezTo>
                  <a:pt x="3718" y="5888"/>
                  <a:pt x="3721" y="5930"/>
                  <a:pt x="3721" y="6003"/>
                </a:cubicBezTo>
                <a:cubicBezTo>
                  <a:pt x="3721" y="6106"/>
                  <a:pt x="3737" y="6201"/>
                  <a:pt x="3746" y="6300"/>
                </a:cubicBezTo>
                <a:cubicBezTo>
                  <a:pt x="3778" y="6653"/>
                  <a:pt x="3740" y="7014"/>
                  <a:pt x="3770" y="7367"/>
                </a:cubicBezTo>
                <a:cubicBezTo>
                  <a:pt x="3778" y="7465"/>
                  <a:pt x="3770" y="7567"/>
                  <a:pt x="3770" y="7665"/>
                </a:cubicBezTo>
                <a:cubicBezTo>
                  <a:pt x="3793" y="7625"/>
                  <a:pt x="3814" y="7544"/>
                  <a:pt x="3820" y="7466"/>
                </a:cubicBezTo>
              </a:path>
              <a:path w="3399" h="2011">
                <a:moveTo>
                  <a:pt x="3770" y="5879"/>
                </a:moveTo>
                <a:cubicBezTo>
                  <a:pt x="4103" y="5879"/>
                  <a:pt x="4434" y="5880"/>
                  <a:pt x="4762" y="5829"/>
                </a:cubicBezTo>
                <a:cubicBezTo>
                  <a:pt x="4961" y="5798"/>
                  <a:pt x="5159" y="5800"/>
                  <a:pt x="5358" y="5779"/>
                </a:cubicBezTo>
                <a:cubicBezTo>
                  <a:pt x="5622" y="5750"/>
                  <a:pt x="5888" y="5721"/>
                  <a:pt x="6152" y="5705"/>
                </a:cubicBezTo>
                <a:cubicBezTo>
                  <a:pt x="6299" y="5696"/>
                  <a:pt x="6452" y="5697"/>
                  <a:pt x="6598" y="5680"/>
                </a:cubicBezTo>
                <a:cubicBezTo>
                  <a:pt x="6683" y="5670"/>
                  <a:pt x="6726" y="5666"/>
                  <a:pt x="6796" y="5680"/>
                </a:cubicBezTo>
                <a:cubicBezTo>
                  <a:pt x="6837" y="5688"/>
                  <a:pt x="6861" y="5694"/>
                  <a:pt x="6896" y="5705"/>
                </a:cubicBezTo>
                <a:cubicBezTo>
                  <a:pt x="6888" y="5755"/>
                  <a:pt x="6876" y="5806"/>
                  <a:pt x="6871" y="5854"/>
                </a:cubicBezTo>
                <a:cubicBezTo>
                  <a:pt x="6863" y="5937"/>
                  <a:pt x="6843" y="6020"/>
                  <a:pt x="6846" y="6102"/>
                </a:cubicBezTo>
                <a:cubicBezTo>
                  <a:pt x="6851" y="6242"/>
                  <a:pt x="6885" y="6385"/>
                  <a:pt x="6896" y="6524"/>
                </a:cubicBezTo>
                <a:cubicBezTo>
                  <a:pt x="6908" y="6674"/>
                  <a:pt x="6944" y="6821"/>
                  <a:pt x="6970" y="6970"/>
                </a:cubicBezTo>
                <a:cubicBezTo>
                  <a:pt x="6984" y="7053"/>
                  <a:pt x="6990" y="7166"/>
                  <a:pt x="7020" y="7243"/>
                </a:cubicBezTo>
                <a:cubicBezTo>
                  <a:pt x="7042" y="7301"/>
                  <a:pt x="7051" y="7337"/>
                  <a:pt x="7069" y="7392"/>
                </a:cubicBezTo>
                <a:cubicBezTo>
                  <a:pt x="7091" y="7414"/>
                  <a:pt x="7100" y="7419"/>
                  <a:pt x="7094" y="7441"/>
                </a:cubicBezTo>
                <a:cubicBezTo>
                  <a:pt x="7055" y="7432"/>
                  <a:pt x="7038" y="7421"/>
                  <a:pt x="6995" y="7417"/>
                </a:cubicBezTo>
                <a:cubicBezTo>
                  <a:pt x="6899" y="7409"/>
                  <a:pt x="6814" y="7436"/>
                  <a:pt x="6722" y="7441"/>
                </a:cubicBezTo>
                <a:cubicBezTo>
                  <a:pt x="6613" y="7447"/>
                  <a:pt x="6507" y="7458"/>
                  <a:pt x="6400" y="7466"/>
                </a:cubicBezTo>
                <a:cubicBezTo>
                  <a:pt x="6195" y="7482"/>
                  <a:pt x="5983" y="7479"/>
                  <a:pt x="5779" y="7491"/>
                </a:cubicBezTo>
                <a:cubicBezTo>
                  <a:pt x="5574" y="7503"/>
                  <a:pt x="5362" y="7509"/>
                  <a:pt x="5159" y="7516"/>
                </a:cubicBezTo>
                <a:cubicBezTo>
                  <a:pt x="4857" y="7526"/>
                  <a:pt x="4565" y="7570"/>
                  <a:pt x="4266" y="7590"/>
                </a:cubicBezTo>
                <a:cubicBezTo>
                  <a:pt x="4149" y="7598"/>
                  <a:pt x="4035" y="7607"/>
                  <a:pt x="3919" y="7615"/>
                </a:cubicBezTo>
                <a:cubicBezTo>
                  <a:pt x="3858" y="7619"/>
                  <a:pt x="3744" y="7556"/>
                  <a:pt x="3795" y="7590"/>
                </a:cubicBezTo>
                <a:cubicBezTo>
                  <a:pt x="3816" y="7604"/>
                  <a:pt x="3820" y="7615"/>
                  <a:pt x="3845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68880" y="2044800"/>
            <a:ext cx="142920" cy="27000"/>
          </a:xfrm>
          <a:custGeom>
            <a:avLst/>
            <a:gdLst/>
            <a:ahLst/>
            <a:rect l="l" t="t" r="r" b="b"/>
            <a:pathLst>
              <a:path w="398" h="76">
                <a:moveTo>
                  <a:pt x="12030" y="5680"/>
                </a:moveTo>
                <a:lnTo>
                  <a:pt x="12154" y="5705"/>
                </a:lnTo>
                <a:lnTo>
                  <a:pt x="12179" y="5705"/>
                </a:lnTo>
                <a:lnTo>
                  <a:pt x="12229" y="5705"/>
                </a:lnTo>
                <a:lnTo>
                  <a:pt x="12254" y="5705"/>
                </a:lnTo>
                <a:lnTo>
                  <a:pt x="12229" y="5705"/>
                </a:lnTo>
                <a:lnTo>
                  <a:pt x="12204" y="5705"/>
                </a:lnTo>
                <a:lnTo>
                  <a:pt x="12154" y="5705"/>
                </a:lnTo>
                <a:lnTo>
                  <a:pt x="12105" y="5705"/>
                </a:lnTo>
                <a:lnTo>
                  <a:pt x="12055" y="5705"/>
                </a:lnTo>
                <a:lnTo>
                  <a:pt x="12005" y="5705"/>
                </a:lnTo>
                <a:lnTo>
                  <a:pt x="11981" y="5705"/>
                </a:lnTo>
                <a:lnTo>
                  <a:pt x="11931" y="5705"/>
                </a:lnTo>
                <a:lnTo>
                  <a:pt x="11906" y="5705"/>
                </a:lnTo>
                <a:lnTo>
                  <a:pt x="11931" y="5730"/>
                </a:lnTo>
                <a:lnTo>
                  <a:pt x="11956" y="5730"/>
                </a:lnTo>
                <a:lnTo>
                  <a:pt x="12005" y="5730"/>
                </a:lnTo>
                <a:lnTo>
                  <a:pt x="12030" y="5730"/>
                </a:lnTo>
                <a:lnTo>
                  <a:pt x="12105" y="5730"/>
                </a:lnTo>
                <a:lnTo>
                  <a:pt x="12154" y="5730"/>
                </a:lnTo>
                <a:lnTo>
                  <a:pt x="12204" y="5730"/>
                </a:lnTo>
                <a:lnTo>
                  <a:pt x="12229" y="5730"/>
                </a:lnTo>
                <a:lnTo>
                  <a:pt x="12229" y="5705"/>
                </a:lnTo>
                <a:lnTo>
                  <a:pt x="12204" y="5705"/>
                </a:lnTo>
                <a:lnTo>
                  <a:pt x="12154" y="5705"/>
                </a:lnTo>
                <a:lnTo>
                  <a:pt x="12080" y="5705"/>
                </a:lnTo>
                <a:lnTo>
                  <a:pt x="12005" y="5730"/>
                </a:lnTo>
                <a:lnTo>
                  <a:pt x="11956" y="5730"/>
                </a:lnTo>
                <a:lnTo>
                  <a:pt x="11906" y="5730"/>
                </a:lnTo>
                <a:lnTo>
                  <a:pt x="11881" y="5730"/>
                </a:lnTo>
                <a:lnTo>
                  <a:pt x="11857" y="5730"/>
                </a:lnTo>
                <a:lnTo>
                  <a:pt x="11881" y="5730"/>
                </a:lnTo>
                <a:lnTo>
                  <a:pt x="11881" y="5755"/>
                </a:lnTo>
                <a:lnTo>
                  <a:pt x="11931" y="5755"/>
                </a:lnTo>
                <a:lnTo>
                  <a:pt x="12055" y="575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72160" y="2071800"/>
            <a:ext cx="14292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18256" y="5755"/>
                </a:moveTo>
                <a:cubicBezTo>
                  <a:pt x="18338" y="5755"/>
                  <a:pt x="18403" y="5767"/>
                  <a:pt x="18479" y="5779"/>
                </a:cubicBezTo>
                <a:cubicBezTo>
                  <a:pt x="18540" y="5789"/>
                  <a:pt x="18668" y="5864"/>
                  <a:pt x="18653" y="5804"/>
                </a:cubicBezTo>
                <a:cubicBezTo>
                  <a:pt x="18638" y="5747"/>
                  <a:pt x="18517" y="5789"/>
                  <a:pt x="18479" y="5779"/>
                </a:cubicBezTo>
                <a:cubicBezTo>
                  <a:pt x="18416" y="5763"/>
                  <a:pt x="18374" y="5755"/>
                  <a:pt x="18306" y="5755"/>
                </a:cubicBezTo>
                <a:cubicBezTo>
                  <a:pt x="18350" y="5780"/>
                  <a:pt x="18426" y="5795"/>
                  <a:pt x="18479" y="5804"/>
                </a:cubicBezTo>
                <a:cubicBezTo>
                  <a:pt x="18537" y="5814"/>
                  <a:pt x="18674" y="5804"/>
                  <a:pt x="18529" y="5804"/>
                </a:cubicBezTo>
                <a:cubicBezTo>
                  <a:pt x="18465" y="5804"/>
                  <a:pt x="18421" y="5779"/>
                  <a:pt x="18355" y="5779"/>
                </a:cubicBezTo>
                <a:cubicBezTo>
                  <a:pt x="18293" y="5779"/>
                  <a:pt x="18365" y="5800"/>
                  <a:pt x="18380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s:  Find the period of each grap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=2cos 3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2357280"/>
            <a:ext cx="2438280" cy="126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46280" cy="1214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5157720"/>
            <a:ext cx="2438280" cy="1198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2205000"/>
            <a:ext cx="776520" cy="268200"/>
          </a:xfrm>
          <a:custGeom>
            <a:avLst/>
            <a:gdLst/>
            <a:ahLst/>
            <a:rect l="l" t="t" r="r" b="b"/>
            <a:pathLst>
              <a:path w="2159" h="745">
                <a:moveTo>
                  <a:pt x="3597" y="6127"/>
                </a:moveTo>
                <a:cubicBezTo>
                  <a:pt x="3597" y="6264"/>
                  <a:pt x="3603" y="6391"/>
                  <a:pt x="3621" y="6524"/>
                </a:cubicBezTo>
                <a:cubicBezTo>
                  <a:pt x="3635" y="6625"/>
                  <a:pt x="3585" y="6764"/>
                  <a:pt x="3646" y="6846"/>
                </a:cubicBezTo>
                <a:cubicBezTo>
                  <a:pt x="3646" y="6778"/>
                  <a:pt x="3655" y="6735"/>
                  <a:pt x="3671" y="6672"/>
                </a:cubicBezTo>
                <a:cubicBezTo>
                  <a:pt x="3683" y="6623"/>
                  <a:pt x="3674" y="6568"/>
                  <a:pt x="3696" y="6524"/>
                </a:cubicBezTo>
                <a:cubicBezTo>
                  <a:pt x="3714" y="6488"/>
                  <a:pt x="3752" y="6414"/>
                  <a:pt x="3795" y="6400"/>
                </a:cubicBezTo>
                <a:cubicBezTo>
                  <a:pt x="3848" y="6383"/>
                  <a:pt x="3946" y="6392"/>
                  <a:pt x="3994" y="6424"/>
                </a:cubicBezTo>
                <a:cubicBezTo>
                  <a:pt x="4041" y="6456"/>
                  <a:pt x="4049" y="6502"/>
                  <a:pt x="4068" y="6548"/>
                </a:cubicBezTo>
                <a:cubicBezTo>
                  <a:pt x="4090" y="6603"/>
                  <a:pt x="4080" y="6662"/>
                  <a:pt x="4043" y="6722"/>
                </a:cubicBezTo>
                <a:cubicBezTo>
                  <a:pt x="4017" y="6764"/>
                  <a:pt x="3958" y="6797"/>
                  <a:pt x="3919" y="6821"/>
                </a:cubicBezTo>
                <a:cubicBezTo>
                  <a:pt x="3860" y="6856"/>
                  <a:pt x="3819" y="6856"/>
                  <a:pt x="3770" y="6846"/>
                </a:cubicBezTo>
                <a:cubicBezTo>
                  <a:pt x="3738" y="6839"/>
                  <a:pt x="3686" y="6841"/>
                  <a:pt x="3746" y="6821"/>
                </a:cubicBezTo>
              </a:path>
              <a:path w="2159" h="745">
                <a:moveTo>
                  <a:pt x="4514" y="6474"/>
                </a:moveTo>
                <a:cubicBezTo>
                  <a:pt x="4574" y="6474"/>
                  <a:pt x="4615" y="6459"/>
                  <a:pt x="4663" y="6449"/>
                </a:cubicBezTo>
                <a:cubicBezTo>
                  <a:pt x="4727" y="6436"/>
                  <a:pt x="4760" y="6468"/>
                  <a:pt x="4812" y="6474"/>
                </a:cubicBezTo>
                <a:cubicBezTo>
                  <a:pt x="4820" y="6474"/>
                  <a:pt x="4829" y="6474"/>
                  <a:pt x="4837" y="6474"/>
                </a:cubicBezTo>
              </a:path>
              <a:path w="2159" h="745">
                <a:moveTo>
                  <a:pt x="4490" y="6672"/>
                </a:moveTo>
                <a:cubicBezTo>
                  <a:pt x="4573" y="6703"/>
                  <a:pt x="4583" y="6677"/>
                  <a:pt x="4663" y="6672"/>
                </a:cubicBezTo>
                <a:cubicBezTo>
                  <a:pt x="4729" y="6668"/>
                  <a:pt x="4786" y="6697"/>
                  <a:pt x="4862" y="6697"/>
                </a:cubicBezTo>
                <a:cubicBezTo>
                  <a:pt x="4870" y="6697"/>
                  <a:pt x="4879" y="6697"/>
                  <a:pt x="4887" y="6697"/>
                </a:cubicBezTo>
              </a:path>
              <a:path w="2159" h="745">
                <a:moveTo>
                  <a:pt x="5259" y="6251"/>
                </a:moveTo>
                <a:cubicBezTo>
                  <a:pt x="5346" y="6195"/>
                  <a:pt x="5384" y="6158"/>
                  <a:pt x="5482" y="6152"/>
                </a:cubicBezTo>
                <a:cubicBezTo>
                  <a:pt x="5513" y="6150"/>
                  <a:pt x="5568" y="6196"/>
                  <a:pt x="5581" y="6226"/>
                </a:cubicBezTo>
                <a:cubicBezTo>
                  <a:pt x="5595" y="6257"/>
                  <a:pt x="5569" y="6329"/>
                  <a:pt x="5556" y="6350"/>
                </a:cubicBezTo>
                <a:cubicBezTo>
                  <a:pt x="5541" y="6374"/>
                  <a:pt x="5483" y="6438"/>
                  <a:pt x="5457" y="6449"/>
                </a:cubicBezTo>
                <a:cubicBezTo>
                  <a:pt x="5426" y="6462"/>
                  <a:pt x="5486" y="6475"/>
                  <a:pt x="5507" y="6449"/>
                </a:cubicBezTo>
                <a:cubicBezTo>
                  <a:pt x="5540" y="6408"/>
                  <a:pt x="5521" y="6445"/>
                  <a:pt x="5581" y="6449"/>
                </a:cubicBezTo>
                <a:cubicBezTo>
                  <a:pt x="5659" y="6455"/>
                  <a:pt x="5687" y="6504"/>
                  <a:pt x="5730" y="6573"/>
                </a:cubicBezTo>
                <a:cubicBezTo>
                  <a:pt x="5744" y="6595"/>
                  <a:pt x="5773" y="6665"/>
                  <a:pt x="5755" y="6697"/>
                </a:cubicBezTo>
                <a:cubicBezTo>
                  <a:pt x="5731" y="6740"/>
                  <a:pt x="5676" y="6769"/>
                  <a:pt x="5631" y="6772"/>
                </a:cubicBezTo>
                <a:cubicBezTo>
                  <a:pt x="5540" y="6778"/>
                  <a:pt x="5459" y="6773"/>
                  <a:pt x="5383" y="6747"/>
                </a:cubicBezTo>
                <a:cubicBezTo>
                  <a:pt x="5375" y="6747"/>
                  <a:pt x="5366" y="6747"/>
                  <a:pt x="5358" y="6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0920" y="1768320"/>
            <a:ext cx="536400" cy="536760"/>
          </a:xfrm>
          <a:custGeom>
            <a:avLst/>
            <a:gdLst/>
            <a:ahLst/>
            <a:rect l="l" t="t" r="r" b="b"/>
            <a:pathLst>
              <a:path w="1489" h="1490">
                <a:moveTo>
                  <a:pt x="10021" y="5011"/>
                </a:moveTo>
                <a:cubicBezTo>
                  <a:pt x="10021" y="5058"/>
                  <a:pt x="10043" y="5090"/>
                  <a:pt x="10046" y="5135"/>
                </a:cubicBezTo>
                <a:cubicBezTo>
                  <a:pt x="10053" y="5232"/>
                  <a:pt x="10030" y="5315"/>
                  <a:pt x="10021" y="5407"/>
                </a:cubicBezTo>
                <a:cubicBezTo>
                  <a:pt x="10009" y="5529"/>
                  <a:pt x="10000" y="5657"/>
                  <a:pt x="9996" y="5779"/>
                </a:cubicBezTo>
                <a:cubicBezTo>
                  <a:pt x="9991" y="5940"/>
                  <a:pt x="10005" y="6098"/>
                  <a:pt x="10021" y="6251"/>
                </a:cubicBezTo>
                <a:cubicBezTo>
                  <a:pt x="10028" y="6314"/>
                  <a:pt x="10012" y="6414"/>
                  <a:pt x="10071" y="6375"/>
                </a:cubicBezTo>
              </a:path>
              <a:path w="1489" h="1490">
                <a:moveTo>
                  <a:pt x="9699" y="5011"/>
                </a:moveTo>
                <a:cubicBezTo>
                  <a:pt x="9783" y="4968"/>
                  <a:pt x="9877" y="4925"/>
                  <a:pt x="9971" y="4911"/>
                </a:cubicBezTo>
                <a:cubicBezTo>
                  <a:pt x="10069" y="4897"/>
                  <a:pt x="10201" y="4933"/>
                  <a:pt x="10294" y="4961"/>
                </a:cubicBezTo>
                <a:cubicBezTo>
                  <a:pt x="10378" y="4986"/>
                  <a:pt x="10486" y="5038"/>
                  <a:pt x="10542" y="5110"/>
                </a:cubicBezTo>
                <a:cubicBezTo>
                  <a:pt x="10613" y="5202"/>
                  <a:pt x="10535" y="5271"/>
                  <a:pt x="10492" y="5333"/>
                </a:cubicBezTo>
                <a:cubicBezTo>
                  <a:pt x="10452" y="5390"/>
                  <a:pt x="10406" y="5420"/>
                  <a:pt x="10344" y="5457"/>
                </a:cubicBezTo>
                <a:cubicBezTo>
                  <a:pt x="10309" y="5478"/>
                  <a:pt x="10214" y="5479"/>
                  <a:pt x="10195" y="5507"/>
                </a:cubicBezTo>
                <a:cubicBezTo>
                  <a:pt x="10195" y="5515"/>
                  <a:pt x="10195" y="5523"/>
                  <a:pt x="10195" y="5531"/>
                </a:cubicBezTo>
              </a:path>
              <a:path w="1489" h="1490">
                <a:moveTo>
                  <a:pt x="10840" y="5333"/>
                </a:moveTo>
                <a:cubicBezTo>
                  <a:pt x="10886" y="5297"/>
                  <a:pt x="10927" y="5308"/>
                  <a:pt x="10988" y="5308"/>
                </a:cubicBezTo>
                <a:cubicBezTo>
                  <a:pt x="10988" y="5308"/>
                  <a:pt x="11106" y="5255"/>
                  <a:pt x="11088" y="5308"/>
                </a:cubicBezTo>
                <a:cubicBezTo>
                  <a:pt x="11080" y="5308"/>
                  <a:pt x="11071" y="5308"/>
                  <a:pt x="11063" y="5308"/>
                </a:cubicBezTo>
              </a:path>
              <a:path w="1489" h="1490">
                <a:moveTo>
                  <a:pt x="10765" y="5507"/>
                </a:moveTo>
                <a:cubicBezTo>
                  <a:pt x="10881" y="5507"/>
                  <a:pt x="11095" y="5465"/>
                  <a:pt x="11187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41880" y="1633680"/>
            <a:ext cx="428400" cy="617400"/>
          </a:xfrm>
          <a:custGeom>
            <a:avLst/>
            <a:gdLst/>
            <a:ahLst/>
            <a:rect l="l" t="t" r="r" b="b"/>
            <a:pathLst>
              <a:path w="1192" h="1713">
                <a:moveTo>
                  <a:pt x="11857" y="4738"/>
                </a:moveTo>
                <a:cubicBezTo>
                  <a:pt x="11870" y="4720"/>
                  <a:pt x="11896" y="4645"/>
                  <a:pt x="11906" y="4638"/>
                </a:cubicBezTo>
                <a:cubicBezTo>
                  <a:pt x="11931" y="4621"/>
                  <a:pt x="12000" y="4571"/>
                  <a:pt x="12030" y="4564"/>
                </a:cubicBezTo>
                <a:cubicBezTo>
                  <a:pt x="12060" y="4558"/>
                  <a:pt x="12147" y="4521"/>
                  <a:pt x="12179" y="4539"/>
                </a:cubicBezTo>
                <a:cubicBezTo>
                  <a:pt x="12223" y="4564"/>
                  <a:pt x="12229" y="4564"/>
                  <a:pt x="12229" y="4614"/>
                </a:cubicBezTo>
                <a:cubicBezTo>
                  <a:pt x="12229" y="4685"/>
                  <a:pt x="12198" y="4729"/>
                  <a:pt x="12154" y="4787"/>
                </a:cubicBezTo>
                <a:cubicBezTo>
                  <a:pt x="12118" y="4835"/>
                  <a:pt x="12084" y="4882"/>
                  <a:pt x="12055" y="4936"/>
                </a:cubicBezTo>
                <a:cubicBezTo>
                  <a:pt x="12026" y="4990"/>
                  <a:pt x="11987" y="5034"/>
                  <a:pt x="11956" y="5085"/>
                </a:cubicBezTo>
                <a:cubicBezTo>
                  <a:pt x="11917" y="5149"/>
                  <a:pt x="11859" y="5196"/>
                  <a:pt x="11832" y="5259"/>
                </a:cubicBezTo>
                <a:cubicBezTo>
                  <a:pt x="11816" y="5296"/>
                  <a:pt x="11808" y="5324"/>
                  <a:pt x="11782" y="5358"/>
                </a:cubicBezTo>
                <a:cubicBezTo>
                  <a:pt x="11814" y="5350"/>
                  <a:pt x="11878" y="5324"/>
                  <a:pt x="11906" y="5308"/>
                </a:cubicBezTo>
                <a:cubicBezTo>
                  <a:pt x="11958" y="5279"/>
                  <a:pt x="11989" y="5283"/>
                  <a:pt x="12055" y="5283"/>
                </a:cubicBezTo>
                <a:cubicBezTo>
                  <a:pt x="12111" y="5283"/>
                  <a:pt x="12152" y="5262"/>
                  <a:pt x="12204" y="5259"/>
                </a:cubicBezTo>
                <a:cubicBezTo>
                  <a:pt x="12253" y="5256"/>
                  <a:pt x="12340" y="5277"/>
                  <a:pt x="12378" y="5234"/>
                </a:cubicBezTo>
                <a:cubicBezTo>
                  <a:pt x="12378" y="5206"/>
                  <a:pt x="12380" y="5195"/>
                  <a:pt x="12402" y="5184"/>
                </a:cubicBezTo>
              </a:path>
              <a:path w="1192" h="1713">
                <a:moveTo>
                  <a:pt x="12502" y="4638"/>
                </a:moveTo>
                <a:cubicBezTo>
                  <a:pt x="12554" y="4619"/>
                  <a:pt x="12621" y="4599"/>
                  <a:pt x="12675" y="4589"/>
                </a:cubicBezTo>
                <a:cubicBezTo>
                  <a:pt x="12765" y="4573"/>
                  <a:pt x="12857" y="4581"/>
                  <a:pt x="12948" y="4564"/>
                </a:cubicBezTo>
                <a:cubicBezTo>
                  <a:pt x="12956" y="4564"/>
                  <a:pt x="12965" y="4564"/>
                  <a:pt x="12973" y="4564"/>
                </a:cubicBezTo>
              </a:path>
              <a:path w="1192" h="1713">
                <a:moveTo>
                  <a:pt x="12700" y="4589"/>
                </a:moveTo>
                <a:cubicBezTo>
                  <a:pt x="12695" y="4664"/>
                  <a:pt x="12695" y="4764"/>
                  <a:pt x="12675" y="4837"/>
                </a:cubicBezTo>
                <a:cubicBezTo>
                  <a:pt x="12657" y="4901"/>
                  <a:pt x="12650" y="4942"/>
                  <a:pt x="12650" y="5011"/>
                </a:cubicBezTo>
                <a:cubicBezTo>
                  <a:pt x="12650" y="5069"/>
                  <a:pt x="12626" y="5097"/>
                  <a:pt x="12626" y="5159"/>
                </a:cubicBezTo>
                <a:cubicBezTo>
                  <a:pt x="12681" y="5145"/>
                  <a:pt x="12677" y="5114"/>
                  <a:pt x="12700" y="5060"/>
                </a:cubicBezTo>
              </a:path>
              <a:path w="1192" h="1713">
                <a:moveTo>
                  <a:pt x="12923" y="4589"/>
                </a:moveTo>
                <a:cubicBezTo>
                  <a:pt x="12923" y="4684"/>
                  <a:pt x="12928" y="4770"/>
                  <a:pt x="12898" y="4862"/>
                </a:cubicBezTo>
                <a:cubicBezTo>
                  <a:pt x="12871" y="4943"/>
                  <a:pt x="12893" y="4956"/>
                  <a:pt x="12898" y="5035"/>
                </a:cubicBezTo>
                <a:cubicBezTo>
                  <a:pt x="12902" y="5097"/>
                  <a:pt x="12923" y="5117"/>
                  <a:pt x="12923" y="5184"/>
                </a:cubicBezTo>
                <a:cubicBezTo>
                  <a:pt x="12923" y="5209"/>
                  <a:pt x="12923" y="5217"/>
                  <a:pt x="12923" y="5234"/>
                </a:cubicBezTo>
              </a:path>
              <a:path w="1192" h="1713">
                <a:moveTo>
                  <a:pt x="12030" y="5407"/>
                </a:moveTo>
                <a:cubicBezTo>
                  <a:pt x="12174" y="5407"/>
                  <a:pt x="12312" y="5398"/>
                  <a:pt x="12452" y="5383"/>
                </a:cubicBezTo>
                <a:cubicBezTo>
                  <a:pt x="12614" y="5366"/>
                  <a:pt x="12785" y="5383"/>
                  <a:pt x="12948" y="5383"/>
                </a:cubicBezTo>
                <a:cubicBezTo>
                  <a:pt x="12906" y="5414"/>
                  <a:pt x="12907" y="5407"/>
                  <a:pt x="12849" y="5407"/>
                </a:cubicBezTo>
              </a:path>
              <a:path w="1192" h="1713">
                <a:moveTo>
                  <a:pt x="12129" y="5655"/>
                </a:moveTo>
                <a:cubicBezTo>
                  <a:pt x="12162" y="5631"/>
                  <a:pt x="12212" y="5617"/>
                  <a:pt x="12254" y="5606"/>
                </a:cubicBezTo>
                <a:cubicBezTo>
                  <a:pt x="12308" y="5592"/>
                  <a:pt x="12344" y="5581"/>
                  <a:pt x="12402" y="5581"/>
                </a:cubicBezTo>
                <a:cubicBezTo>
                  <a:pt x="12456" y="5581"/>
                  <a:pt x="12482" y="5601"/>
                  <a:pt x="12526" y="5606"/>
                </a:cubicBezTo>
                <a:cubicBezTo>
                  <a:pt x="12554" y="5606"/>
                  <a:pt x="12565" y="5608"/>
                  <a:pt x="12576" y="5631"/>
                </a:cubicBezTo>
                <a:cubicBezTo>
                  <a:pt x="12565" y="5674"/>
                  <a:pt x="12535" y="5719"/>
                  <a:pt x="12502" y="5755"/>
                </a:cubicBezTo>
                <a:cubicBezTo>
                  <a:pt x="12483" y="5776"/>
                  <a:pt x="12357" y="5840"/>
                  <a:pt x="12328" y="5854"/>
                </a:cubicBezTo>
                <a:cubicBezTo>
                  <a:pt x="12310" y="5862"/>
                  <a:pt x="12224" y="5879"/>
                  <a:pt x="12278" y="5879"/>
                </a:cubicBezTo>
                <a:cubicBezTo>
                  <a:pt x="12324" y="5879"/>
                  <a:pt x="12337" y="5859"/>
                  <a:pt x="12378" y="5854"/>
                </a:cubicBezTo>
                <a:cubicBezTo>
                  <a:pt x="12434" y="5848"/>
                  <a:pt x="12458" y="5864"/>
                  <a:pt x="12502" y="5879"/>
                </a:cubicBezTo>
                <a:cubicBezTo>
                  <a:pt x="12528" y="5888"/>
                  <a:pt x="12591" y="5918"/>
                  <a:pt x="12601" y="5953"/>
                </a:cubicBezTo>
                <a:cubicBezTo>
                  <a:pt x="12625" y="6037"/>
                  <a:pt x="12620" y="6034"/>
                  <a:pt x="12601" y="6127"/>
                </a:cubicBezTo>
                <a:cubicBezTo>
                  <a:pt x="12589" y="6185"/>
                  <a:pt x="12573" y="6199"/>
                  <a:pt x="12526" y="6226"/>
                </a:cubicBezTo>
                <a:cubicBezTo>
                  <a:pt x="12468" y="6260"/>
                  <a:pt x="12419" y="6251"/>
                  <a:pt x="12353" y="6251"/>
                </a:cubicBezTo>
                <a:cubicBezTo>
                  <a:pt x="12260" y="6251"/>
                  <a:pt x="12183" y="6252"/>
                  <a:pt x="12105" y="6226"/>
                </a:cubicBezTo>
                <a:cubicBezTo>
                  <a:pt x="12080" y="6226"/>
                  <a:pt x="12072" y="6226"/>
                  <a:pt x="12105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38200" y="3303720"/>
            <a:ext cx="677880" cy="501480"/>
          </a:xfrm>
          <a:custGeom>
            <a:avLst/>
            <a:gdLst/>
            <a:ahLst/>
            <a:rect l="l" t="t" r="r" b="b"/>
            <a:pathLst>
              <a:path w="1886" h="1390">
                <a:moveTo>
                  <a:pt x="4018" y="9178"/>
                </a:moveTo>
                <a:cubicBezTo>
                  <a:pt x="4050" y="9251"/>
                  <a:pt x="4025" y="9264"/>
                  <a:pt x="4018" y="9302"/>
                </a:cubicBezTo>
                <a:cubicBezTo>
                  <a:pt x="3993" y="9441"/>
                  <a:pt x="4019" y="9614"/>
                  <a:pt x="4043" y="9748"/>
                </a:cubicBezTo>
                <a:cubicBezTo>
                  <a:pt x="4061" y="9846"/>
                  <a:pt x="4049" y="9947"/>
                  <a:pt x="4068" y="10046"/>
                </a:cubicBezTo>
                <a:cubicBezTo>
                  <a:pt x="4075" y="10084"/>
                  <a:pt x="4091" y="10138"/>
                  <a:pt x="4093" y="10145"/>
                </a:cubicBezTo>
                <a:cubicBezTo>
                  <a:pt x="4124" y="10259"/>
                  <a:pt x="4093" y="10105"/>
                  <a:pt x="4093" y="10071"/>
                </a:cubicBezTo>
                <a:cubicBezTo>
                  <a:pt x="4093" y="10023"/>
                  <a:pt x="4098" y="9962"/>
                  <a:pt x="4118" y="9922"/>
                </a:cubicBezTo>
                <a:cubicBezTo>
                  <a:pt x="4132" y="9894"/>
                  <a:pt x="4189" y="9830"/>
                  <a:pt x="4192" y="9823"/>
                </a:cubicBezTo>
                <a:cubicBezTo>
                  <a:pt x="4210" y="9775"/>
                  <a:pt x="4202" y="9713"/>
                  <a:pt x="4266" y="9699"/>
                </a:cubicBezTo>
                <a:cubicBezTo>
                  <a:pt x="4299" y="9692"/>
                  <a:pt x="4339" y="9665"/>
                  <a:pt x="4366" y="9699"/>
                </a:cubicBezTo>
                <a:cubicBezTo>
                  <a:pt x="4412" y="9756"/>
                  <a:pt x="4409" y="9762"/>
                  <a:pt x="4440" y="9823"/>
                </a:cubicBezTo>
                <a:cubicBezTo>
                  <a:pt x="4457" y="9856"/>
                  <a:pt x="4486" y="9925"/>
                  <a:pt x="4465" y="9971"/>
                </a:cubicBezTo>
                <a:cubicBezTo>
                  <a:pt x="4425" y="10060"/>
                  <a:pt x="4377" y="10084"/>
                  <a:pt x="4316" y="10120"/>
                </a:cubicBezTo>
                <a:cubicBezTo>
                  <a:pt x="4243" y="10163"/>
                  <a:pt x="4257" y="10195"/>
                  <a:pt x="4167" y="10195"/>
                </a:cubicBezTo>
                <a:cubicBezTo>
                  <a:pt x="4109" y="10195"/>
                  <a:pt x="4052" y="10195"/>
                  <a:pt x="3994" y="10195"/>
                </a:cubicBezTo>
                <a:cubicBezTo>
                  <a:pt x="4033" y="10135"/>
                  <a:pt x="4018" y="10157"/>
                  <a:pt x="4068" y="10120"/>
                </a:cubicBezTo>
              </a:path>
              <a:path w="1886" h="1390">
                <a:moveTo>
                  <a:pt x="4688" y="9847"/>
                </a:moveTo>
                <a:cubicBezTo>
                  <a:pt x="4771" y="9847"/>
                  <a:pt x="4853" y="9847"/>
                  <a:pt x="4936" y="9847"/>
                </a:cubicBezTo>
              </a:path>
              <a:path w="1886" h="1390">
                <a:moveTo>
                  <a:pt x="4614" y="9996"/>
                </a:moveTo>
                <a:cubicBezTo>
                  <a:pt x="4721" y="10055"/>
                  <a:pt x="4786" y="10046"/>
                  <a:pt x="4911" y="10046"/>
                </a:cubicBezTo>
                <a:cubicBezTo>
                  <a:pt x="4928" y="10046"/>
                  <a:pt x="4944" y="10046"/>
                  <a:pt x="4961" y="10046"/>
                </a:cubicBezTo>
              </a:path>
              <a:path w="1886" h="1390">
                <a:moveTo>
                  <a:pt x="5556" y="9227"/>
                </a:moveTo>
                <a:cubicBezTo>
                  <a:pt x="5556" y="9295"/>
                  <a:pt x="5570" y="9346"/>
                  <a:pt x="5581" y="9401"/>
                </a:cubicBezTo>
                <a:cubicBezTo>
                  <a:pt x="5599" y="9493"/>
                  <a:pt x="5583" y="9613"/>
                  <a:pt x="5606" y="9674"/>
                </a:cubicBezTo>
                <a:cubicBezTo>
                  <a:pt x="5606" y="9707"/>
                  <a:pt x="5606" y="9723"/>
                  <a:pt x="5606" y="9748"/>
                </a:cubicBezTo>
              </a:path>
              <a:path w="1886" h="1390">
                <a:moveTo>
                  <a:pt x="5283" y="9823"/>
                </a:moveTo>
                <a:cubicBezTo>
                  <a:pt x="5371" y="9838"/>
                  <a:pt x="5413" y="9814"/>
                  <a:pt x="5482" y="9823"/>
                </a:cubicBezTo>
                <a:cubicBezTo>
                  <a:pt x="5561" y="9833"/>
                  <a:pt x="5623" y="9847"/>
                  <a:pt x="5705" y="9847"/>
                </a:cubicBezTo>
                <a:cubicBezTo>
                  <a:pt x="5763" y="9847"/>
                  <a:pt x="5821" y="9847"/>
                  <a:pt x="5879" y="9847"/>
                </a:cubicBezTo>
              </a:path>
              <a:path w="1886" h="1390">
                <a:moveTo>
                  <a:pt x="5482" y="9996"/>
                </a:moveTo>
                <a:cubicBezTo>
                  <a:pt x="5482" y="10013"/>
                  <a:pt x="5482" y="10029"/>
                  <a:pt x="5482" y="10046"/>
                </a:cubicBezTo>
                <a:cubicBezTo>
                  <a:pt x="5495" y="9969"/>
                  <a:pt x="5523" y="9996"/>
                  <a:pt x="5606" y="9996"/>
                </a:cubicBezTo>
                <a:cubicBezTo>
                  <a:pt x="5712" y="9996"/>
                  <a:pt x="5732" y="10003"/>
                  <a:pt x="5804" y="10046"/>
                </a:cubicBezTo>
                <a:cubicBezTo>
                  <a:pt x="5829" y="10046"/>
                  <a:pt x="5837" y="10046"/>
                  <a:pt x="5829" y="10071"/>
                </a:cubicBezTo>
                <a:cubicBezTo>
                  <a:pt x="5796" y="10087"/>
                  <a:pt x="5772" y="10136"/>
                  <a:pt x="5730" y="10145"/>
                </a:cubicBezTo>
                <a:cubicBezTo>
                  <a:pt x="5664" y="10159"/>
                  <a:pt x="5673" y="10195"/>
                  <a:pt x="5606" y="10195"/>
                </a:cubicBezTo>
                <a:cubicBezTo>
                  <a:pt x="5581" y="10195"/>
                  <a:pt x="5573" y="10195"/>
                  <a:pt x="5556" y="10195"/>
                </a:cubicBezTo>
                <a:cubicBezTo>
                  <a:pt x="5571" y="10267"/>
                  <a:pt x="5599" y="10247"/>
                  <a:pt x="5631" y="10294"/>
                </a:cubicBezTo>
                <a:cubicBezTo>
                  <a:pt x="5669" y="10350"/>
                  <a:pt x="5680" y="10377"/>
                  <a:pt x="5680" y="10443"/>
                </a:cubicBezTo>
                <a:cubicBezTo>
                  <a:pt x="5680" y="10539"/>
                  <a:pt x="5616" y="10559"/>
                  <a:pt x="5531" y="10567"/>
                </a:cubicBezTo>
                <a:cubicBezTo>
                  <a:pt x="5426" y="10577"/>
                  <a:pt x="5423" y="10517"/>
                  <a:pt x="5333" y="10492"/>
                </a:cubicBezTo>
                <a:cubicBezTo>
                  <a:pt x="5255" y="10470"/>
                  <a:pt x="5223" y="10407"/>
                  <a:pt x="515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44840" y="2509920"/>
            <a:ext cx="44280" cy="303120"/>
          </a:xfrm>
          <a:custGeom>
            <a:avLst/>
            <a:gdLst/>
            <a:ahLst/>
            <a:rect l="l" t="t" r="r" b="b"/>
            <a:pathLst>
              <a:path w="125" h="844">
                <a:moveTo>
                  <a:pt x="7069" y="6970"/>
                </a:moveTo>
                <a:cubicBezTo>
                  <a:pt x="7069" y="7147"/>
                  <a:pt x="7067" y="7322"/>
                  <a:pt x="7094" y="7491"/>
                </a:cubicBezTo>
                <a:cubicBezTo>
                  <a:pt x="7104" y="7554"/>
                  <a:pt x="7092" y="7631"/>
                  <a:pt x="7119" y="7689"/>
                </a:cubicBezTo>
                <a:cubicBezTo>
                  <a:pt x="7129" y="7709"/>
                  <a:pt x="7155" y="7804"/>
                  <a:pt x="7169" y="7813"/>
                </a:cubicBezTo>
                <a:cubicBezTo>
                  <a:pt x="7177" y="7813"/>
                  <a:pt x="7185" y="7813"/>
                  <a:pt x="7193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1800" y="2928960"/>
            <a:ext cx="428400" cy="393840"/>
          </a:xfrm>
          <a:custGeom>
            <a:avLst/>
            <a:gdLst/>
            <a:ahLst/>
            <a:rect l="l" t="t" r="r" b="b"/>
            <a:pathLst>
              <a:path w="1192" h="1092">
                <a:moveTo>
                  <a:pt x="9153" y="8310"/>
                </a:moveTo>
                <a:cubicBezTo>
                  <a:pt x="9169" y="8355"/>
                  <a:pt x="9178" y="8333"/>
                  <a:pt x="9178" y="8409"/>
                </a:cubicBezTo>
                <a:cubicBezTo>
                  <a:pt x="9178" y="8487"/>
                  <a:pt x="9198" y="8554"/>
                  <a:pt x="9203" y="8632"/>
                </a:cubicBezTo>
                <a:cubicBezTo>
                  <a:pt x="9210" y="8744"/>
                  <a:pt x="9211" y="8846"/>
                  <a:pt x="9227" y="8954"/>
                </a:cubicBezTo>
                <a:cubicBezTo>
                  <a:pt x="9241" y="9052"/>
                  <a:pt x="9277" y="9323"/>
                  <a:pt x="9252" y="9227"/>
                </a:cubicBezTo>
                <a:cubicBezTo>
                  <a:pt x="9232" y="9187"/>
                  <a:pt x="9223" y="9181"/>
                  <a:pt x="9227" y="9153"/>
                </a:cubicBezTo>
              </a:path>
              <a:path w="1192" h="1092">
                <a:moveTo>
                  <a:pt x="9004" y="8260"/>
                </a:moveTo>
                <a:cubicBezTo>
                  <a:pt x="9066" y="8216"/>
                  <a:pt x="9164" y="8121"/>
                  <a:pt x="9252" y="8136"/>
                </a:cubicBezTo>
                <a:cubicBezTo>
                  <a:pt x="9356" y="8154"/>
                  <a:pt x="9464" y="8165"/>
                  <a:pt x="9550" y="8235"/>
                </a:cubicBezTo>
                <a:cubicBezTo>
                  <a:pt x="9615" y="8288"/>
                  <a:pt x="9678" y="8343"/>
                  <a:pt x="9649" y="8434"/>
                </a:cubicBezTo>
                <a:cubicBezTo>
                  <a:pt x="9625" y="8509"/>
                  <a:pt x="9580" y="8536"/>
                  <a:pt x="9525" y="8558"/>
                </a:cubicBezTo>
                <a:cubicBezTo>
                  <a:pt x="9452" y="8587"/>
                  <a:pt x="9417" y="8621"/>
                  <a:pt x="9351" y="8632"/>
                </a:cubicBezTo>
                <a:cubicBezTo>
                  <a:pt x="9327" y="8632"/>
                  <a:pt x="9318" y="8632"/>
                  <a:pt x="9302" y="8632"/>
                </a:cubicBezTo>
              </a:path>
              <a:path w="1192" h="1092">
                <a:moveTo>
                  <a:pt x="9872" y="8409"/>
                </a:moveTo>
                <a:cubicBezTo>
                  <a:pt x="10013" y="8409"/>
                  <a:pt x="10004" y="8366"/>
                  <a:pt x="10120" y="8409"/>
                </a:cubicBezTo>
              </a:path>
              <a:path w="1192" h="1092">
                <a:moveTo>
                  <a:pt x="9847" y="8582"/>
                </a:moveTo>
                <a:cubicBezTo>
                  <a:pt x="9961" y="8582"/>
                  <a:pt x="10058" y="8575"/>
                  <a:pt x="10170" y="8558"/>
                </a:cubicBezTo>
                <a:cubicBezTo>
                  <a:pt x="10178" y="8558"/>
                  <a:pt x="10187" y="8558"/>
                  <a:pt x="10195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7760" y="2741760"/>
            <a:ext cx="758520" cy="339480"/>
          </a:xfrm>
          <a:custGeom>
            <a:avLst/>
            <a:gdLst/>
            <a:ahLst/>
            <a:rect l="l" t="t" r="r" b="b"/>
            <a:pathLst>
              <a:path w="2109" h="944">
                <a:moveTo>
                  <a:pt x="10765" y="7813"/>
                </a:moveTo>
                <a:cubicBezTo>
                  <a:pt x="10758" y="7864"/>
                  <a:pt x="10757" y="7899"/>
                  <a:pt x="10716" y="7913"/>
                </a:cubicBezTo>
                <a:cubicBezTo>
                  <a:pt x="10725" y="7873"/>
                  <a:pt x="10758" y="7853"/>
                  <a:pt x="10765" y="7838"/>
                </a:cubicBezTo>
                <a:cubicBezTo>
                  <a:pt x="10778" y="7812"/>
                  <a:pt x="10782" y="7755"/>
                  <a:pt x="10815" y="7739"/>
                </a:cubicBezTo>
                <a:cubicBezTo>
                  <a:pt x="10856" y="7719"/>
                  <a:pt x="10915" y="7701"/>
                  <a:pt x="10964" y="7689"/>
                </a:cubicBezTo>
                <a:cubicBezTo>
                  <a:pt x="11006" y="7679"/>
                  <a:pt x="11027" y="7724"/>
                  <a:pt x="11038" y="7739"/>
                </a:cubicBezTo>
                <a:cubicBezTo>
                  <a:pt x="11076" y="7790"/>
                  <a:pt x="11101" y="7821"/>
                  <a:pt x="11112" y="7888"/>
                </a:cubicBezTo>
                <a:cubicBezTo>
                  <a:pt x="11128" y="7990"/>
                  <a:pt x="11103" y="8092"/>
                  <a:pt x="11088" y="8186"/>
                </a:cubicBezTo>
                <a:cubicBezTo>
                  <a:pt x="11076" y="8258"/>
                  <a:pt x="11035" y="8292"/>
                  <a:pt x="11013" y="8334"/>
                </a:cubicBezTo>
                <a:cubicBezTo>
                  <a:pt x="10988" y="8381"/>
                  <a:pt x="10942" y="8458"/>
                  <a:pt x="10889" y="8483"/>
                </a:cubicBezTo>
                <a:cubicBezTo>
                  <a:pt x="10831" y="8510"/>
                  <a:pt x="10737" y="8481"/>
                  <a:pt x="10716" y="8434"/>
                </a:cubicBezTo>
                <a:cubicBezTo>
                  <a:pt x="10693" y="8383"/>
                  <a:pt x="10733" y="8348"/>
                  <a:pt x="10740" y="8334"/>
                </a:cubicBezTo>
                <a:cubicBezTo>
                  <a:pt x="10753" y="8308"/>
                  <a:pt x="10773" y="8290"/>
                  <a:pt x="10815" y="8285"/>
                </a:cubicBezTo>
                <a:cubicBezTo>
                  <a:pt x="10868" y="8279"/>
                  <a:pt x="10924" y="8278"/>
                  <a:pt x="10964" y="8310"/>
                </a:cubicBezTo>
                <a:cubicBezTo>
                  <a:pt x="10998" y="8337"/>
                  <a:pt x="11050" y="8347"/>
                  <a:pt x="11088" y="8359"/>
                </a:cubicBezTo>
                <a:cubicBezTo>
                  <a:pt x="11138" y="8374"/>
                  <a:pt x="11124" y="8409"/>
                  <a:pt x="11187" y="8409"/>
                </a:cubicBezTo>
                <a:cubicBezTo>
                  <a:pt x="11212" y="8409"/>
                  <a:pt x="11220" y="8409"/>
                  <a:pt x="11237" y="8409"/>
                </a:cubicBezTo>
              </a:path>
              <a:path w="2109" h="944">
                <a:moveTo>
                  <a:pt x="11485" y="7689"/>
                </a:moveTo>
                <a:cubicBezTo>
                  <a:pt x="11606" y="7689"/>
                  <a:pt x="11804" y="7724"/>
                  <a:pt x="11906" y="7665"/>
                </a:cubicBezTo>
              </a:path>
              <a:path w="2109" h="944">
                <a:moveTo>
                  <a:pt x="11633" y="7615"/>
                </a:moveTo>
                <a:cubicBezTo>
                  <a:pt x="11607" y="7726"/>
                  <a:pt x="11584" y="7801"/>
                  <a:pt x="11584" y="7913"/>
                </a:cubicBezTo>
                <a:cubicBezTo>
                  <a:pt x="11584" y="8020"/>
                  <a:pt x="11584" y="8128"/>
                  <a:pt x="11584" y="8235"/>
                </a:cubicBezTo>
              </a:path>
              <a:path w="2109" h="944">
                <a:moveTo>
                  <a:pt x="11881" y="7640"/>
                </a:moveTo>
                <a:cubicBezTo>
                  <a:pt x="11921" y="7705"/>
                  <a:pt x="11886" y="7718"/>
                  <a:pt x="11881" y="7789"/>
                </a:cubicBezTo>
                <a:cubicBezTo>
                  <a:pt x="11875" y="7875"/>
                  <a:pt x="11857" y="7949"/>
                  <a:pt x="11857" y="8037"/>
                </a:cubicBezTo>
                <a:cubicBezTo>
                  <a:pt x="11857" y="8106"/>
                  <a:pt x="11895" y="8177"/>
                  <a:pt x="11906" y="8235"/>
                </a:cubicBezTo>
                <a:cubicBezTo>
                  <a:pt x="11906" y="8277"/>
                  <a:pt x="11906" y="8285"/>
                  <a:pt x="11906" y="8310"/>
                </a:cubicBezTo>
              </a:path>
              <a:path w="2109" h="944">
                <a:moveTo>
                  <a:pt x="12452" y="8310"/>
                </a:moveTo>
                <a:cubicBezTo>
                  <a:pt x="12522" y="8301"/>
                  <a:pt x="12576" y="8285"/>
                  <a:pt x="12650" y="8285"/>
                </a:cubicBezTo>
                <a:cubicBezTo>
                  <a:pt x="12706" y="8285"/>
                  <a:pt x="12720" y="8310"/>
                  <a:pt x="12774" y="8310"/>
                </a:cubicBezTo>
              </a:path>
              <a:path w="2109" h="944">
                <a:moveTo>
                  <a:pt x="12452" y="8558"/>
                </a:moveTo>
                <a:cubicBezTo>
                  <a:pt x="12576" y="8558"/>
                  <a:pt x="12700" y="8558"/>
                  <a:pt x="12824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22920" y="2652840"/>
            <a:ext cx="2000160" cy="892080"/>
          </a:xfrm>
          <a:custGeom>
            <a:avLst/>
            <a:gdLst/>
            <a:ahLst/>
            <a:rect l="l" t="t" r="r" b="b"/>
            <a:pathLst>
              <a:path w="5557" h="2481">
                <a:moveTo>
                  <a:pt x="13494" y="7764"/>
                </a:moveTo>
                <a:cubicBezTo>
                  <a:pt x="13500" y="7739"/>
                  <a:pt x="13507" y="7687"/>
                  <a:pt x="13519" y="7665"/>
                </a:cubicBezTo>
                <a:cubicBezTo>
                  <a:pt x="13537" y="7631"/>
                  <a:pt x="13572" y="7600"/>
                  <a:pt x="13593" y="7590"/>
                </a:cubicBezTo>
                <a:cubicBezTo>
                  <a:pt x="13647" y="7565"/>
                  <a:pt x="13659" y="7541"/>
                  <a:pt x="13717" y="7541"/>
                </a:cubicBezTo>
                <a:cubicBezTo>
                  <a:pt x="13774" y="7541"/>
                  <a:pt x="13787" y="7553"/>
                  <a:pt x="13816" y="7590"/>
                </a:cubicBezTo>
                <a:cubicBezTo>
                  <a:pt x="13864" y="7652"/>
                  <a:pt x="13866" y="7686"/>
                  <a:pt x="13866" y="7764"/>
                </a:cubicBezTo>
                <a:cubicBezTo>
                  <a:pt x="13866" y="7852"/>
                  <a:pt x="13845" y="7927"/>
                  <a:pt x="13841" y="8012"/>
                </a:cubicBezTo>
                <a:cubicBezTo>
                  <a:pt x="13837" y="8088"/>
                  <a:pt x="13821" y="8166"/>
                  <a:pt x="13791" y="8235"/>
                </a:cubicBezTo>
                <a:cubicBezTo>
                  <a:pt x="13772" y="8280"/>
                  <a:pt x="13731" y="8379"/>
                  <a:pt x="13692" y="8409"/>
                </a:cubicBezTo>
                <a:cubicBezTo>
                  <a:pt x="13654" y="8438"/>
                  <a:pt x="13587" y="8476"/>
                  <a:pt x="13543" y="8483"/>
                </a:cubicBezTo>
                <a:cubicBezTo>
                  <a:pt x="13441" y="8500"/>
                  <a:pt x="13478" y="8468"/>
                  <a:pt x="13419" y="8409"/>
                </a:cubicBezTo>
                <a:cubicBezTo>
                  <a:pt x="13392" y="8381"/>
                  <a:pt x="13381" y="8353"/>
                  <a:pt x="13419" y="8310"/>
                </a:cubicBezTo>
                <a:cubicBezTo>
                  <a:pt x="13460" y="8264"/>
                  <a:pt x="13510" y="8278"/>
                  <a:pt x="13543" y="8285"/>
                </a:cubicBezTo>
                <a:cubicBezTo>
                  <a:pt x="13564" y="8290"/>
                  <a:pt x="13658" y="8323"/>
                  <a:pt x="13667" y="8334"/>
                </a:cubicBezTo>
                <a:cubicBezTo>
                  <a:pt x="13680" y="8350"/>
                  <a:pt x="13716" y="8421"/>
                  <a:pt x="13717" y="8434"/>
                </a:cubicBezTo>
                <a:cubicBezTo>
                  <a:pt x="13718" y="8446"/>
                  <a:pt x="13732" y="8544"/>
                  <a:pt x="13742" y="8558"/>
                </a:cubicBezTo>
                <a:cubicBezTo>
                  <a:pt x="13750" y="8558"/>
                  <a:pt x="13759" y="8558"/>
                  <a:pt x="13767" y="8558"/>
                </a:cubicBezTo>
              </a:path>
              <a:path w="5557" h="2481">
                <a:moveTo>
                  <a:pt x="14188" y="7838"/>
                </a:moveTo>
                <a:cubicBezTo>
                  <a:pt x="14207" y="7928"/>
                  <a:pt x="14213" y="7995"/>
                  <a:pt x="14213" y="8086"/>
                </a:cubicBezTo>
                <a:cubicBezTo>
                  <a:pt x="14213" y="8153"/>
                  <a:pt x="14223" y="8180"/>
                  <a:pt x="14238" y="8210"/>
                </a:cubicBezTo>
                <a:cubicBezTo>
                  <a:pt x="14248" y="8230"/>
                  <a:pt x="14240" y="8220"/>
                  <a:pt x="14288" y="8186"/>
                </a:cubicBezTo>
              </a:path>
              <a:path w="5557" h="2481">
                <a:moveTo>
                  <a:pt x="14461" y="7640"/>
                </a:moveTo>
                <a:cubicBezTo>
                  <a:pt x="14475" y="7767"/>
                  <a:pt x="14469" y="7937"/>
                  <a:pt x="14511" y="8062"/>
                </a:cubicBezTo>
                <a:cubicBezTo>
                  <a:pt x="14532" y="8124"/>
                  <a:pt x="14549" y="8196"/>
                  <a:pt x="14560" y="8260"/>
                </a:cubicBezTo>
                <a:cubicBezTo>
                  <a:pt x="14568" y="8308"/>
                  <a:pt x="14541" y="8370"/>
                  <a:pt x="14585" y="8409"/>
                </a:cubicBezTo>
                <a:cubicBezTo>
                  <a:pt x="14593" y="8409"/>
                  <a:pt x="14602" y="8409"/>
                  <a:pt x="14610" y="8409"/>
                </a:cubicBezTo>
              </a:path>
              <a:path w="5557" h="2481">
                <a:moveTo>
                  <a:pt x="14064" y="7689"/>
                </a:moveTo>
                <a:cubicBezTo>
                  <a:pt x="14100" y="7654"/>
                  <a:pt x="14136" y="7624"/>
                  <a:pt x="14188" y="7615"/>
                </a:cubicBezTo>
                <a:cubicBezTo>
                  <a:pt x="14265" y="7601"/>
                  <a:pt x="14316" y="7557"/>
                  <a:pt x="14387" y="7541"/>
                </a:cubicBezTo>
                <a:cubicBezTo>
                  <a:pt x="14458" y="7525"/>
                  <a:pt x="14514" y="7488"/>
                  <a:pt x="14585" y="7466"/>
                </a:cubicBezTo>
                <a:cubicBezTo>
                  <a:pt x="14618" y="7466"/>
                  <a:pt x="14635" y="7466"/>
                  <a:pt x="14660" y="7466"/>
                </a:cubicBezTo>
              </a:path>
              <a:path w="5557" h="2481">
                <a:moveTo>
                  <a:pt x="15032" y="8334"/>
                </a:moveTo>
                <a:cubicBezTo>
                  <a:pt x="14973" y="8334"/>
                  <a:pt x="14993" y="8349"/>
                  <a:pt x="15007" y="8310"/>
                </a:cubicBezTo>
              </a:path>
              <a:path w="5557" h="2481">
                <a:moveTo>
                  <a:pt x="15478" y="7565"/>
                </a:moveTo>
                <a:cubicBezTo>
                  <a:pt x="15469" y="7505"/>
                  <a:pt x="15440" y="7481"/>
                  <a:pt x="15503" y="7441"/>
                </a:cubicBezTo>
                <a:cubicBezTo>
                  <a:pt x="15571" y="7398"/>
                  <a:pt x="15646" y="7371"/>
                  <a:pt x="15726" y="7367"/>
                </a:cubicBezTo>
                <a:cubicBezTo>
                  <a:pt x="15808" y="7363"/>
                  <a:pt x="15863" y="7361"/>
                  <a:pt x="15925" y="7417"/>
                </a:cubicBezTo>
                <a:cubicBezTo>
                  <a:pt x="15974" y="7461"/>
                  <a:pt x="15921" y="7576"/>
                  <a:pt x="15875" y="7615"/>
                </a:cubicBezTo>
                <a:cubicBezTo>
                  <a:pt x="15834" y="7650"/>
                  <a:pt x="15791" y="7674"/>
                  <a:pt x="15751" y="7714"/>
                </a:cubicBezTo>
                <a:cubicBezTo>
                  <a:pt x="15713" y="7752"/>
                  <a:pt x="15684" y="7739"/>
                  <a:pt x="15751" y="7739"/>
                </a:cubicBezTo>
                <a:cubicBezTo>
                  <a:pt x="15818" y="7739"/>
                  <a:pt x="15869" y="7747"/>
                  <a:pt x="15925" y="7764"/>
                </a:cubicBezTo>
                <a:cubicBezTo>
                  <a:pt x="15944" y="7770"/>
                  <a:pt x="16005" y="7810"/>
                  <a:pt x="15999" y="7838"/>
                </a:cubicBezTo>
                <a:cubicBezTo>
                  <a:pt x="15990" y="7880"/>
                  <a:pt x="15931" y="7931"/>
                  <a:pt x="15900" y="7962"/>
                </a:cubicBezTo>
                <a:cubicBezTo>
                  <a:pt x="15853" y="8009"/>
                  <a:pt x="15807" y="8053"/>
                  <a:pt x="15751" y="8086"/>
                </a:cubicBezTo>
                <a:cubicBezTo>
                  <a:pt x="15739" y="8093"/>
                  <a:pt x="15620" y="8160"/>
                  <a:pt x="15627" y="8186"/>
                </a:cubicBezTo>
                <a:cubicBezTo>
                  <a:pt x="15635" y="8186"/>
                  <a:pt x="15644" y="8186"/>
                  <a:pt x="15652" y="8186"/>
                </a:cubicBezTo>
              </a:path>
              <a:path w="5557" h="2481">
                <a:moveTo>
                  <a:pt x="15478" y="8409"/>
                </a:moveTo>
                <a:cubicBezTo>
                  <a:pt x="15612" y="8409"/>
                  <a:pt x="15696" y="8387"/>
                  <a:pt x="15801" y="8359"/>
                </a:cubicBezTo>
                <a:cubicBezTo>
                  <a:pt x="15861" y="8343"/>
                  <a:pt x="15962" y="8337"/>
                  <a:pt x="16024" y="8334"/>
                </a:cubicBezTo>
                <a:cubicBezTo>
                  <a:pt x="16057" y="8332"/>
                  <a:pt x="16128" y="8335"/>
                  <a:pt x="16148" y="8359"/>
                </a:cubicBezTo>
                <a:cubicBezTo>
                  <a:pt x="16156" y="8376"/>
                  <a:pt x="16165" y="8392"/>
                  <a:pt x="16173" y="8409"/>
                </a:cubicBezTo>
              </a:path>
              <a:path w="5557" h="2481">
                <a:moveTo>
                  <a:pt x="15652" y="8855"/>
                </a:moveTo>
                <a:cubicBezTo>
                  <a:pt x="15652" y="8943"/>
                  <a:pt x="15673" y="9020"/>
                  <a:pt x="15677" y="9103"/>
                </a:cubicBezTo>
                <a:cubicBezTo>
                  <a:pt x="15682" y="9198"/>
                  <a:pt x="15701" y="9278"/>
                  <a:pt x="15701" y="9376"/>
                </a:cubicBezTo>
                <a:cubicBezTo>
                  <a:pt x="15701" y="9456"/>
                  <a:pt x="15680" y="9521"/>
                  <a:pt x="15677" y="9599"/>
                </a:cubicBezTo>
                <a:cubicBezTo>
                  <a:pt x="15674" y="9677"/>
                  <a:pt x="15640" y="9708"/>
                  <a:pt x="15627" y="9773"/>
                </a:cubicBezTo>
                <a:cubicBezTo>
                  <a:pt x="15610" y="9855"/>
                  <a:pt x="15621" y="9793"/>
                  <a:pt x="15602" y="9847"/>
                </a:cubicBezTo>
              </a:path>
              <a:path w="5557" h="2481">
                <a:moveTo>
                  <a:pt x="16619" y="8310"/>
                </a:moveTo>
                <a:cubicBezTo>
                  <a:pt x="16674" y="8310"/>
                  <a:pt x="16772" y="8338"/>
                  <a:pt x="16818" y="8334"/>
                </a:cubicBezTo>
                <a:cubicBezTo>
                  <a:pt x="16875" y="8328"/>
                  <a:pt x="16928" y="8310"/>
                  <a:pt x="16991" y="8310"/>
                </a:cubicBezTo>
                <a:cubicBezTo>
                  <a:pt x="17024" y="8310"/>
                  <a:pt x="17057" y="8310"/>
                  <a:pt x="17090" y="8310"/>
                </a:cubicBezTo>
              </a:path>
              <a:path w="5557" h="2481">
                <a:moveTo>
                  <a:pt x="16942" y="8483"/>
                </a:moveTo>
                <a:cubicBezTo>
                  <a:pt x="16991" y="8483"/>
                  <a:pt x="17041" y="8483"/>
                  <a:pt x="17090" y="8483"/>
                </a:cubicBezTo>
              </a:path>
              <a:path w="5557" h="2481">
                <a:moveTo>
                  <a:pt x="17711" y="7565"/>
                </a:moveTo>
                <a:cubicBezTo>
                  <a:pt x="17672" y="7578"/>
                  <a:pt x="17685" y="7605"/>
                  <a:pt x="17661" y="7640"/>
                </a:cubicBezTo>
                <a:cubicBezTo>
                  <a:pt x="17637" y="7676"/>
                  <a:pt x="17627" y="7701"/>
                  <a:pt x="17611" y="7739"/>
                </a:cubicBezTo>
                <a:cubicBezTo>
                  <a:pt x="17587" y="7798"/>
                  <a:pt x="17551" y="7876"/>
                  <a:pt x="17537" y="7938"/>
                </a:cubicBezTo>
                <a:cubicBezTo>
                  <a:pt x="17518" y="8024"/>
                  <a:pt x="17497" y="8103"/>
                  <a:pt x="17462" y="8186"/>
                </a:cubicBezTo>
                <a:cubicBezTo>
                  <a:pt x="17434" y="8253"/>
                  <a:pt x="17395" y="8336"/>
                  <a:pt x="17388" y="8409"/>
                </a:cubicBezTo>
                <a:cubicBezTo>
                  <a:pt x="17379" y="8497"/>
                  <a:pt x="17369" y="8582"/>
                  <a:pt x="17388" y="8632"/>
                </a:cubicBezTo>
                <a:cubicBezTo>
                  <a:pt x="17416" y="8706"/>
                  <a:pt x="17404" y="8706"/>
                  <a:pt x="17487" y="8706"/>
                </a:cubicBezTo>
                <a:cubicBezTo>
                  <a:pt x="17573" y="8706"/>
                  <a:pt x="17552" y="8704"/>
                  <a:pt x="17611" y="8657"/>
                </a:cubicBezTo>
                <a:cubicBezTo>
                  <a:pt x="17679" y="8604"/>
                  <a:pt x="17686" y="8657"/>
                  <a:pt x="17686" y="8558"/>
                </a:cubicBezTo>
                <a:cubicBezTo>
                  <a:pt x="17686" y="8503"/>
                  <a:pt x="17684" y="8465"/>
                  <a:pt x="17636" y="8434"/>
                </a:cubicBezTo>
                <a:cubicBezTo>
                  <a:pt x="17628" y="8434"/>
                  <a:pt x="17619" y="8434"/>
                  <a:pt x="17611" y="8434"/>
                </a:cubicBezTo>
                <a:cubicBezTo>
                  <a:pt x="17586" y="8472"/>
                  <a:pt x="17525" y="8533"/>
                  <a:pt x="17512" y="8558"/>
                </a:cubicBezTo>
                <a:cubicBezTo>
                  <a:pt x="17480" y="8622"/>
                  <a:pt x="17462" y="8662"/>
                  <a:pt x="17462" y="8731"/>
                </a:cubicBezTo>
              </a:path>
              <a:path w="5557" h="2481">
                <a:moveTo>
                  <a:pt x="17983" y="7913"/>
                </a:moveTo>
                <a:cubicBezTo>
                  <a:pt x="17975" y="7905"/>
                  <a:pt x="17967" y="7896"/>
                  <a:pt x="17959" y="7888"/>
                </a:cubicBezTo>
                <a:cubicBezTo>
                  <a:pt x="17989" y="7847"/>
                  <a:pt x="17988" y="7838"/>
                  <a:pt x="18033" y="7813"/>
                </a:cubicBezTo>
                <a:cubicBezTo>
                  <a:pt x="18101" y="7775"/>
                  <a:pt x="18161" y="7757"/>
                  <a:pt x="18231" y="7739"/>
                </a:cubicBezTo>
                <a:cubicBezTo>
                  <a:pt x="18325" y="7714"/>
                  <a:pt x="18414" y="7710"/>
                  <a:pt x="18504" y="7689"/>
                </a:cubicBezTo>
                <a:cubicBezTo>
                  <a:pt x="18601" y="7667"/>
                  <a:pt x="18661" y="7667"/>
                  <a:pt x="18752" y="7689"/>
                </a:cubicBezTo>
                <a:cubicBezTo>
                  <a:pt x="18759" y="7691"/>
                  <a:pt x="18845" y="7689"/>
                  <a:pt x="18777" y="7689"/>
                </a:cubicBezTo>
              </a:path>
              <a:path w="5557" h="2481">
                <a:moveTo>
                  <a:pt x="18355" y="8062"/>
                </a:moveTo>
                <a:cubicBezTo>
                  <a:pt x="18375" y="8194"/>
                  <a:pt x="18386" y="8231"/>
                  <a:pt x="18355" y="8334"/>
                </a:cubicBezTo>
                <a:cubicBezTo>
                  <a:pt x="18340" y="8383"/>
                  <a:pt x="18317" y="8433"/>
                  <a:pt x="18331" y="8483"/>
                </a:cubicBezTo>
                <a:cubicBezTo>
                  <a:pt x="18363" y="8483"/>
                  <a:pt x="18371" y="8475"/>
                  <a:pt x="18355" y="8434"/>
                </a:cubicBezTo>
              </a:path>
              <a:path w="5557" h="2481">
                <a:moveTo>
                  <a:pt x="18554" y="7938"/>
                </a:moveTo>
                <a:cubicBezTo>
                  <a:pt x="18554" y="8050"/>
                  <a:pt x="18561" y="8108"/>
                  <a:pt x="18604" y="8210"/>
                </a:cubicBezTo>
                <a:cubicBezTo>
                  <a:pt x="18628" y="8267"/>
                  <a:pt x="18672" y="8308"/>
                  <a:pt x="18703" y="8359"/>
                </a:cubicBezTo>
                <a:cubicBezTo>
                  <a:pt x="18730" y="8403"/>
                  <a:pt x="18791" y="8462"/>
                  <a:pt x="18827" y="8483"/>
                </a:cubicBezTo>
                <a:cubicBezTo>
                  <a:pt x="18901" y="8526"/>
                  <a:pt x="18898" y="8494"/>
                  <a:pt x="18951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9040" y="3116160"/>
            <a:ext cx="376200" cy="500040"/>
          </a:xfrm>
          <a:custGeom>
            <a:avLst/>
            <a:gdLst/>
            <a:ahLst/>
            <a:rect l="l" t="t" r="r" b="b"/>
            <a:pathLst>
              <a:path w="1043" h="1390">
                <a:moveTo>
                  <a:pt x="10914" y="8706"/>
                </a:moveTo>
                <a:cubicBezTo>
                  <a:pt x="11038" y="8657"/>
                  <a:pt x="11104" y="8657"/>
                  <a:pt x="11237" y="8657"/>
                </a:cubicBezTo>
                <a:cubicBezTo>
                  <a:pt x="11374" y="8657"/>
                  <a:pt x="11458" y="8681"/>
                  <a:pt x="11584" y="8706"/>
                </a:cubicBezTo>
                <a:cubicBezTo>
                  <a:pt x="11658" y="8721"/>
                  <a:pt x="11939" y="8706"/>
                  <a:pt x="11931" y="8706"/>
                </a:cubicBezTo>
              </a:path>
              <a:path w="1043" h="1390">
                <a:moveTo>
                  <a:pt x="11038" y="8930"/>
                </a:moveTo>
                <a:cubicBezTo>
                  <a:pt x="11012" y="9050"/>
                  <a:pt x="11024" y="9052"/>
                  <a:pt x="11038" y="9153"/>
                </a:cubicBezTo>
                <a:cubicBezTo>
                  <a:pt x="11049" y="9234"/>
                  <a:pt x="11001" y="9483"/>
                  <a:pt x="11063" y="9401"/>
                </a:cubicBezTo>
              </a:path>
              <a:path w="1043" h="1390">
                <a:moveTo>
                  <a:pt x="11435" y="8855"/>
                </a:moveTo>
                <a:cubicBezTo>
                  <a:pt x="11426" y="8940"/>
                  <a:pt x="11402" y="8991"/>
                  <a:pt x="11385" y="9079"/>
                </a:cubicBezTo>
                <a:cubicBezTo>
                  <a:pt x="11372" y="9146"/>
                  <a:pt x="11344" y="9240"/>
                  <a:pt x="11311" y="9302"/>
                </a:cubicBezTo>
                <a:cubicBezTo>
                  <a:pt x="11274" y="9371"/>
                  <a:pt x="11267" y="9427"/>
                  <a:pt x="11237" y="9500"/>
                </a:cubicBezTo>
                <a:cubicBezTo>
                  <a:pt x="11210" y="9566"/>
                  <a:pt x="11186" y="9635"/>
                  <a:pt x="11162" y="9699"/>
                </a:cubicBezTo>
                <a:cubicBezTo>
                  <a:pt x="11139" y="9759"/>
                  <a:pt x="11125" y="9809"/>
                  <a:pt x="11112" y="9847"/>
                </a:cubicBezTo>
                <a:cubicBezTo>
                  <a:pt x="11142" y="9818"/>
                  <a:pt x="11154" y="9804"/>
                  <a:pt x="11162" y="9773"/>
                </a:cubicBezTo>
              </a:path>
              <a:path w="1043" h="1390">
                <a:moveTo>
                  <a:pt x="11435" y="9475"/>
                </a:moveTo>
                <a:cubicBezTo>
                  <a:pt x="11526" y="9459"/>
                  <a:pt x="11594" y="9451"/>
                  <a:pt x="11683" y="9451"/>
                </a:cubicBezTo>
                <a:cubicBezTo>
                  <a:pt x="11741" y="9451"/>
                  <a:pt x="11802" y="9429"/>
                  <a:pt x="11807" y="9500"/>
                </a:cubicBezTo>
                <a:cubicBezTo>
                  <a:pt x="11812" y="9564"/>
                  <a:pt x="11801" y="9629"/>
                  <a:pt x="11757" y="9674"/>
                </a:cubicBezTo>
                <a:cubicBezTo>
                  <a:pt x="11752" y="9679"/>
                  <a:pt x="11642" y="9742"/>
                  <a:pt x="11633" y="9748"/>
                </a:cubicBezTo>
                <a:cubicBezTo>
                  <a:pt x="11629" y="9751"/>
                  <a:pt x="11539" y="9748"/>
                  <a:pt x="11609" y="9748"/>
                </a:cubicBezTo>
                <a:cubicBezTo>
                  <a:pt x="11652" y="9748"/>
                  <a:pt x="11669" y="9682"/>
                  <a:pt x="11708" y="9699"/>
                </a:cubicBezTo>
                <a:cubicBezTo>
                  <a:pt x="11758" y="9721"/>
                  <a:pt x="11816" y="9721"/>
                  <a:pt x="11832" y="9773"/>
                </a:cubicBezTo>
                <a:cubicBezTo>
                  <a:pt x="11847" y="9821"/>
                  <a:pt x="11882" y="9928"/>
                  <a:pt x="11832" y="9971"/>
                </a:cubicBezTo>
                <a:cubicBezTo>
                  <a:pt x="11812" y="9988"/>
                  <a:pt x="11755" y="10043"/>
                  <a:pt x="11733" y="10046"/>
                </a:cubicBezTo>
                <a:cubicBezTo>
                  <a:pt x="11654" y="10057"/>
                  <a:pt x="11564" y="10046"/>
                  <a:pt x="11485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01960" y="4813200"/>
            <a:ext cx="884160" cy="588960"/>
          </a:xfrm>
          <a:custGeom>
            <a:avLst/>
            <a:gdLst/>
            <a:ahLst/>
            <a:rect l="l" t="t" r="r" b="b"/>
            <a:pathLst>
              <a:path w="2456" h="1638">
                <a:moveTo>
                  <a:pt x="8210" y="13370"/>
                </a:moveTo>
                <a:cubicBezTo>
                  <a:pt x="8199" y="13502"/>
                  <a:pt x="8166" y="13637"/>
                  <a:pt x="8136" y="13767"/>
                </a:cubicBezTo>
                <a:cubicBezTo>
                  <a:pt x="8108" y="13887"/>
                  <a:pt x="8104" y="13995"/>
                  <a:pt x="8086" y="14114"/>
                </a:cubicBezTo>
                <a:cubicBezTo>
                  <a:pt x="8071" y="14212"/>
                  <a:pt x="8062" y="14287"/>
                  <a:pt x="8062" y="14387"/>
                </a:cubicBezTo>
                <a:cubicBezTo>
                  <a:pt x="8076" y="14362"/>
                  <a:pt x="8095" y="14309"/>
                  <a:pt x="8111" y="14263"/>
                </a:cubicBezTo>
                <a:cubicBezTo>
                  <a:pt x="8141" y="14179"/>
                  <a:pt x="8140" y="14117"/>
                  <a:pt x="8186" y="14039"/>
                </a:cubicBezTo>
                <a:cubicBezTo>
                  <a:pt x="8219" y="13984"/>
                  <a:pt x="8240" y="13909"/>
                  <a:pt x="8310" y="13891"/>
                </a:cubicBezTo>
                <a:cubicBezTo>
                  <a:pt x="8378" y="13873"/>
                  <a:pt x="8478" y="13899"/>
                  <a:pt x="8533" y="13940"/>
                </a:cubicBezTo>
                <a:cubicBezTo>
                  <a:pt x="8618" y="14003"/>
                  <a:pt x="8653" y="14089"/>
                  <a:pt x="8657" y="14188"/>
                </a:cubicBezTo>
                <a:cubicBezTo>
                  <a:pt x="8660" y="14257"/>
                  <a:pt x="8671" y="14340"/>
                  <a:pt x="8607" y="14387"/>
                </a:cubicBezTo>
                <a:cubicBezTo>
                  <a:pt x="8547" y="14431"/>
                  <a:pt x="8433" y="14481"/>
                  <a:pt x="8359" y="14461"/>
                </a:cubicBezTo>
                <a:cubicBezTo>
                  <a:pt x="8300" y="14445"/>
                  <a:pt x="8315" y="14378"/>
                  <a:pt x="8310" y="14337"/>
                </a:cubicBezTo>
              </a:path>
              <a:path w="2456" h="1638">
                <a:moveTo>
                  <a:pt x="8855" y="13990"/>
                </a:moveTo>
                <a:cubicBezTo>
                  <a:pt x="9056" y="14008"/>
                  <a:pt x="9081" y="14049"/>
                  <a:pt x="9178" y="13990"/>
                </a:cubicBezTo>
              </a:path>
              <a:path w="2456" h="1638">
                <a:moveTo>
                  <a:pt x="8954" y="14139"/>
                </a:moveTo>
                <a:cubicBezTo>
                  <a:pt x="9075" y="14175"/>
                  <a:pt x="9097" y="14188"/>
                  <a:pt x="9203" y="14188"/>
                </a:cubicBezTo>
              </a:path>
              <a:path w="2456" h="1638">
                <a:moveTo>
                  <a:pt x="9550" y="13568"/>
                </a:moveTo>
                <a:cubicBezTo>
                  <a:pt x="9581" y="13549"/>
                  <a:pt x="9639" y="13526"/>
                  <a:pt x="9674" y="13519"/>
                </a:cubicBezTo>
                <a:cubicBezTo>
                  <a:pt x="9729" y="13507"/>
                  <a:pt x="9784" y="13480"/>
                  <a:pt x="9847" y="13494"/>
                </a:cubicBezTo>
                <a:cubicBezTo>
                  <a:pt x="9956" y="13518"/>
                  <a:pt x="10057" y="13519"/>
                  <a:pt x="10170" y="13519"/>
                </a:cubicBezTo>
                <a:cubicBezTo>
                  <a:pt x="10214" y="13519"/>
                  <a:pt x="10209" y="13521"/>
                  <a:pt x="10244" y="13494"/>
                </a:cubicBezTo>
              </a:path>
              <a:path w="2456" h="1638">
                <a:moveTo>
                  <a:pt x="9798" y="13469"/>
                </a:moveTo>
                <a:cubicBezTo>
                  <a:pt x="9798" y="13584"/>
                  <a:pt x="9810" y="13685"/>
                  <a:pt x="9823" y="13791"/>
                </a:cubicBezTo>
                <a:cubicBezTo>
                  <a:pt x="9831" y="13856"/>
                  <a:pt x="9837" y="13964"/>
                  <a:pt x="9798" y="13990"/>
                </a:cubicBezTo>
              </a:path>
              <a:path w="2456" h="1638">
                <a:moveTo>
                  <a:pt x="9996" y="13444"/>
                </a:moveTo>
                <a:cubicBezTo>
                  <a:pt x="9978" y="13601"/>
                  <a:pt x="9968" y="13698"/>
                  <a:pt x="9996" y="13841"/>
                </a:cubicBezTo>
                <a:cubicBezTo>
                  <a:pt x="10015" y="13915"/>
                  <a:pt x="10023" y="13922"/>
                  <a:pt x="10021" y="13965"/>
                </a:cubicBezTo>
              </a:path>
              <a:path w="2456" h="1638">
                <a:moveTo>
                  <a:pt x="9723" y="14064"/>
                </a:moveTo>
                <a:cubicBezTo>
                  <a:pt x="9797" y="14092"/>
                  <a:pt x="9892" y="14107"/>
                  <a:pt x="9971" y="14114"/>
                </a:cubicBezTo>
                <a:cubicBezTo>
                  <a:pt x="10084" y="14125"/>
                  <a:pt x="10185" y="14098"/>
                  <a:pt x="10294" y="14089"/>
                </a:cubicBezTo>
              </a:path>
              <a:path w="2456" h="1638">
                <a:moveTo>
                  <a:pt x="9897" y="14436"/>
                </a:moveTo>
                <a:cubicBezTo>
                  <a:pt x="9953" y="14380"/>
                  <a:pt x="10013" y="14306"/>
                  <a:pt x="10096" y="14288"/>
                </a:cubicBezTo>
                <a:cubicBezTo>
                  <a:pt x="10146" y="14277"/>
                  <a:pt x="10207" y="14280"/>
                  <a:pt x="10244" y="14312"/>
                </a:cubicBezTo>
                <a:cubicBezTo>
                  <a:pt x="10303" y="14364"/>
                  <a:pt x="10311" y="14365"/>
                  <a:pt x="10344" y="14436"/>
                </a:cubicBezTo>
                <a:cubicBezTo>
                  <a:pt x="10384" y="14523"/>
                  <a:pt x="10359" y="14576"/>
                  <a:pt x="10319" y="14660"/>
                </a:cubicBezTo>
                <a:cubicBezTo>
                  <a:pt x="10300" y="14700"/>
                  <a:pt x="10239" y="14764"/>
                  <a:pt x="10195" y="14784"/>
                </a:cubicBezTo>
                <a:cubicBezTo>
                  <a:pt x="10146" y="14807"/>
                  <a:pt x="10026" y="14829"/>
                  <a:pt x="9971" y="14808"/>
                </a:cubicBezTo>
                <a:cubicBezTo>
                  <a:pt x="9931" y="14793"/>
                  <a:pt x="9896" y="14770"/>
                  <a:pt x="9872" y="14734"/>
                </a:cubicBezTo>
                <a:cubicBezTo>
                  <a:pt x="9872" y="14726"/>
                  <a:pt x="9872" y="14717"/>
                  <a:pt x="9872" y="14709"/>
                </a:cubicBezTo>
                <a:cubicBezTo>
                  <a:pt x="9889" y="14641"/>
                  <a:pt x="9937" y="14651"/>
                  <a:pt x="9996" y="14684"/>
                </a:cubicBezTo>
                <a:cubicBezTo>
                  <a:pt x="10126" y="14757"/>
                  <a:pt x="10224" y="14814"/>
                  <a:pt x="10344" y="14908"/>
                </a:cubicBezTo>
                <a:cubicBezTo>
                  <a:pt x="10424" y="14971"/>
                  <a:pt x="10468" y="15019"/>
                  <a:pt x="10517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54280" y="4017960"/>
            <a:ext cx="3911760" cy="1054080"/>
          </a:xfrm>
          <a:custGeom>
            <a:avLst/>
            <a:gdLst/>
            <a:ahLst/>
            <a:rect l="l" t="t" r="r" b="b"/>
            <a:pathLst>
              <a:path w="10866" h="2928">
                <a:moveTo>
                  <a:pt x="12154" y="11410"/>
                </a:moveTo>
                <a:cubicBezTo>
                  <a:pt x="12148" y="11459"/>
                  <a:pt x="12161" y="11469"/>
                  <a:pt x="12129" y="11509"/>
                </a:cubicBezTo>
                <a:cubicBezTo>
                  <a:pt x="12112" y="11531"/>
                  <a:pt x="12125" y="11514"/>
                  <a:pt x="12105" y="11534"/>
                </a:cubicBezTo>
                <a:cubicBezTo>
                  <a:pt x="12155" y="11496"/>
                  <a:pt x="12199" y="11457"/>
                  <a:pt x="12229" y="11385"/>
                </a:cubicBezTo>
                <a:cubicBezTo>
                  <a:pt x="12255" y="11323"/>
                  <a:pt x="12277" y="11288"/>
                  <a:pt x="12328" y="11237"/>
                </a:cubicBezTo>
                <a:cubicBezTo>
                  <a:pt x="12356" y="11209"/>
                  <a:pt x="12408" y="11159"/>
                  <a:pt x="12452" y="11162"/>
                </a:cubicBezTo>
                <a:cubicBezTo>
                  <a:pt x="12493" y="11165"/>
                  <a:pt x="12577" y="11217"/>
                  <a:pt x="12601" y="11261"/>
                </a:cubicBezTo>
                <a:cubicBezTo>
                  <a:pt x="12647" y="11345"/>
                  <a:pt x="12648" y="11491"/>
                  <a:pt x="12650" y="11584"/>
                </a:cubicBezTo>
                <a:cubicBezTo>
                  <a:pt x="12653" y="11699"/>
                  <a:pt x="12631" y="11826"/>
                  <a:pt x="12576" y="11931"/>
                </a:cubicBezTo>
                <a:cubicBezTo>
                  <a:pt x="12523" y="12032"/>
                  <a:pt x="12423" y="12122"/>
                  <a:pt x="12328" y="12179"/>
                </a:cubicBezTo>
                <a:cubicBezTo>
                  <a:pt x="12275" y="12211"/>
                  <a:pt x="12198" y="12227"/>
                  <a:pt x="12154" y="12179"/>
                </a:cubicBezTo>
                <a:cubicBezTo>
                  <a:pt x="12105" y="12126"/>
                  <a:pt x="12123" y="12059"/>
                  <a:pt x="12129" y="12005"/>
                </a:cubicBezTo>
                <a:cubicBezTo>
                  <a:pt x="12137" y="11933"/>
                  <a:pt x="12153" y="11907"/>
                  <a:pt x="12204" y="11857"/>
                </a:cubicBezTo>
                <a:cubicBezTo>
                  <a:pt x="12236" y="11825"/>
                  <a:pt x="12270" y="11851"/>
                  <a:pt x="12303" y="11881"/>
                </a:cubicBezTo>
                <a:cubicBezTo>
                  <a:pt x="12380" y="11953"/>
                  <a:pt x="12451" y="11972"/>
                  <a:pt x="12551" y="12005"/>
                </a:cubicBezTo>
                <a:cubicBezTo>
                  <a:pt x="12618" y="12027"/>
                  <a:pt x="12758" y="12108"/>
                  <a:pt x="12824" y="12105"/>
                </a:cubicBezTo>
                <a:cubicBezTo>
                  <a:pt x="12901" y="12101"/>
                  <a:pt x="12942" y="12051"/>
                  <a:pt x="12998" y="12005"/>
                </a:cubicBezTo>
              </a:path>
              <a:path w="10866" h="2928">
                <a:moveTo>
                  <a:pt x="13122" y="11237"/>
                </a:moveTo>
                <a:cubicBezTo>
                  <a:pt x="13271" y="11237"/>
                  <a:pt x="13419" y="11237"/>
                  <a:pt x="13568" y="11237"/>
                </a:cubicBezTo>
              </a:path>
              <a:path w="10866" h="2928">
                <a:moveTo>
                  <a:pt x="13295" y="11237"/>
                </a:moveTo>
                <a:cubicBezTo>
                  <a:pt x="13249" y="11422"/>
                  <a:pt x="13203" y="11592"/>
                  <a:pt x="13196" y="11782"/>
                </a:cubicBezTo>
                <a:cubicBezTo>
                  <a:pt x="13194" y="11840"/>
                  <a:pt x="13196" y="11898"/>
                  <a:pt x="13196" y="11956"/>
                </a:cubicBezTo>
              </a:path>
              <a:path w="10866" h="2928">
                <a:moveTo>
                  <a:pt x="13419" y="11212"/>
                </a:moveTo>
                <a:cubicBezTo>
                  <a:pt x="13442" y="11351"/>
                  <a:pt x="13447" y="11526"/>
                  <a:pt x="13494" y="11658"/>
                </a:cubicBezTo>
                <a:cubicBezTo>
                  <a:pt x="13526" y="11746"/>
                  <a:pt x="13623" y="11883"/>
                  <a:pt x="13618" y="11981"/>
                </a:cubicBezTo>
                <a:cubicBezTo>
                  <a:pt x="13594" y="12029"/>
                  <a:pt x="13585" y="12043"/>
                  <a:pt x="13593" y="12080"/>
                </a:cubicBezTo>
              </a:path>
              <a:path w="10866" h="2928">
                <a:moveTo>
                  <a:pt x="11683" y="12353"/>
                </a:moveTo>
                <a:cubicBezTo>
                  <a:pt x="11769" y="12324"/>
                  <a:pt x="11806" y="12344"/>
                  <a:pt x="11906" y="12353"/>
                </a:cubicBezTo>
                <a:cubicBezTo>
                  <a:pt x="12110" y="12371"/>
                  <a:pt x="12321" y="12391"/>
                  <a:pt x="12526" y="12402"/>
                </a:cubicBezTo>
                <a:cubicBezTo>
                  <a:pt x="12782" y="12416"/>
                  <a:pt x="13039" y="12440"/>
                  <a:pt x="13295" y="12452"/>
                </a:cubicBezTo>
                <a:cubicBezTo>
                  <a:pt x="13506" y="12462"/>
                  <a:pt x="13733" y="12437"/>
                  <a:pt x="13940" y="12402"/>
                </a:cubicBezTo>
                <a:cubicBezTo>
                  <a:pt x="14072" y="12380"/>
                  <a:pt x="14217" y="12331"/>
                  <a:pt x="14337" y="12303"/>
                </a:cubicBezTo>
                <a:cubicBezTo>
                  <a:pt x="14345" y="12303"/>
                  <a:pt x="14354" y="12303"/>
                  <a:pt x="14362" y="12303"/>
                </a:cubicBezTo>
                <a:cubicBezTo>
                  <a:pt x="14300" y="12262"/>
                  <a:pt x="14262" y="12254"/>
                  <a:pt x="14188" y="12229"/>
                </a:cubicBezTo>
                <a:cubicBezTo>
                  <a:pt x="14163" y="12221"/>
                  <a:pt x="14139" y="12212"/>
                  <a:pt x="14114" y="12204"/>
                </a:cubicBezTo>
              </a:path>
              <a:path w="10866" h="2928">
                <a:moveTo>
                  <a:pt x="12477" y="12725"/>
                </a:moveTo>
                <a:cubicBezTo>
                  <a:pt x="12536" y="12665"/>
                  <a:pt x="12562" y="12675"/>
                  <a:pt x="12650" y="12675"/>
                </a:cubicBezTo>
                <a:cubicBezTo>
                  <a:pt x="12787" y="12675"/>
                  <a:pt x="12914" y="12694"/>
                  <a:pt x="13047" y="12700"/>
                </a:cubicBezTo>
                <a:cubicBezTo>
                  <a:pt x="13099" y="12702"/>
                  <a:pt x="13103" y="12714"/>
                  <a:pt x="13146" y="12725"/>
                </a:cubicBezTo>
              </a:path>
              <a:path w="10866" h="2928">
                <a:moveTo>
                  <a:pt x="12799" y="12700"/>
                </a:moveTo>
                <a:cubicBezTo>
                  <a:pt x="12773" y="12855"/>
                  <a:pt x="12795" y="12883"/>
                  <a:pt x="12824" y="13022"/>
                </a:cubicBezTo>
                <a:cubicBezTo>
                  <a:pt x="12833" y="13064"/>
                  <a:pt x="12840" y="13104"/>
                  <a:pt x="12849" y="13146"/>
                </a:cubicBezTo>
              </a:path>
              <a:path w="10866" h="2928">
                <a:moveTo>
                  <a:pt x="12998" y="12824"/>
                </a:moveTo>
                <a:cubicBezTo>
                  <a:pt x="13027" y="12975"/>
                  <a:pt x="13047" y="13026"/>
                  <a:pt x="13047" y="13146"/>
                </a:cubicBezTo>
              </a:path>
              <a:path w="10866" h="2928">
                <a:moveTo>
                  <a:pt x="13419" y="12576"/>
                </a:moveTo>
                <a:cubicBezTo>
                  <a:pt x="13374" y="12713"/>
                  <a:pt x="13324" y="12840"/>
                  <a:pt x="13271" y="12973"/>
                </a:cubicBezTo>
                <a:cubicBezTo>
                  <a:pt x="13231" y="13074"/>
                  <a:pt x="13228" y="13173"/>
                  <a:pt x="13196" y="13271"/>
                </a:cubicBezTo>
                <a:cubicBezTo>
                  <a:pt x="13167" y="13361"/>
                  <a:pt x="13165" y="13433"/>
                  <a:pt x="13122" y="13519"/>
                </a:cubicBezTo>
                <a:cubicBezTo>
                  <a:pt x="13102" y="13560"/>
                  <a:pt x="13082" y="13579"/>
                  <a:pt x="13072" y="13618"/>
                </a:cubicBezTo>
              </a:path>
              <a:path w="10866" h="2928">
                <a:moveTo>
                  <a:pt x="13444" y="13295"/>
                </a:moveTo>
                <a:cubicBezTo>
                  <a:pt x="13550" y="13282"/>
                  <a:pt x="13713" y="13236"/>
                  <a:pt x="13816" y="13295"/>
                </a:cubicBezTo>
                <a:cubicBezTo>
                  <a:pt x="13885" y="13334"/>
                  <a:pt x="13876" y="13362"/>
                  <a:pt x="13866" y="13419"/>
                </a:cubicBezTo>
                <a:cubicBezTo>
                  <a:pt x="13855" y="13487"/>
                  <a:pt x="13766" y="13522"/>
                  <a:pt x="13717" y="13568"/>
                </a:cubicBezTo>
                <a:cubicBezTo>
                  <a:pt x="13668" y="13614"/>
                  <a:pt x="13616" y="13645"/>
                  <a:pt x="13568" y="13692"/>
                </a:cubicBezTo>
                <a:cubicBezTo>
                  <a:pt x="13517" y="13743"/>
                  <a:pt x="13547" y="13803"/>
                  <a:pt x="13618" y="13816"/>
                </a:cubicBezTo>
                <a:cubicBezTo>
                  <a:pt x="13723" y="13835"/>
                  <a:pt x="13832" y="13862"/>
                  <a:pt x="13940" y="13866"/>
                </a:cubicBezTo>
                <a:cubicBezTo>
                  <a:pt x="14088" y="13871"/>
                  <a:pt x="14074" y="13825"/>
                  <a:pt x="14015" y="13717"/>
                </a:cubicBezTo>
              </a:path>
              <a:path w="10866" h="2928">
                <a:moveTo>
                  <a:pt x="10220" y="11782"/>
                </a:moveTo>
                <a:cubicBezTo>
                  <a:pt x="10203" y="11793"/>
                  <a:pt x="10153" y="11887"/>
                  <a:pt x="10145" y="11931"/>
                </a:cubicBezTo>
                <a:cubicBezTo>
                  <a:pt x="10123" y="12058"/>
                  <a:pt x="10106" y="12199"/>
                  <a:pt x="10096" y="12328"/>
                </a:cubicBezTo>
                <a:cubicBezTo>
                  <a:pt x="10086" y="12457"/>
                  <a:pt x="10140" y="12555"/>
                  <a:pt x="10170" y="12675"/>
                </a:cubicBezTo>
                <a:cubicBezTo>
                  <a:pt x="10188" y="12748"/>
                  <a:pt x="10195" y="12924"/>
                  <a:pt x="10195" y="12849"/>
                </a:cubicBezTo>
                <a:cubicBezTo>
                  <a:pt x="10195" y="12832"/>
                  <a:pt x="10195" y="12816"/>
                  <a:pt x="10195" y="12799"/>
                </a:cubicBezTo>
              </a:path>
              <a:path w="10866" h="2928">
                <a:moveTo>
                  <a:pt x="9872" y="11708"/>
                </a:moveTo>
                <a:cubicBezTo>
                  <a:pt x="9963" y="11588"/>
                  <a:pt x="10047" y="11489"/>
                  <a:pt x="10220" y="11584"/>
                </a:cubicBezTo>
                <a:cubicBezTo>
                  <a:pt x="10365" y="11664"/>
                  <a:pt x="10480" y="11768"/>
                  <a:pt x="10492" y="11931"/>
                </a:cubicBezTo>
                <a:cubicBezTo>
                  <a:pt x="10500" y="12039"/>
                  <a:pt x="10424" y="12139"/>
                  <a:pt x="10319" y="12179"/>
                </a:cubicBezTo>
                <a:cubicBezTo>
                  <a:pt x="10268" y="12198"/>
                  <a:pt x="10179" y="12204"/>
                  <a:pt x="10120" y="12204"/>
                </a:cubicBezTo>
                <a:cubicBezTo>
                  <a:pt x="10044" y="12204"/>
                  <a:pt x="10160" y="12115"/>
                  <a:pt x="10170" y="12105"/>
                </a:cubicBezTo>
              </a:path>
              <a:path w="10866" h="2928">
                <a:moveTo>
                  <a:pt x="10765" y="11906"/>
                </a:moveTo>
                <a:cubicBezTo>
                  <a:pt x="10901" y="11911"/>
                  <a:pt x="11081" y="11912"/>
                  <a:pt x="11212" y="11956"/>
                </a:cubicBezTo>
                <a:cubicBezTo>
                  <a:pt x="11237" y="11981"/>
                  <a:pt x="11245" y="11989"/>
                  <a:pt x="11261" y="12005"/>
                </a:cubicBezTo>
              </a:path>
              <a:path w="10866" h="2928">
                <a:moveTo>
                  <a:pt x="10889" y="12278"/>
                </a:moveTo>
                <a:cubicBezTo>
                  <a:pt x="11032" y="12305"/>
                  <a:pt x="11146" y="12312"/>
                  <a:pt x="11286" y="12303"/>
                </a:cubicBezTo>
                <a:cubicBezTo>
                  <a:pt x="11311" y="12303"/>
                  <a:pt x="11336" y="12303"/>
                  <a:pt x="11361" y="12303"/>
                </a:cubicBezTo>
              </a:path>
              <a:path w="10866" h="2928">
                <a:moveTo>
                  <a:pt x="14858" y="12303"/>
                </a:moveTo>
                <a:cubicBezTo>
                  <a:pt x="14956" y="12317"/>
                  <a:pt x="15042" y="12323"/>
                  <a:pt x="15131" y="12353"/>
                </a:cubicBezTo>
              </a:path>
              <a:path w="10866" h="2928">
                <a:moveTo>
                  <a:pt x="14709" y="12477"/>
                </a:moveTo>
                <a:cubicBezTo>
                  <a:pt x="14879" y="12502"/>
                  <a:pt x="14986" y="12501"/>
                  <a:pt x="15156" y="12477"/>
                </a:cubicBezTo>
              </a:path>
              <a:path w="10866" h="2928">
                <a:moveTo>
                  <a:pt x="15602" y="11857"/>
                </a:moveTo>
                <a:cubicBezTo>
                  <a:pt x="15740" y="11780"/>
                  <a:pt x="15800" y="11729"/>
                  <a:pt x="15949" y="11807"/>
                </a:cubicBezTo>
                <a:cubicBezTo>
                  <a:pt x="16054" y="11862"/>
                  <a:pt x="16135" y="11981"/>
                  <a:pt x="16123" y="12105"/>
                </a:cubicBezTo>
                <a:cubicBezTo>
                  <a:pt x="16106" y="12179"/>
                  <a:pt x="16090" y="12254"/>
                  <a:pt x="16073" y="12328"/>
                </a:cubicBezTo>
              </a:path>
              <a:path w="10866" h="2928">
                <a:moveTo>
                  <a:pt x="15900" y="12601"/>
                </a:moveTo>
                <a:cubicBezTo>
                  <a:pt x="15799" y="12660"/>
                  <a:pt x="15760" y="12700"/>
                  <a:pt x="15652" y="12700"/>
                </a:cubicBezTo>
                <a:cubicBezTo>
                  <a:pt x="15644" y="12700"/>
                  <a:pt x="15635" y="12700"/>
                  <a:pt x="15627" y="12700"/>
                </a:cubicBezTo>
                <a:cubicBezTo>
                  <a:pt x="15643" y="12622"/>
                  <a:pt x="15671" y="12600"/>
                  <a:pt x="15726" y="12551"/>
                </a:cubicBezTo>
                <a:cubicBezTo>
                  <a:pt x="15800" y="12486"/>
                  <a:pt x="15904" y="12480"/>
                  <a:pt x="15999" y="12526"/>
                </a:cubicBezTo>
                <a:cubicBezTo>
                  <a:pt x="16085" y="12567"/>
                  <a:pt x="16162" y="12631"/>
                  <a:pt x="16247" y="12675"/>
                </a:cubicBezTo>
                <a:cubicBezTo>
                  <a:pt x="16334" y="12721"/>
                  <a:pt x="16336" y="12697"/>
                  <a:pt x="16421" y="12650"/>
                </a:cubicBezTo>
              </a:path>
              <a:path w="10866" h="2928">
                <a:moveTo>
                  <a:pt x="16545" y="11857"/>
                </a:moveTo>
                <a:cubicBezTo>
                  <a:pt x="16689" y="11818"/>
                  <a:pt x="16770" y="11828"/>
                  <a:pt x="16917" y="11832"/>
                </a:cubicBezTo>
                <a:cubicBezTo>
                  <a:pt x="17032" y="11835"/>
                  <a:pt x="17053" y="11840"/>
                  <a:pt x="17140" y="11782"/>
                </a:cubicBezTo>
              </a:path>
              <a:path w="10866" h="2928">
                <a:moveTo>
                  <a:pt x="16718" y="11881"/>
                </a:moveTo>
                <a:cubicBezTo>
                  <a:pt x="16640" y="12123"/>
                  <a:pt x="16619" y="12217"/>
                  <a:pt x="16619" y="12452"/>
                </a:cubicBezTo>
                <a:cubicBezTo>
                  <a:pt x="16619" y="12526"/>
                  <a:pt x="16621" y="12624"/>
                  <a:pt x="16644" y="12626"/>
                </a:cubicBezTo>
              </a:path>
              <a:path w="10866" h="2928">
                <a:moveTo>
                  <a:pt x="16917" y="11832"/>
                </a:moveTo>
                <a:cubicBezTo>
                  <a:pt x="16955" y="11895"/>
                  <a:pt x="16953" y="12003"/>
                  <a:pt x="16942" y="12080"/>
                </a:cubicBezTo>
                <a:cubicBezTo>
                  <a:pt x="16924" y="12207"/>
                  <a:pt x="16917" y="12322"/>
                  <a:pt x="16917" y="12452"/>
                </a:cubicBezTo>
                <a:cubicBezTo>
                  <a:pt x="16917" y="12549"/>
                  <a:pt x="16904" y="12637"/>
                  <a:pt x="16942" y="12725"/>
                </a:cubicBezTo>
              </a:path>
              <a:path w="10866" h="2928">
                <a:moveTo>
                  <a:pt x="17264" y="12551"/>
                </a:moveTo>
                <a:cubicBezTo>
                  <a:pt x="17323" y="12512"/>
                  <a:pt x="17335" y="12508"/>
                  <a:pt x="17363" y="12477"/>
                </a:cubicBezTo>
              </a:path>
              <a:path w="10866" h="2928">
                <a:moveTo>
                  <a:pt x="17810" y="11782"/>
                </a:moveTo>
                <a:cubicBezTo>
                  <a:pt x="17904" y="11735"/>
                  <a:pt x="17977" y="11662"/>
                  <a:pt x="18058" y="11757"/>
                </a:cubicBezTo>
                <a:cubicBezTo>
                  <a:pt x="18166" y="11883"/>
                  <a:pt x="18155" y="12080"/>
                  <a:pt x="18107" y="12229"/>
                </a:cubicBezTo>
                <a:cubicBezTo>
                  <a:pt x="18069" y="12347"/>
                  <a:pt x="17993" y="12463"/>
                  <a:pt x="17909" y="12551"/>
                </a:cubicBezTo>
                <a:cubicBezTo>
                  <a:pt x="17857" y="12606"/>
                  <a:pt x="17830" y="12622"/>
                  <a:pt x="17760" y="12626"/>
                </a:cubicBezTo>
                <a:cubicBezTo>
                  <a:pt x="17735" y="12626"/>
                  <a:pt x="17727" y="12626"/>
                  <a:pt x="17711" y="12626"/>
                </a:cubicBezTo>
                <a:cubicBezTo>
                  <a:pt x="17715" y="12584"/>
                  <a:pt x="17702" y="12518"/>
                  <a:pt x="17760" y="12502"/>
                </a:cubicBezTo>
                <a:cubicBezTo>
                  <a:pt x="17863" y="12473"/>
                  <a:pt x="18033" y="12500"/>
                  <a:pt x="18132" y="12526"/>
                </a:cubicBezTo>
                <a:cubicBezTo>
                  <a:pt x="18236" y="12553"/>
                  <a:pt x="18370" y="12626"/>
                  <a:pt x="18479" y="12601"/>
                </a:cubicBezTo>
                <a:cubicBezTo>
                  <a:pt x="18487" y="12593"/>
                  <a:pt x="18496" y="12584"/>
                  <a:pt x="18504" y="12576"/>
                </a:cubicBezTo>
              </a:path>
              <a:path w="10866" h="2928">
                <a:moveTo>
                  <a:pt x="17686" y="12774"/>
                </a:moveTo>
                <a:cubicBezTo>
                  <a:pt x="17867" y="12800"/>
                  <a:pt x="18050" y="12837"/>
                  <a:pt x="18231" y="12849"/>
                </a:cubicBezTo>
                <a:cubicBezTo>
                  <a:pt x="18352" y="12857"/>
                  <a:pt x="18442" y="12813"/>
                  <a:pt x="18554" y="12799"/>
                </a:cubicBezTo>
              </a:path>
              <a:path w="10866" h="2928">
                <a:moveTo>
                  <a:pt x="17785" y="13221"/>
                </a:moveTo>
                <a:cubicBezTo>
                  <a:pt x="17944" y="13228"/>
                  <a:pt x="18099" y="13239"/>
                  <a:pt x="18256" y="13271"/>
                </a:cubicBezTo>
                <a:cubicBezTo>
                  <a:pt x="18361" y="13292"/>
                  <a:pt x="18443" y="13323"/>
                  <a:pt x="18529" y="13246"/>
                </a:cubicBezTo>
                <a:cubicBezTo>
                  <a:pt x="18537" y="13238"/>
                  <a:pt x="18546" y="13229"/>
                  <a:pt x="18554" y="13221"/>
                </a:cubicBezTo>
              </a:path>
              <a:path w="10866" h="2928">
                <a:moveTo>
                  <a:pt x="17959" y="13395"/>
                </a:moveTo>
                <a:cubicBezTo>
                  <a:pt x="17959" y="13543"/>
                  <a:pt x="17968" y="13674"/>
                  <a:pt x="17983" y="13816"/>
                </a:cubicBezTo>
                <a:cubicBezTo>
                  <a:pt x="17991" y="13889"/>
                  <a:pt x="17974" y="13908"/>
                  <a:pt x="18008" y="13965"/>
                </a:cubicBezTo>
              </a:path>
              <a:path w="10866" h="2928">
                <a:moveTo>
                  <a:pt x="18306" y="13370"/>
                </a:moveTo>
                <a:cubicBezTo>
                  <a:pt x="18345" y="13533"/>
                  <a:pt x="18351" y="13706"/>
                  <a:pt x="18405" y="13866"/>
                </a:cubicBezTo>
                <a:cubicBezTo>
                  <a:pt x="18421" y="13913"/>
                  <a:pt x="18474" y="14069"/>
                  <a:pt x="18504" y="14089"/>
                </a:cubicBezTo>
              </a:path>
              <a:path w="10866" h="2928">
                <a:moveTo>
                  <a:pt x="18728" y="13196"/>
                </a:moveTo>
                <a:cubicBezTo>
                  <a:pt x="18552" y="13334"/>
                  <a:pt x="18368" y="13447"/>
                  <a:pt x="18182" y="13568"/>
                </a:cubicBezTo>
                <a:cubicBezTo>
                  <a:pt x="18047" y="13656"/>
                  <a:pt x="17919" y="13751"/>
                  <a:pt x="17785" y="13841"/>
                </a:cubicBezTo>
                <a:cubicBezTo>
                  <a:pt x="17713" y="13889"/>
                  <a:pt x="17691" y="13905"/>
                  <a:pt x="17611" y="13915"/>
                </a:cubicBezTo>
              </a:path>
              <a:path w="10866" h="2928">
                <a:moveTo>
                  <a:pt x="17363" y="11609"/>
                </a:moveTo>
                <a:cubicBezTo>
                  <a:pt x="17163" y="11813"/>
                  <a:pt x="16983" y="12020"/>
                  <a:pt x="16793" y="12229"/>
                </a:cubicBezTo>
                <a:cubicBezTo>
                  <a:pt x="16698" y="12333"/>
                  <a:pt x="16611" y="12425"/>
                  <a:pt x="16545" y="12551"/>
                </a:cubicBezTo>
                <a:cubicBezTo>
                  <a:pt x="16520" y="12601"/>
                  <a:pt x="16512" y="12617"/>
                  <a:pt x="16495" y="12650"/>
                </a:cubicBezTo>
              </a:path>
              <a:path w="10866" h="2928">
                <a:moveTo>
                  <a:pt x="19149" y="12576"/>
                </a:moveTo>
                <a:cubicBezTo>
                  <a:pt x="19279" y="12560"/>
                  <a:pt x="19392" y="12551"/>
                  <a:pt x="19521" y="12551"/>
                </a:cubicBezTo>
                <a:cubicBezTo>
                  <a:pt x="19563" y="12551"/>
                  <a:pt x="19571" y="12551"/>
                  <a:pt x="19596" y="12551"/>
                </a:cubicBezTo>
              </a:path>
              <a:path w="10866" h="2928">
                <a:moveTo>
                  <a:pt x="19050" y="12799"/>
                </a:moveTo>
                <a:cubicBezTo>
                  <a:pt x="19213" y="12838"/>
                  <a:pt x="19336" y="12826"/>
                  <a:pt x="19496" y="12849"/>
                </a:cubicBezTo>
                <a:cubicBezTo>
                  <a:pt x="19563" y="12859"/>
                  <a:pt x="19640" y="12872"/>
                  <a:pt x="19695" y="12898"/>
                </a:cubicBezTo>
              </a:path>
              <a:path w="10866" h="2928">
                <a:moveTo>
                  <a:pt x="20117" y="11931"/>
                </a:moveTo>
                <a:cubicBezTo>
                  <a:pt x="20052" y="12032"/>
                  <a:pt x="20001" y="12096"/>
                  <a:pt x="19918" y="12179"/>
                </a:cubicBezTo>
                <a:cubicBezTo>
                  <a:pt x="19902" y="12194"/>
                  <a:pt x="19859" y="12255"/>
                  <a:pt x="19869" y="12278"/>
                </a:cubicBezTo>
                <a:cubicBezTo>
                  <a:pt x="19888" y="12321"/>
                  <a:pt x="19956" y="12359"/>
                  <a:pt x="19993" y="12378"/>
                </a:cubicBezTo>
                <a:cubicBezTo>
                  <a:pt x="20089" y="12428"/>
                  <a:pt x="20187" y="12473"/>
                  <a:pt x="20290" y="12502"/>
                </a:cubicBezTo>
                <a:cubicBezTo>
                  <a:pt x="20503" y="12562"/>
                  <a:pt x="20544" y="12541"/>
                  <a:pt x="20737" y="12427"/>
                </a:cubicBezTo>
              </a:path>
              <a:path w="10866" h="2928">
                <a:moveTo>
                  <a:pt x="20588" y="11237"/>
                </a:moveTo>
                <a:cubicBezTo>
                  <a:pt x="20522" y="11544"/>
                  <a:pt x="20448" y="11863"/>
                  <a:pt x="20464" y="12179"/>
                </a:cubicBezTo>
                <a:cubicBezTo>
                  <a:pt x="20486" y="12636"/>
                  <a:pt x="20581" y="13090"/>
                  <a:pt x="20638" y="13543"/>
                </a:cubicBezTo>
                <a:cubicBezTo>
                  <a:pt x="20646" y="13626"/>
                  <a:pt x="20654" y="13708"/>
                  <a:pt x="20662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13080" y="5589720"/>
            <a:ext cx="938160" cy="714240"/>
          </a:xfrm>
          <a:custGeom>
            <a:avLst/>
            <a:gdLst/>
            <a:ahLst/>
            <a:rect l="l" t="t" r="r" b="b"/>
            <a:pathLst>
              <a:path w="2605" h="1985">
                <a:moveTo>
                  <a:pt x="10567" y="15726"/>
                </a:moveTo>
                <a:cubicBezTo>
                  <a:pt x="10520" y="15779"/>
                  <a:pt x="10486" y="15807"/>
                  <a:pt x="10443" y="15850"/>
                </a:cubicBezTo>
                <a:cubicBezTo>
                  <a:pt x="10448" y="15812"/>
                  <a:pt x="10450" y="15782"/>
                  <a:pt x="10468" y="15751"/>
                </a:cubicBezTo>
                <a:cubicBezTo>
                  <a:pt x="10500" y="15699"/>
                  <a:pt x="10549" y="15663"/>
                  <a:pt x="10592" y="15627"/>
                </a:cubicBezTo>
                <a:cubicBezTo>
                  <a:pt x="10647" y="15581"/>
                  <a:pt x="10681" y="15580"/>
                  <a:pt x="10740" y="15553"/>
                </a:cubicBezTo>
                <a:cubicBezTo>
                  <a:pt x="10794" y="15528"/>
                  <a:pt x="10798" y="15513"/>
                  <a:pt x="10864" y="15553"/>
                </a:cubicBezTo>
                <a:cubicBezTo>
                  <a:pt x="10918" y="15586"/>
                  <a:pt x="10932" y="15698"/>
                  <a:pt x="10939" y="15751"/>
                </a:cubicBezTo>
                <a:cubicBezTo>
                  <a:pt x="10954" y="15872"/>
                  <a:pt x="10924" y="15983"/>
                  <a:pt x="10889" y="16098"/>
                </a:cubicBezTo>
                <a:cubicBezTo>
                  <a:pt x="10858" y="16202"/>
                  <a:pt x="10821" y="16303"/>
                  <a:pt x="10765" y="16396"/>
                </a:cubicBezTo>
                <a:cubicBezTo>
                  <a:pt x="10705" y="16496"/>
                  <a:pt x="10623" y="16544"/>
                  <a:pt x="10542" y="16619"/>
                </a:cubicBezTo>
                <a:cubicBezTo>
                  <a:pt x="10495" y="16662"/>
                  <a:pt x="10437" y="16662"/>
                  <a:pt x="10418" y="16594"/>
                </a:cubicBezTo>
                <a:cubicBezTo>
                  <a:pt x="10403" y="16542"/>
                  <a:pt x="10416" y="16465"/>
                  <a:pt x="10443" y="16421"/>
                </a:cubicBezTo>
                <a:cubicBezTo>
                  <a:pt x="10479" y="16362"/>
                  <a:pt x="10493" y="16337"/>
                  <a:pt x="10567" y="16346"/>
                </a:cubicBezTo>
                <a:cubicBezTo>
                  <a:pt x="10616" y="16352"/>
                  <a:pt x="10677" y="16389"/>
                  <a:pt x="10716" y="16421"/>
                </a:cubicBezTo>
                <a:cubicBezTo>
                  <a:pt x="10784" y="16477"/>
                  <a:pt x="10841" y="16545"/>
                  <a:pt x="10914" y="16594"/>
                </a:cubicBezTo>
                <a:cubicBezTo>
                  <a:pt x="11023" y="16666"/>
                  <a:pt x="11012" y="16659"/>
                  <a:pt x="11088" y="16545"/>
                </a:cubicBezTo>
              </a:path>
              <a:path w="2605" h="1985">
                <a:moveTo>
                  <a:pt x="11311" y="15751"/>
                </a:moveTo>
                <a:cubicBezTo>
                  <a:pt x="11424" y="15757"/>
                  <a:pt x="11525" y="15775"/>
                  <a:pt x="11633" y="15801"/>
                </a:cubicBezTo>
                <a:cubicBezTo>
                  <a:pt x="11739" y="15827"/>
                  <a:pt x="11727" y="15821"/>
                  <a:pt x="11807" y="15751"/>
                </a:cubicBezTo>
              </a:path>
              <a:path w="2605" h="1985">
                <a:moveTo>
                  <a:pt x="11435" y="15850"/>
                </a:moveTo>
                <a:cubicBezTo>
                  <a:pt x="11393" y="16023"/>
                  <a:pt x="11400" y="16201"/>
                  <a:pt x="11361" y="16371"/>
                </a:cubicBezTo>
                <a:cubicBezTo>
                  <a:pt x="11341" y="16412"/>
                  <a:pt x="11332" y="16418"/>
                  <a:pt x="11336" y="16446"/>
                </a:cubicBezTo>
              </a:path>
              <a:path w="2605" h="1985">
                <a:moveTo>
                  <a:pt x="11633" y="15726"/>
                </a:moveTo>
                <a:cubicBezTo>
                  <a:pt x="11640" y="15957"/>
                  <a:pt x="11662" y="16170"/>
                  <a:pt x="11708" y="16396"/>
                </a:cubicBezTo>
                <a:cubicBezTo>
                  <a:pt x="11730" y="16505"/>
                  <a:pt x="11749" y="16608"/>
                  <a:pt x="11757" y="16718"/>
                </a:cubicBezTo>
              </a:path>
              <a:path w="2605" h="1985">
                <a:moveTo>
                  <a:pt x="9351" y="16396"/>
                </a:moveTo>
                <a:cubicBezTo>
                  <a:pt x="9325" y="16578"/>
                  <a:pt x="9324" y="16761"/>
                  <a:pt x="9302" y="16942"/>
                </a:cubicBezTo>
                <a:cubicBezTo>
                  <a:pt x="9283" y="17096"/>
                  <a:pt x="9284" y="17262"/>
                  <a:pt x="9252" y="17413"/>
                </a:cubicBezTo>
                <a:cubicBezTo>
                  <a:pt x="9233" y="17502"/>
                  <a:pt x="9217" y="17565"/>
                  <a:pt x="9203" y="17438"/>
                </a:cubicBezTo>
              </a:path>
              <a:path w="2605" h="1985">
                <a:moveTo>
                  <a:pt x="9302" y="16321"/>
                </a:moveTo>
                <a:cubicBezTo>
                  <a:pt x="9425" y="16176"/>
                  <a:pt x="9472" y="16172"/>
                  <a:pt x="9649" y="16272"/>
                </a:cubicBezTo>
                <a:cubicBezTo>
                  <a:pt x="9749" y="16329"/>
                  <a:pt x="9790" y="16455"/>
                  <a:pt x="9773" y="16570"/>
                </a:cubicBezTo>
                <a:cubicBezTo>
                  <a:pt x="9759" y="16667"/>
                  <a:pt x="9704" y="16723"/>
                  <a:pt x="9624" y="16768"/>
                </a:cubicBezTo>
                <a:cubicBezTo>
                  <a:pt x="9581" y="16792"/>
                  <a:pt x="9504" y="16845"/>
                  <a:pt x="9451" y="16818"/>
                </a:cubicBezTo>
                <a:cubicBezTo>
                  <a:pt x="9402" y="16793"/>
                  <a:pt x="9431" y="16769"/>
                  <a:pt x="9451" y="16743"/>
                </a:cubicBezTo>
              </a:path>
              <a:path w="2605" h="1985">
                <a:moveTo>
                  <a:pt x="9996" y="16594"/>
                </a:moveTo>
                <a:cubicBezTo>
                  <a:pt x="10062" y="16619"/>
                  <a:pt x="10129" y="16644"/>
                  <a:pt x="10195" y="16669"/>
                </a:cubicBezTo>
              </a:path>
              <a:path w="2605" h="1985">
                <a:moveTo>
                  <a:pt x="9947" y="16892"/>
                </a:moveTo>
                <a:cubicBezTo>
                  <a:pt x="10033" y="16930"/>
                  <a:pt x="10109" y="16972"/>
                  <a:pt x="10195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38800" y="5653080"/>
            <a:ext cx="1241280" cy="857160"/>
          </a:xfrm>
          <a:custGeom>
            <a:avLst/>
            <a:gdLst/>
            <a:ahLst/>
            <a:rect l="l" t="t" r="r" b="b"/>
            <a:pathLst>
              <a:path w="3449" h="2383">
                <a:moveTo>
                  <a:pt x="12328" y="16644"/>
                </a:moveTo>
                <a:cubicBezTo>
                  <a:pt x="12341" y="16684"/>
                  <a:pt x="12340" y="16654"/>
                  <a:pt x="12353" y="16694"/>
                </a:cubicBezTo>
                <a:cubicBezTo>
                  <a:pt x="12353" y="16668"/>
                  <a:pt x="12382" y="16629"/>
                  <a:pt x="12402" y="16594"/>
                </a:cubicBezTo>
              </a:path>
              <a:path w="3449" h="2383">
                <a:moveTo>
                  <a:pt x="12725" y="15776"/>
                </a:moveTo>
                <a:cubicBezTo>
                  <a:pt x="12857" y="15759"/>
                  <a:pt x="12973" y="15740"/>
                  <a:pt x="13097" y="15776"/>
                </a:cubicBezTo>
                <a:cubicBezTo>
                  <a:pt x="13145" y="15800"/>
                  <a:pt x="13159" y="15809"/>
                  <a:pt x="13196" y="15801"/>
                </a:cubicBezTo>
              </a:path>
              <a:path w="3449" h="2383">
                <a:moveTo>
                  <a:pt x="12824" y="15701"/>
                </a:moveTo>
                <a:cubicBezTo>
                  <a:pt x="12777" y="15738"/>
                  <a:pt x="12674" y="15802"/>
                  <a:pt x="12650" y="15850"/>
                </a:cubicBezTo>
                <a:cubicBezTo>
                  <a:pt x="12632" y="15888"/>
                  <a:pt x="12614" y="15944"/>
                  <a:pt x="12650" y="15974"/>
                </a:cubicBezTo>
                <a:cubicBezTo>
                  <a:pt x="12706" y="16020"/>
                  <a:pt x="12735" y="16011"/>
                  <a:pt x="12799" y="16024"/>
                </a:cubicBezTo>
                <a:cubicBezTo>
                  <a:pt x="12874" y="16039"/>
                  <a:pt x="12939" y="16066"/>
                  <a:pt x="12998" y="16098"/>
                </a:cubicBezTo>
                <a:cubicBezTo>
                  <a:pt x="13064" y="16134"/>
                  <a:pt x="13095" y="16201"/>
                  <a:pt x="13122" y="16272"/>
                </a:cubicBezTo>
                <a:cubicBezTo>
                  <a:pt x="13153" y="16352"/>
                  <a:pt x="13158" y="16423"/>
                  <a:pt x="13122" y="16495"/>
                </a:cubicBezTo>
                <a:cubicBezTo>
                  <a:pt x="13090" y="16559"/>
                  <a:pt x="13072" y="16619"/>
                  <a:pt x="12998" y="16644"/>
                </a:cubicBezTo>
                <a:cubicBezTo>
                  <a:pt x="12946" y="16662"/>
                  <a:pt x="12856" y="16644"/>
                  <a:pt x="12799" y="16644"/>
                </a:cubicBezTo>
              </a:path>
              <a:path w="3449" h="2383">
                <a:moveTo>
                  <a:pt x="12551" y="16743"/>
                </a:moveTo>
                <a:cubicBezTo>
                  <a:pt x="12706" y="16787"/>
                  <a:pt x="12859" y="16876"/>
                  <a:pt x="13022" y="16892"/>
                </a:cubicBezTo>
                <a:cubicBezTo>
                  <a:pt x="13149" y="16904"/>
                  <a:pt x="13269" y="16932"/>
                  <a:pt x="13395" y="16942"/>
                </a:cubicBezTo>
              </a:path>
              <a:path w="3449" h="2383">
                <a:moveTo>
                  <a:pt x="12923" y="17165"/>
                </a:moveTo>
                <a:cubicBezTo>
                  <a:pt x="12969" y="17157"/>
                  <a:pt x="12978" y="17157"/>
                  <a:pt x="13022" y="17140"/>
                </a:cubicBezTo>
                <a:cubicBezTo>
                  <a:pt x="13089" y="17114"/>
                  <a:pt x="13116" y="17115"/>
                  <a:pt x="13171" y="17165"/>
                </a:cubicBezTo>
                <a:cubicBezTo>
                  <a:pt x="13239" y="17226"/>
                  <a:pt x="13221" y="17304"/>
                  <a:pt x="13221" y="17388"/>
                </a:cubicBezTo>
                <a:cubicBezTo>
                  <a:pt x="13221" y="17476"/>
                  <a:pt x="13139" y="17597"/>
                  <a:pt x="13072" y="17661"/>
                </a:cubicBezTo>
                <a:cubicBezTo>
                  <a:pt x="12999" y="17731"/>
                  <a:pt x="12908" y="17732"/>
                  <a:pt x="12824" y="17760"/>
                </a:cubicBezTo>
                <a:cubicBezTo>
                  <a:pt x="12769" y="17778"/>
                  <a:pt x="12716" y="17807"/>
                  <a:pt x="12675" y="17735"/>
                </a:cubicBezTo>
                <a:cubicBezTo>
                  <a:pt x="12675" y="17727"/>
                  <a:pt x="12675" y="17719"/>
                  <a:pt x="12675" y="17711"/>
                </a:cubicBezTo>
                <a:cubicBezTo>
                  <a:pt x="12724" y="17626"/>
                  <a:pt x="12752" y="17608"/>
                  <a:pt x="12849" y="17636"/>
                </a:cubicBezTo>
                <a:cubicBezTo>
                  <a:pt x="12974" y="17673"/>
                  <a:pt x="13048" y="17756"/>
                  <a:pt x="13146" y="17835"/>
                </a:cubicBezTo>
                <a:cubicBezTo>
                  <a:pt x="13261" y="17928"/>
                  <a:pt x="13390" y="18011"/>
                  <a:pt x="13519" y="18083"/>
                </a:cubicBezTo>
              </a:path>
              <a:path w="3449" h="2383">
                <a:moveTo>
                  <a:pt x="13940" y="16619"/>
                </a:moveTo>
                <a:cubicBezTo>
                  <a:pt x="14022" y="16619"/>
                  <a:pt x="14087" y="16620"/>
                  <a:pt x="14163" y="16594"/>
                </a:cubicBezTo>
              </a:path>
              <a:path w="3449" h="2383">
                <a:moveTo>
                  <a:pt x="13816" y="16718"/>
                </a:moveTo>
                <a:cubicBezTo>
                  <a:pt x="13866" y="16787"/>
                  <a:pt x="13920" y="16818"/>
                  <a:pt x="14015" y="16793"/>
                </a:cubicBezTo>
                <a:cubicBezTo>
                  <a:pt x="14071" y="16764"/>
                  <a:pt x="14095" y="16753"/>
                  <a:pt x="14139" y="16743"/>
                </a:cubicBezTo>
              </a:path>
              <a:path w="3449" h="2383">
                <a:moveTo>
                  <a:pt x="14610" y="16148"/>
                </a:moveTo>
                <a:cubicBezTo>
                  <a:pt x="14727" y="16148"/>
                  <a:pt x="14849" y="16164"/>
                  <a:pt x="14957" y="16123"/>
                </a:cubicBezTo>
              </a:path>
              <a:path w="3449" h="2383">
                <a:moveTo>
                  <a:pt x="14635" y="16098"/>
                </a:moveTo>
                <a:cubicBezTo>
                  <a:pt x="14600" y="16168"/>
                  <a:pt x="14560" y="16220"/>
                  <a:pt x="14560" y="16297"/>
                </a:cubicBezTo>
                <a:cubicBezTo>
                  <a:pt x="14560" y="16369"/>
                  <a:pt x="14620" y="16351"/>
                  <a:pt x="14660" y="16371"/>
                </a:cubicBezTo>
                <a:cubicBezTo>
                  <a:pt x="14720" y="16402"/>
                  <a:pt x="14783" y="16405"/>
                  <a:pt x="14833" y="16470"/>
                </a:cubicBezTo>
                <a:cubicBezTo>
                  <a:pt x="14885" y="16538"/>
                  <a:pt x="14926" y="16615"/>
                  <a:pt x="14932" y="16694"/>
                </a:cubicBezTo>
                <a:cubicBezTo>
                  <a:pt x="14944" y="16849"/>
                  <a:pt x="14912" y="16905"/>
                  <a:pt x="14784" y="16966"/>
                </a:cubicBezTo>
                <a:cubicBezTo>
                  <a:pt x="14705" y="17003"/>
                  <a:pt x="14638" y="17000"/>
                  <a:pt x="14560" y="16966"/>
                </a:cubicBezTo>
                <a:cubicBezTo>
                  <a:pt x="14464" y="16924"/>
                  <a:pt x="14445" y="16861"/>
                  <a:pt x="14486" y="16768"/>
                </a:cubicBezTo>
                <a:cubicBezTo>
                  <a:pt x="14494" y="16751"/>
                  <a:pt x="14503" y="16735"/>
                  <a:pt x="14511" y="16718"/>
                </a:cubicBezTo>
              </a:path>
              <a:path w="3449" h="2383">
                <a:moveTo>
                  <a:pt x="15230" y="16297"/>
                </a:moveTo>
                <a:cubicBezTo>
                  <a:pt x="15378" y="16318"/>
                  <a:pt x="15529" y="16364"/>
                  <a:pt x="15677" y="16371"/>
                </a:cubicBezTo>
                <a:cubicBezTo>
                  <a:pt x="15728" y="16371"/>
                  <a:pt x="15747" y="16370"/>
                  <a:pt x="15776" y="16346"/>
                </a:cubicBezTo>
              </a:path>
              <a:path w="3449" h="2383">
                <a:moveTo>
                  <a:pt x="15379" y="16396"/>
                </a:moveTo>
                <a:cubicBezTo>
                  <a:pt x="15334" y="16587"/>
                  <a:pt x="15280" y="16751"/>
                  <a:pt x="15280" y="16942"/>
                </a:cubicBezTo>
                <a:cubicBezTo>
                  <a:pt x="15280" y="16958"/>
                  <a:pt x="15280" y="16975"/>
                  <a:pt x="15280" y="16991"/>
                </a:cubicBezTo>
              </a:path>
              <a:path w="3449" h="2383">
                <a:moveTo>
                  <a:pt x="15627" y="16520"/>
                </a:moveTo>
                <a:cubicBezTo>
                  <a:pt x="15664" y="16843"/>
                  <a:pt x="15711" y="17126"/>
                  <a:pt x="15776" y="174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3680" y="5983200"/>
            <a:ext cx="920520" cy="677880"/>
          </a:xfrm>
          <a:custGeom>
            <a:avLst/>
            <a:gdLst/>
            <a:ahLst/>
            <a:rect l="l" t="t" r="r" b="b"/>
            <a:pathLst>
              <a:path w="2556" h="1886">
                <a:moveTo>
                  <a:pt x="4787" y="16619"/>
                </a:moveTo>
                <a:cubicBezTo>
                  <a:pt x="4779" y="16763"/>
                  <a:pt x="4749" y="16899"/>
                  <a:pt x="4738" y="17041"/>
                </a:cubicBezTo>
                <a:cubicBezTo>
                  <a:pt x="4727" y="17179"/>
                  <a:pt x="4732" y="17326"/>
                  <a:pt x="4713" y="17462"/>
                </a:cubicBezTo>
                <a:cubicBezTo>
                  <a:pt x="4701" y="17548"/>
                  <a:pt x="4690" y="17655"/>
                  <a:pt x="4663" y="17735"/>
                </a:cubicBezTo>
                <a:cubicBezTo>
                  <a:pt x="4643" y="17776"/>
                  <a:pt x="4634" y="17782"/>
                  <a:pt x="4638" y="17810"/>
                </a:cubicBezTo>
                <a:cubicBezTo>
                  <a:pt x="4626" y="17785"/>
                  <a:pt x="4603" y="17774"/>
                  <a:pt x="4614" y="17711"/>
                </a:cubicBezTo>
                <a:cubicBezTo>
                  <a:pt x="4629" y="17622"/>
                  <a:pt x="4621" y="17525"/>
                  <a:pt x="4638" y="17438"/>
                </a:cubicBezTo>
                <a:cubicBezTo>
                  <a:pt x="4649" y="17384"/>
                  <a:pt x="4658" y="17313"/>
                  <a:pt x="4688" y="17264"/>
                </a:cubicBezTo>
                <a:cubicBezTo>
                  <a:pt x="4727" y="17200"/>
                  <a:pt x="4774" y="17190"/>
                  <a:pt x="4837" y="17214"/>
                </a:cubicBezTo>
                <a:cubicBezTo>
                  <a:pt x="4926" y="17248"/>
                  <a:pt x="4995" y="17355"/>
                  <a:pt x="5035" y="17438"/>
                </a:cubicBezTo>
                <a:cubicBezTo>
                  <a:pt x="5099" y="17571"/>
                  <a:pt x="5070" y="17674"/>
                  <a:pt x="4961" y="17760"/>
                </a:cubicBezTo>
                <a:cubicBezTo>
                  <a:pt x="4865" y="17836"/>
                  <a:pt x="4806" y="17835"/>
                  <a:pt x="4688" y="17835"/>
                </a:cubicBezTo>
                <a:cubicBezTo>
                  <a:pt x="4594" y="17835"/>
                  <a:pt x="4618" y="17834"/>
                  <a:pt x="4539" y="17810"/>
                </a:cubicBezTo>
                <a:cubicBezTo>
                  <a:pt x="4563" y="17716"/>
                  <a:pt x="4599" y="17707"/>
                  <a:pt x="4688" y="17636"/>
                </a:cubicBezTo>
              </a:path>
              <a:path w="2556" h="1886">
                <a:moveTo>
                  <a:pt x="5432" y="17462"/>
                </a:moveTo>
                <a:cubicBezTo>
                  <a:pt x="5488" y="17477"/>
                  <a:pt x="5734" y="17572"/>
                  <a:pt x="5804" y="17537"/>
                </a:cubicBezTo>
              </a:path>
              <a:path w="2556" h="1886">
                <a:moveTo>
                  <a:pt x="5407" y="17711"/>
                </a:moveTo>
                <a:cubicBezTo>
                  <a:pt x="5531" y="17752"/>
                  <a:pt x="5556" y="17776"/>
                  <a:pt x="5631" y="17735"/>
                </a:cubicBezTo>
              </a:path>
              <a:path w="2556" h="1886">
                <a:moveTo>
                  <a:pt x="6028" y="17264"/>
                </a:moveTo>
                <a:cubicBezTo>
                  <a:pt x="6136" y="17238"/>
                  <a:pt x="6255" y="17188"/>
                  <a:pt x="6350" y="17289"/>
                </a:cubicBezTo>
                <a:cubicBezTo>
                  <a:pt x="6422" y="17366"/>
                  <a:pt x="6366" y="17493"/>
                  <a:pt x="6325" y="17562"/>
                </a:cubicBezTo>
                <a:cubicBezTo>
                  <a:pt x="6257" y="17677"/>
                  <a:pt x="6149" y="17717"/>
                  <a:pt x="6028" y="17760"/>
                </a:cubicBezTo>
                <a:cubicBezTo>
                  <a:pt x="5964" y="17783"/>
                  <a:pt x="5910" y="17806"/>
                  <a:pt x="5879" y="17785"/>
                </a:cubicBezTo>
                <a:cubicBezTo>
                  <a:pt x="5922" y="17742"/>
                  <a:pt x="5985" y="17683"/>
                  <a:pt x="6052" y="17686"/>
                </a:cubicBezTo>
                <a:cubicBezTo>
                  <a:pt x="6118" y="17689"/>
                  <a:pt x="6168" y="17761"/>
                  <a:pt x="6201" y="17810"/>
                </a:cubicBezTo>
                <a:cubicBezTo>
                  <a:pt x="6249" y="17881"/>
                  <a:pt x="6246" y="17950"/>
                  <a:pt x="6325" y="17934"/>
                </a:cubicBezTo>
              </a:path>
              <a:path w="2556" h="1886">
                <a:moveTo>
                  <a:pt x="6796" y="17289"/>
                </a:moveTo>
                <a:cubicBezTo>
                  <a:pt x="6669" y="17561"/>
                  <a:pt x="6551" y="17804"/>
                  <a:pt x="6400" y="18058"/>
                </a:cubicBezTo>
                <a:cubicBezTo>
                  <a:pt x="6331" y="18175"/>
                  <a:pt x="6232" y="18321"/>
                  <a:pt x="6201" y="18455"/>
                </a:cubicBezTo>
                <a:cubicBezTo>
                  <a:pt x="6188" y="18512"/>
                  <a:pt x="6197" y="18489"/>
                  <a:pt x="6226" y="18479"/>
                </a:cubicBezTo>
              </a:path>
              <a:path w="2556" h="1886">
                <a:moveTo>
                  <a:pt x="6722" y="17959"/>
                </a:moveTo>
                <a:cubicBezTo>
                  <a:pt x="6847" y="17940"/>
                  <a:pt x="6969" y="17918"/>
                  <a:pt x="7094" y="17909"/>
                </a:cubicBezTo>
              </a:path>
              <a:path w="2556" h="1886">
                <a:moveTo>
                  <a:pt x="6921" y="17785"/>
                </a:moveTo>
                <a:cubicBezTo>
                  <a:pt x="6814" y="17883"/>
                  <a:pt x="6772" y="17928"/>
                  <a:pt x="6796" y="18083"/>
                </a:cubicBezTo>
                <a:cubicBezTo>
                  <a:pt x="6817" y="18214"/>
                  <a:pt x="6916" y="18361"/>
                  <a:pt x="6871" y="18479"/>
                </a:cubicBezTo>
                <a:cubicBezTo>
                  <a:pt x="6845" y="18548"/>
                  <a:pt x="6730" y="18478"/>
                  <a:pt x="6697" y="18455"/>
                </a:cubicBezTo>
                <a:cubicBezTo>
                  <a:pt x="6595" y="18385"/>
                  <a:pt x="6593" y="18357"/>
                  <a:pt x="6548" y="18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1838160" cy="373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20840" y="1455840"/>
            <a:ext cx="733320" cy="482400"/>
          </a:xfrm>
          <a:custGeom>
            <a:avLst/>
            <a:gdLst/>
            <a:ahLst/>
            <a:rect l="l" t="t" r="r" b="b"/>
            <a:pathLst>
              <a:path w="2035" h="1341">
                <a:moveTo>
                  <a:pt x="3671" y="4043"/>
                </a:moveTo>
                <a:cubicBezTo>
                  <a:pt x="3713" y="4136"/>
                  <a:pt x="3738" y="4239"/>
                  <a:pt x="3746" y="4341"/>
                </a:cubicBezTo>
                <a:cubicBezTo>
                  <a:pt x="3757" y="4490"/>
                  <a:pt x="3757" y="4641"/>
                  <a:pt x="3795" y="4787"/>
                </a:cubicBezTo>
                <a:cubicBezTo>
                  <a:pt x="3826" y="4905"/>
                  <a:pt x="3839" y="5038"/>
                  <a:pt x="3845" y="5159"/>
                </a:cubicBezTo>
                <a:cubicBezTo>
                  <a:pt x="3849" y="5226"/>
                  <a:pt x="3845" y="5210"/>
                  <a:pt x="3820" y="5259"/>
                </a:cubicBezTo>
                <a:cubicBezTo>
                  <a:pt x="3813" y="5211"/>
                  <a:pt x="3808" y="5181"/>
                  <a:pt x="3795" y="5135"/>
                </a:cubicBezTo>
                <a:cubicBezTo>
                  <a:pt x="3768" y="5037"/>
                  <a:pt x="3746" y="4990"/>
                  <a:pt x="3746" y="4887"/>
                </a:cubicBezTo>
                <a:cubicBezTo>
                  <a:pt x="3746" y="4823"/>
                  <a:pt x="3742" y="4737"/>
                  <a:pt x="3795" y="4688"/>
                </a:cubicBezTo>
                <a:cubicBezTo>
                  <a:pt x="3902" y="4588"/>
                  <a:pt x="4066" y="4670"/>
                  <a:pt x="4142" y="4762"/>
                </a:cubicBezTo>
                <a:cubicBezTo>
                  <a:pt x="4200" y="4833"/>
                  <a:pt x="4210" y="4944"/>
                  <a:pt x="4192" y="5035"/>
                </a:cubicBezTo>
                <a:cubicBezTo>
                  <a:pt x="4170" y="5147"/>
                  <a:pt x="4071" y="5213"/>
                  <a:pt x="3994" y="5283"/>
                </a:cubicBezTo>
                <a:cubicBezTo>
                  <a:pt x="3942" y="5330"/>
                  <a:pt x="3848" y="5401"/>
                  <a:pt x="3770" y="5383"/>
                </a:cubicBezTo>
                <a:cubicBezTo>
                  <a:pt x="3695" y="5366"/>
                  <a:pt x="3715" y="5296"/>
                  <a:pt x="3746" y="5234"/>
                </a:cubicBezTo>
                <a:cubicBezTo>
                  <a:pt x="3762" y="5209"/>
                  <a:pt x="3779" y="5184"/>
                  <a:pt x="3795" y="5159"/>
                </a:cubicBezTo>
              </a:path>
              <a:path w="2035" h="1341">
                <a:moveTo>
                  <a:pt x="4614" y="4589"/>
                </a:moveTo>
                <a:cubicBezTo>
                  <a:pt x="4707" y="4577"/>
                  <a:pt x="4791" y="4581"/>
                  <a:pt x="4862" y="4539"/>
                </a:cubicBezTo>
              </a:path>
              <a:path w="2035" h="1341">
                <a:moveTo>
                  <a:pt x="4539" y="5011"/>
                </a:moveTo>
                <a:cubicBezTo>
                  <a:pt x="4663" y="4983"/>
                  <a:pt x="4773" y="4960"/>
                  <a:pt x="4862" y="4862"/>
                </a:cubicBezTo>
                <a:cubicBezTo>
                  <a:pt x="4878" y="4837"/>
                  <a:pt x="4895" y="4812"/>
                  <a:pt x="4911" y="4787"/>
                </a:cubicBezTo>
              </a:path>
              <a:path w="2035" h="1341">
                <a:moveTo>
                  <a:pt x="5135" y="4242"/>
                </a:moveTo>
                <a:cubicBezTo>
                  <a:pt x="5135" y="4572"/>
                  <a:pt x="4966" y="5477"/>
                  <a:pt x="5159" y="5209"/>
                </a:cubicBezTo>
                <a:cubicBezTo>
                  <a:pt x="5159" y="5201"/>
                  <a:pt x="5159" y="5192"/>
                  <a:pt x="5159" y="5184"/>
                </a:cubicBezTo>
              </a:path>
              <a:path w="2035" h="1341">
                <a:moveTo>
                  <a:pt x="5432" y="4514"/>
                </a:moveTo>
                <a:cubicBezTo>
                  <a:pt x="5427" y="4667"/>
                  <a:pt x="5359" y="4885"/>
                  <a:pt x="5383" y="5035"/>
                </a:cubicBezTo>
                <a:cubicBezTo>
                  <a:pt x="5391" y="5086"/>
                  <a:pt x="5462" y="5132"/>
                  <a:pt x="5507" y="5135"/>
                </a:cubicBezTo>
                <a:cubicBezTo>
                  <a:pt x="5592" y="5141"/>
                  <a:pt x="5627" y="5082"/>
                  <a:pt x="5655" y="5011"/>
                </a:cubicBezTo>
                <a:cubicBezTo>
                  <a:pt x="5699" y="4899"/>
                  <a:pt x="5705" y="4807"/>
                  <a:pt x="5705" y="4688"/>
                </a:cubicBezTo>
                <a:cubicBezTo>
                  <a:pt x="5705" y="4593"/>
                  <a:pt x="5660" y="4508"/>
                  <a:pt x="5556" y="4490"/>
                </a:cubicBezTo>
                <a:cubicBezTo>
                  <a:pt x="5494" y="4479"/>
                  <a:pt x="5421" y="4490"/>
                  <a:pt x="5358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01920" y="785880"/>
            <a:ext cx="1751040" cy="866880"/>
          </a:xfrm>
          <a:custGeom>
            <a:avLst/>
            <a:gdLst/>
            <a:ahLst/>
            <a:rect l="l" t="t" r="r" b="b"/>
            <a:pathLst>
              <a:path w="4863" h="2407">
                <a:moveTo>
                  <a:pt x="7913" y="2480"/>
                </a:moveTo>
                <a:cubicBezTo>
                  <a:pt x="7913" y="2505"/>
                  <a:pt x="7913" y="2480"/>
                  <a:pt x="7913" y="2505"/>
                </a:cubicBezTo>
                <a:cubicBezTo>
                  <a:pt x="7913" y="2404"/>
                  <a:pt x="7914" y="2374"/>
                  <a:pt x="7962" y="2282"/>
                </a:cubicBezTo>
                <a:cubicBezTo>
                  <a:pt x="7996" y="2218"/>
                  <a:pt x="8013" y="2186"/>
                  <a:pt x="8086" y="2183"/>
                </a:cubicBezTo>
                <a:cubicBezTo>
                  <a:pt x="8165" y="2179"/>
                  <a:pt x="8206" y="2202"/>
                  <a:pt x="8235" y="2282"/>
                </a:cubicBezTo>
                <a:cubicBezTo>
                  <a:pt x="8292" y="2442"/>
                  <a:pt x="8292" y="2588"/>
                  <a:pt x="8260" y="2753"/>
                </a:cubicBezTo>
                <a:cubicBezTo>
                  <a:pt x="8233" y="2892"/>
                  <a:pt x="8165" y="3058"/>
                  <a:pt x="8086" y="3175"/>
                </a:cubicBezTo>
                <a:cubicBezTo>
                  <a:pt x="8046" y="3234"/>
                  <a:pt x="7960" y="3308"/>
                  <a:pt x="7888" y="3324"/>
                </a:cubicBezTo>
                <a:cubicBezTo>
                  <a:pt x="7844" y="3334"/>
                  <a:pt x="7756" y="3331"/>
                  <a:pt x="7739" y="3274"/>
                </a:cubicBezTo>
                <a:cubicBezTo>
                  <a:pt x="7720" y="3209"/>
                  <a:pt x="7800" y="3096"/>
                  <a:pt x="7838" y="3051"/>
                </a:cubicBezTo>
                <a:cubicBezTo>
                  <a:pt x="7919" y="2955"/>
                  <a:pt x="7955" y="2941"/>
                  <a:pt x="8062" y="2977"/>
                </a:cubicBezTo>
                <a:cubicBezTo>
                  <a:pt x="8148" y="3006"/>
                  <a:pt x="8222" y="3081"/>
                  <a:pt x="8310" y="3101"/>
                </a:cubicBezTo>
                <a:cubicBezTo>
                  <a:pt x="8358" y="3112"/>
                  <a:pt x="8400" y="3104"/>
                  <a:pt x="8434" y="3076"/>
                </a:cubicBezTo>
                <a:cubicBezTo>
                  <a:pt x="8471" y="3046"/>
                  <a:pt x="8487" y="2993"/>
                  <a:pt x="8508" y="2952"/>
                </a:cubicBezTo>
              </a:path>
              <a:path w="4863" h="2407">
                <a:moveTo>
                  <a:pt x="8607" y="2332"/>
                </a:moveTo>
                <a:cubicBezTo>
                  <a:pt x="8702" y="2340"/>
                  <a:pt x="8782" y="2356"/>
                  <a:pt x="8880" y="2356"/>
                </a:cubicBezTo>
                <a:cubicBezTo>
                  <a:pt x="8932" y="2356"/>
                  <a:pt x="9047" y="2383"/>
                  <a:pt x="9079" y="2332"/>
                </a:cubicBezTo>
                <a:cubicBezTo>
                  <a:pt x="9086" y="2320"/>
                  <a:pt x="9079" y="2238"/>
                  <a:pt x="9079" y="2232"/>
                </a:cubicBezTo>
              </a:path>
              <a:path w="4863" h="2407">
                <a:moveTo>
                  <a:pt x="8756" y="2208"/>
                </a:moveTo>
                <a:cubicBezTo>
                  <a:pt x="8713" y="2449"/>
                  <a:pt x="8689" y="2590"/>
                  <a:pt x="8756" y="2828"/>
                </a:cubicBezTo>
                <a:cubicBezTo>
                  <a:pt x="8773" y="2888"/>
                  <a:pt x="8791" y="2950"/>
                  <a:pt x="8806" y="3001"/>
                </a:cubicBezTo>
                <a:cubicBezTo>
                  <a:pt x="8806" y="3036"/>
                  <a:pt x="8801" y="3035"/>
                  <a:pt x="8781" y="2977"/>
                </a:cubicBezTo>
              </a:path>
              <a:path w="4863" h="2407">
                <a:moveTo>
                  <a:pt x="9029" y="2381"/>
                </a:moveTo>
                <a:cubicBezTo>
                  <a:pt x="9012" y="2586"/>
                  <a:pt x="9008" y="2714"/>
                  <a:pt x="9029" y="2902"/>
                </a:cubicBezTo>
                <a:cubicBezTo>
                  <a:pt x="9035" y="2958"/>
                  <a:pt x="9041" y="3041"/>
                  <a:pt x="9103" y="3076"/>
                </a:cubicBezTo>
                <a:cubicBezTo>
                  <a:pt x="9131" y="3076"/>
                  <a:pt x="9142" y="3078"/>
                  <a:pt x="9153" y="3101"/>
                </a:cubicBezTo>
              </a:path>
              <a:path w="4863" h="2407">
                <a:moveTo>
                  <a:pt x="7813" y="3398"/>
                </a:moveTo>
                <a:cubicBezTo>
                  <a:pt x="7933" y="3443"/>
                  <a:pt x="8037" y="3407"/>
                  <a:pt x="8161" y="3398"/>
                </a:cubicBezTo>
                <a:cubicBezTo>
                  <a:pt x="8334" y="3386"/>
                  <a:pt x="8510" y="3385"/>
                  <a:pt x="8682" y="3373"/>
                </a:cubicBezTo>
                <a:cubicBezTo>
                  <a:pt x="8879" y="3360"/>
                  <a:pt x="9080" y="3357"/>
                  <a:pt x="9277" y="3349"/>
                </a:cubicBezTo>
                <a:cubicBezTo>
                  <a:pt x="9373" y="3345"/>
                  <a:pt x="9192" y="3397"/>
                  <a:pt x="9178" y="3398"/>
                </a:cubicBezTo>
              </a:path>
              <a:path w="4863" h="2407">
                <a:moveTo>
                  <a:pt x="8186" y="3646"/>
                </a:moveTo>
                <a:cubicBezTo>
                  <a:pt x="8186" y="3918"/>
                  <a:pt x="8170" y="4202"/>
                  <a:pt x="8210" y="4465"/>
                </a:cubicBezTo>
                <a:cubicBezTo>
                  <a:pt x="8217" y="4511"/>
                  <a:pt x="8174" y="4639"/>
                  <a:pt x="8210" y="4539"/>
                </a:cubicBezTo>
                <a:cubicBezTo>
                  <a:pt x="8218" y="4523"/>
                  <a:pt x="8227" y="4506"/>
                  <a:pt x="8235" y="4490"/>
                </a:cubicBezTo>
              </a:path>
              <a:path w="4863" h="2407">
                <a:moveTo>
                  <a:pt x="8533" y="3870"/>
                </a:moveTo>
                <a:cubicBezTo>
                  <a:pt x="8513" y="4038"/>
                  <a:pt x="8508" y="4197"/>
                  <a:pt x="8508" y="4366"/>
                </a:cubicBezTo>
                <a:cubicBezTo>
                  <a:pt x="8508" y="4449"/>
                  <a:pt x="8501" y="4500"/>
                  <a:pt x="8558" y="4564"/>
                </a:cubicBezTo>
                <a:cubicBezTo>
                  <a:pt x="8579" y="4588"/>
                  <a:pt x="8673" y="4609"/>
                  <a:pt x="8706" y="4589"/>
                </a:cubicBezTo>
                <a:cubicBezTo>
                  <a:pt x="8775" y="4548"/>
                  <a:pt x="8870" y="4436"/>
                  <a:pt x="8905" y="4366"/>
                </a:cubicBezTo>
                <a:cubicBezTo>
                  <a:pt x="8945" y="4286"/>
                  <a:pt x="9006" y="4060"/>
                  <a:pt x="8905" y="3994"/>
                </a:cubicBezTo>
                <a:cubicBezTo>
                  <a:pt x="8828" y="3944"/>
                  <a:pt x="8715" y="3926"/>
                  <a:pt x="8632" y="3894"/>
                </a:cubicBezTo>
                <a:cubicBezTo>
                  <a:pt x="8587" y="3876"/>
                  <a:pt x="8542" y="3875"/>
                  <a:pt x="8508" y="3845"/>
                </a:cubicBezTo>
                <a:cubicBezTo>
                  <a:pt x="8500" y="3837"/>
                  <a:pt x="8491" y="3828"/>
                  <a:pt x="8483" y="3820"/>
                </a:cubicBezTo>
              </a:path>
              <a:path w="4863" h="2407">
                <a:moveTo>
                  <a:pt x="6772" y="3423"/>
                </a:moveTo>
                <a:cubicBezTo>
                  <a:pt x="6772" y="3600"/>
                  <a:pt x="6800" y="3747"/>
                  <a:pt x="6821" y="3919"/>
                </a:cubicBezTo>
                <a:cubicBezTo>
                  <a:pt x="6830" y="3991"/>
                  <a:pt x="6821" y="4069"/>
                  <a:pt x="6821" y="4142"/>
                </a:cubicBezTo>
                <a:cubicBezTo>
                  <a:pt x="6821" y="4210"/>
                  <a:pt x="6821" y="4057"/>
                  <a:pt x="6821" y="4043"/>
                </a:cubicBezTo>
                <a:cubicBezTo>
                  <a:pt x="6821" y="3950"/>
                  <a:pt x="6776" y="3858"/>
                  <a:pt x="6747" y="3770"/>
                </a:cubicBezTo>
                <a:cubicBezTo>
                  <a:pt x="6715" y="3673"/>
                  <a:pt x="6683" y="3573"/>
                  <a:pt x="6672" y="3473"/>
                </a:cubicBezTo>
                <a:cubicBezTo>
                  <a:pt x="6659" y="3358"/>
                  <a:pt x="6680" y="3245"/>
                  <a:pt x="6796" y="3200"/>
                </a:cubicBezTo>
                <a:cubicBezTo>
                  <a:pt x="6857" y="3177"/>
                  <a:pt x="6956" y="3280"/>
                  <a:pt x="6970" y="3324"/>
                </a:cubicBezTo>
                <a:cubicBezTo>
                  <a:pt x="6995" y="3400"/>
                  <a:pt x="7025" y="3569"/>
                  <a:pt x="6970" y="3646"/>
                </a:cubicBezTo>
                <a:cubicBezTo>
                  <a:pt x="6967" y="3651"/>
                  <a:pt x="6872" y="3745"/>
                  <a:pt x="6871" y="3746"/>
                </a:cubicBezTo>
                <a:cubicBezTo>
                  <a:pt x="6847" y="3762"/>
                  <a:pt x="6854" y="3719"/>
                  <a:pt x="6871" y="3696"/>
                </a:cubicBezTo>
              </a:path>
              <a:path w="4863" h="2407">
                <a:moveTo>
                  <a:pt x="7268" y="3324"/>
                </a:moveTo>
                <a:cubicBezTo>
                  <a:pt x="7309" y="3324"/>
                  <a:pt x="7351" y="3324"/>
                  <a:pt x="7392" y="3324"/>
                </a:cubicBezTo>
              </a:path>
              <a:path w="4863" h="2407">
                <a:moveTo>
                  <a:pt x="7218" y="3597"/>
                </a:moveTo>
                <a:cubicBezTo>
                  <a:pt x="7297" y="3589"/>
                  <a:pt x="7362" y="3577"/>
                  <a:pt x="7441" y="3547"/>
                </a:cubicBezTo>
                <a:cubicBezTo>
                  <a:pt x="7458" y="3539"/>
                  <a:pt x="7474" y="3530"/>
                  <a:pt x="7491" y="3522"/>
                </a:cubicBezTo>
              </a:path>
              <a:path w="4863" h="2407">
                <a:moveTo>
                  <a:pt x="9872" y="3076"/>
                </a:moveTo>
                <a:cubicBezTo>
                  <a:pt x="9938" y="3076"/>
                  <a:pt x="9986" y="3055"/>
                  <a:pt x="10046" y="3051"/>
                </a:cubicBezTo>
                <a:cubicBezTo>
                  <a:pt x="10078" y="3049"/>
                  <a:pt x="10112" y="3051"/>
                  <a:pt x="10145" y="3051"/>
                </a:cubicBezTo>
              </a:path>
              <a:path w="4863" h="2407">
                <a:moveTo>
                  <a:pt x="9922" y="3324"/>
                </a:moveTo>
                <a:cubicBezTo>
                  <a:pt x="10026" y="3294"/>
                  <a:pt x="10103" y="3275"/>
                  <a:pt x="10195" y="3225"/>
                </a:cubicBezTo>
              </a:path>
              <a:path w="4863" h="2407">
                <a:moveTo>
                  <a:pt x="10616" y="2480"/>
                </a:moveTo>
                <a:cubicBezTo>
                  <a:pt x="10742" y="2439"/>
                  <a:pt x="10879" y="2398"/>
                  <a:pt x="11013" y="2381"/>
                </a:cubicBezTo>
                <a:cubicBezTo>
                  <a:pt x="11126" y="2366"/>
                  <a:pt x="11249" y="2375"/>
                  <a:pt x="11361" y="2356"/>
                </a:cubicBezTo>
                <a:cubicBezTo>
                  <a:pt x="11418" y="2337"/>
                  <a:pt x="11425" y="2329"/>
                  <a:pt x="11460" y="2332"/>
                </a:cubicBezTo>
              </a:path>
              <a:path w="4863" h="2407">
                <a:moveTo>
                  <a:pt x="10914" y="2356"/>
                </a:moveTo>
                <a:cubicBezTo>
                  <a:pt x="10889" y="2496"/>
                  <a:pt x="10838" y="2659"/>
                  <a:pt x="10864" y="2803"/>
                </a:cubicBezTo>
                <a:cubicBezTo>
                  <a:pt x="10877" y="2872"/>
                  <a:pt x="10921" y="2943"/>
                  <a:pt x="10939" y="3001"/>
                </a:cubicBezTo>
                <a:cubicBezTo>
                  <a:pt x="10941" y="3008"/>
                  <a:pt x="10939" y="3094"/>
                  <a:pt x="10939" y="3026"/>
                </a:cubicBezTo>
                <a:cubicBezTo>
                  <a:pt x="10939" y="2955"/>
                  <a:pt x="10957" y="2899"/>
                  <a:pt x="10964" y="2828"/>
                </a:cubicBezTo>
              </a:path>
              <a:path w="4863" h="2407">
                <a:moveTo>
                  <a:pt x="11088" y="2456"/>
                </a:moveTo>
                <a:cubicBezTo>
                  <a:pt x="11133" y="2601"/>
                  <a:pt x="11137" y="2702"/>
                  <a:pt x="11137" y="2853"/>
                </a:cubicBezTo>
                <a:cubicBezTo>
                  <a:pt x="11137" y="2932"/>
                  <a:pt x="11148" y="2992"/>
                  <a:pt x="11187" y="3051"/>
                </a:cubicBezTo>
                <a:cubicBezTo>
                  <a:pt x="11195" y="3059"/>
                  <a:pt x="11204" y="3068"/>
                  <a:pt x="11212" y="3076"/>
                </a:cubicBezTo>
              </a:path>
              <a:path w="4863" h="2407">
                <a:moveTo>
                  <a:pt x="10716" y="3175"/>
                </a:moveTo>
                <a:cubicBezTo>
                  <a:pt x="10862" y="3204"/>
                  <a:pt x="10922" y="3170"/>
                  <a:pt x="11063" y="3150"/>
                </a:cubicBezTo>
                <a:cubicBezTo>
                  <a:pt x="11168" y="3135"/>
                  <a:pt x="11278" y="3106"/>
                  <a:pt x="11385" y="3101"/>
                </a:cubicBezTo>
                <a:cubicBezTo>
                  <a:pt x="11402" y="3101"/>
                  <a:pt x="11418" y="3101"/>
                  <a:pt x="11435" y="3101"/>
                </a:cubicBezTo>
              </a:path>
              <a:path w="4863" h="2407">
                <a:moveTo>
                  <a:pt x="11038" y="3522"/>
                </a:moveTo>
                <a:cubicBezTo>
                  <a:pt x="11145" y="3534"/>
                  <a:pt x="11275" y="3547"/>
                  <a:pt x="11385" y="3522"/>
                </a:cubicBezTo>
                <a:cubicBezTo>
                  <a:pt x="11435" y="3510"/>
                  <a:pt x="11481" y="3482"/>
                  <a:pt x="11534" y="3473"/>
                </a:cubicBezTo>
              </a:path>
              <a:path w="4863" h="2407">
                <a:moveTo>
                  <a:pt x="11013" y="3572"/>
                </a:moveTo>
                <a:cubicBezTo>
                  <a:pt x="10943" y="3736"/>
                  <a:pt x="10936" y="3734"/>
                  <a:pt x="10964" y="3870"/>
                </a:cubicBezTo>
                <a:cubicBezTo>
                  <a:pt x="10973" y="3916"/>
                  <a:pt x="10984" y="3970"/>
                  <a:pt x="11038" y="3994"/>
                </a:cubicBezTo>
                <a:cubicBezTo>
                  <a:pt x="11083" y="4014"/>
                  <a:pt x="11101" y="3975"/>
                  <a:pt x="11112" y="3969"/>
                </a:cubicBezTo>
                <a:cubicBezTo>
                  <a:pt x="11160" y="3945"/>
                  <a:pt x="11172" y="3914"/>
                  <a:pt x="11212" y="3870"/>
                </a:cubicBezTo>
                <a:cubicBezTo>
                  <a:pt x="11274" y="3802"/>
                  <a:pt x="11366" y="3834"/>
                  <a:pt x="11435" y="3870"/>
                </a:cubicBezTo>
                <a:cubicBezTo>
                  <a:pt x="11497" y="3902"/>
                  <a:pt x="11507" y="4009"/>
                  <a:pt x="11509" y="4068"/>
                </a:cubicBezTo>
                <a:cubicBezTo>
                  <a:pt x="11512" y="4153"/>
                  <a:pt x="11510" y="4219"/>
                  <a:pt x="11460" y="4291"/>
                </a:cubicBezTo>
                <a:cubicBezTo>
                  <a:pt x="11423" y="4344"/>
                  <a:pt x="11344" y="4363"/>
                  <a:pt x="11286" y="4366"/>
                </a:cubicBezTo>
                <a:cubicBezTo>
                  <a:pt x="11193" y="4370"/>
                  <a:pt x="11101" y="4373"/>
                  <a:pt x="11013" y="4341"/>
                </a:cubicBezTo>
                <a:cubicBezTo>
                  <a:pt x="10967" y="4324"/>
                  <a:pt x="10873" y="4325"/>
                  <a:pt x="10864" y="4291"/>
                </a:cubicBezTo>
                <a:cubicBezTo>
                  <a:pt x="10864" y="4283"/>
                  <a:pt x="10864" y="4274"/>
                  <a:pt x="10864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8840" y="2286000"/>
            <a:ext cx="1268280" cy="901800"/>
          </a:xfrm>
          <a:custGeom>
            <a:avLst/>
            <a:gdLst/>
            <a:ahLst/>
            <a:rect l="l" t="t" r="r" b="b"/>
            <a:pathLst>
              <a:path w="3523" h="2506">
                <a:moveTo>
                  <a:pt x="7268" y="7491"/>
                </a:moveTo>
                <a:cubicBezTo>
                  <a:pt x="7268" y="7654"/>
                  <a:pt x="7231" y="7802"/>
                  <a:pt x="7218" y="7962"/>
                </a:cubicBezTo>
                <a:cubicBezTo>
                  <a:pt x="7207" y="8102"/>
                  <a:pt x="7238" y="8224"/>
                  <a:pt x="7243" y="8359"/>
                </a:cubicBezTo>
                <a:cubicBezTo>
                  <a:pt x="7246" y="8425"/>
                  <a:pt x="7243" y="8492"/>
                  <a:pt x="7243" y="8558"/>
                </a:cubicBezTo>
                <a:cubicBezTo>
                  <a:pt x="7255" y="8512"/>
                  <a:pt x="7268" y="8451"/>
                  <a:pt x="7268" y="8359"/>
                </a:cubicBezTo>
                <a:cubicBezTo>
                  <a:pt x="7268" y="8141"/>
                  <a:pt x="7274" y="7928"/>
                  <a:pt x="7293" y="7714"/>
                </a:cubicBezTo>
                <a:cubicBezTo>
                  <a:pt x="7301" y="7622"/>
                  <a:pt x="7315" y="7499"/>
                  <a:pt x="7367" y="7417"/>
                </a:cubicBezTo>
                <a:cubicBezTo>
                  <a:pt x="7414" y="7343"/>
                  <a:pt x="7498" y="7276"/>
                  <a:pt x="7590" y="7293"/>
                </a:cubicBezTo>
                <a:cubicBezTo>
                  <a:pt x="7678" y="7309"/>
                  <a:pt x="7752" y="7437"/>
                  <a:pt x="7764" y="7516"/>
                </a:cubicBezTo>
                <a:cubicBezTo>
                  <a:pt x="7784" y="7642"/>
                  <a:pt x="7716" y="7724"/>
                  <a:pt x="7640" y="7813"/>
                </a:cubicBezTo>
                <a:cubicBezTo>
                  <a:pt x="7602" y="7857"/>
                  <a:pt x="7529" y="7917"/>
                  <a:pt x="7466" y="7913"/>
                </a:cubicBezTo>
                <a:cubicBezTo>
                  <a:pt x="7411" y="7910"/>
                  <a:pt x="7455" y="7876"/>
                  <a:pt x="7466" y="7838"/>
                </a:cubicBezTo>
              </a:path>
              <a:path w="3523" h="2506">
                <a:moveTo>
                  <a:pt x="8086" y="7565"/>
                </a:moveTo>
                <a:cubicBezTo>
                  <a:pt x="8215" y="7571"/>
                  <a:pt x="8285" y="7560"/>
                  <a:pt x="8384" y="7640"/>
                </a:cubicBezTo>
              </a:path>
              <a:path w="3523" h="2506">
                <a:moveTo>
                  <a:pt x="8086" y="7838"/>
                </a:moveTo>
                <a:cubicBezTo>
                  <a:pt x="8252" y="7853"/>
                  <a:pt x="8349" y="7840"/>
                  <a:pt x="8508" y="7789"/>
                </a:cubicBezTo>
                <a:cubicBezTo>
                  <a:pt x="8533" y="7781"/>
                  <a:pt x="8557" y="7772"/>
                  <a:pt x="8582" y="7764"/>
                </a:cubicBezTo>
              </a:path>
              <a:path w="3523" h="2506">
                <a:moveTo>
                  <a:pt x="9079" y="6623"/>
                </a:moveTo>
                <a:cubicBezTo>
                  <a:pt x="9094" y="6664"/>
                  <a:pt x="9095" y="6655"/>
                  <a:pt x="9103" y="6697"/>
                </a:cubicBezTo>
                <a:cubicBezTo>
                  <a:pt x="9103" y="6645"/>
                  <a:pt x="9114" y="6615"/>
                  <a:pt x="9128" y="6573"/>
                </a:cubicBezTo>
                <a:cubicBezTo>
                  <a:pt x="9149" y="6509"/>
                  <a:pt x="9178" y="6385"/>
                  <a:pt x="9252" y="6350"/>
                </a:cubicBezTo>
                <a:cubicBezTo>
                  <a:pt x="9345" y="6306"/>
                  <a:pt x="9429" y="6388"/>
                  <a:pt x="9475" y="6449"/>
                </a:cubicBezTo>
                <a:cubicBezTo>
                  <a:pt x="9569" y="6573"/>
                  <a:pt x="9615" y="6685"/>
                  <a:pt x="9599" y="6846"/>
                </a:cubicBezTo>
                <a:cubicBezTo>
                  <a:pt x="9591" y="6929"/>
                  <a:pt x="9556" y="7125"/>
                  <a:pt x="9500" y="7193"/>
                </a:cubicBezTo>
                <a:cubicBezTo>
                  <a:pt x="9450" y="7254"/>
                  <a:pt x="9353" y="7304"/>
                  <a:pt x="9277" y="7317"/>
                </a:cubicBezTo>
                <a:cubicBezTo>
                  <a:pt x="9234" y="7324"/>
                  <a:pt x="9212" y="7305"/>
                  <a:pt x="9178" y="7293"/>
                </a:cubicBezTo>
                <a:cubicBezTo>
                  <a:pt x="9185" y="7243"/>
                  <a:pt x="9182" y="7204"/>
                  <a:pt x="9252" y="7193"/>
                </a:cubicBezTo>
                <a:cubicBezTo>
                  <a:pt x="9436" y="7165"/>
                  <a:pt x="9684" y="7249"/>
                  <a:pt x="9847" y="7169"/>
                </a:cubicBezTo>
              </a:path>
              <a:path w="3523" h="2506">
                <a:moveTo>
                  <a:pt x="10071" y="6524"/>
                </a:moveTo>
                <a:cubicBezTo>
                  <a:pt x="10208" y="6492"/>
                  <a:pt x="10306" y="6511"/>
                  <a:pt x="10443" y="6524"/>
                </a:cubicBezTo>
                <a:cubicBezTo>
                  <a:pt x="10526" y="6532"/>
                  <a:pt x="10643" y="6545"/>
                  <a:pt x="10716" y="6499"/>
                </a:cubicBezTo>
                <a:cubicBezTo>
                  <a:pt x="10744" y="6470"/>
                  <a:pt x="10752" y="6457"/>
                  <a:pt x="10740" y="6424"/>
                </a:cubicBezTo>
              </a:path>
              <a:path w="3523" h="2506">
                <a:moveTo>
                  <a:pt x="10344" y="6474"/>
                </a:moveTo>
                <a:cubicBezTo>
                  <a:pt x="10223" y="6663"/>
                  <a:pt x="10186" y="6776"/>
                  <a:pt x="10145" y="6995"/>
                </a:cubicBezTo>
                <a:cubicBezTo>
                  <a:pt x="10132" y="7062"/>
                  <a:pt x="10080" y="7228"/>
                  <a:pt x="10145" y="7293"/>
                </a:cubicBezTo>
                <a:cubicBezTo>
                  <a:pt x="10169" y="7317"/>
                  <a:pt x="10168" y="7311"/>
                  <a:pt x="10195" y="7293"/>
                </a:cubicBezTo>
              </a:path>
              <a:path w="3523" h="2506">
                <a:moveTo>
                  <a:pt x="10418" y="6623"/>
                </a:moveTo>
                <a:cubicBezTo>
                  <a:pt x="10442" y="6804"/>
                  <a:pt x="10478" y="6987"/>
                  <a:pt x="10492" y="7169"/>
                </a:cubicBezTo>
                <a:cubicBezTo>
                  <a:pt x="10497" y="7242"/>
                  <a:pt x="10492" y="7318"/>
                  <a:pt x="10492" y="7392"/>
                </a:cubicBezTo>
              </a:path>
              <a:path w="3523" h="2506">
                <a:moveTo>
                  <a:pt x="9128" y="7640"/>
                </a:moveTo>
                <a:cubicBezTo>
                  <a:pt x="9334" y="7617"/>
                  <a:pt x="9543" y="7615"/>
                  <a:pt x="9748" y="7590"/>
                </a:cubicBezTo>
                <a:cubicBezTo>
                  <a:pt x="9923" y="7568"/>
                  <a:pt x="10098" y="7563"/>
                  <a:pt x="10269" y="7516"/>
                </a:cubicBezTo>
                <a:cubicBezTo>
                  <a:pt x="10275" y="7514"/>
                  <a:pt x="10464" y="7412"/>
                  <a:pt x="10418" y="7392"/>
                </a:cubicBezTo>
                <a:cubicBezTo>
                  <a:pt x="10401" y="7392"/>
                  <a:pt x="10385" y="7392"/>
                  <a:pt x="10368" y="7392"/>
                </a:cubicBezTo>
              </a:path>
              <a:path w="3523" h="2506">
                <a:moveTo>
                  <a:pt x="9599" y="7962"/>
                </a:moveTo>
                <a:cubicBezTo>
                  <a:pt x="9599" y="8185"/>
                  <a:pt x="9599" y="8409"/>
                  <a:pt x="9599" y="8632"/>
                </a:cubicBezTo>
              </a:path>
              <a:path w="3523" h="2506">
                <a:moveTo>
                  <a:pt x="9897" y="8037"/>
                </a:moveTo>
                <a:cubicBezTo>
                  <a:pt x="9890" y="8221"/>
                  <a:pt x="9870" y="8379"/>
                  <a:pt x="9823" y="8558"/>
                </a:cubicBezTo>
                <a:cubicBezTo>
                  <a:pt x="9804" y="8629"/>
                  <a:pt x="9803" y="8721"/>
                  <a:pt x="9773" y="8781"/>
                </a:cubicBezTo>
                <a:cubicBezTo>
                  <a:pt x="9745" y="8809"/>
                  <a:pt x="9736" y="8822"/>
                  <a:pt x="9748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03680" y="3813120"/>
            <a:ext cx="2411280" cy="795240"/>
          </a:xfrm>
          <a:custGeom>
            <a:avLst/>
            <a:gdLst/>
            <a:ahLst/>
            <a:rect l="l" t="t" r="r" b="b"/>
            <a:pathLst>
              <a:path w="6698" h="2208">
                <a:moveTo>
                  <a:pt x="7962" y="10765"/>
                </a:moveTo>
                <a:cubicBezTo>
                  <a:pt x="7946" y="10832"/>
                  <a:pt x="7932" y="10810"/>
                  <a:pt x="7962" y="10765"/>
                </a:cubicBezTo>
                <a:cubicBezTo>
                  <a:pt x="7981" y="10736"/>
                  <a:pt x="8000" y="10699"/>
                  <a:pt x="8037" y="10691"/>
                </a:cubicBezTo>
                <a:cubicBezTo>
                  <a:pt x="8087" y="10680"/>
                  <a:pt x="8135" y="10725"/>
                  <a:pt x="8161" y="10765"/>
                </a:cubicBezTo>
                <a:cubicBezTo>
                  <a:pt x="8225" y="10865"/>
                  <a:pt x="8210" y="10975"/>
                  <a:pt x="8210" y="11088"/>
                </a:cubicBezTo>
                <a:cubicBezTo>
                  <a:pt x="8210" y="11203"/>
                  <a:pt x="8176" y="11314"/>
                  <a:pt x="8111" y="11410"/>
                </a:cubicBezTo>
                <a:cubicBezTo>
                  <a:pt x="8059" y="11487"/>
                  <a:pt x="8003" y="11501"/>
                  <a:pt x="7938" y="11534"/>
                </a:cubicBezTo>
                <a:cubicBezTo>
                  <a:pt x="7892" y="11557"/>
                  <a:pt x="7844" y="11576"/>
                  <a:pt x="7813" y="11509"/>
                </a:cubicBezTo>
                <a:cubicBezTo>
                  <a:pt x="7792" y="11463"/>
                  <a:pt x="7789" y="11413"/>
                  <a:pt x="7789" y="11361"/>
                </a:cubicBezTo>
                <a:cubicBezTo>
                  <a:pt x="7789" y="11321"/>
                  <a:pt x="7805" y="11251"/>
                  <a:pt x="7863" y="11261"/>
                </a:cubicBezTo>
                <a:cubicBezTo>
                  <a:pt x="7977" y="11280"/>
                  <a:pt x="8076" y="11365"/>
                  <a:pt x="8186" y="11410"/>
                </a:cubicBezTo>
                <a:cubicBezTo>
                  <a:pt x="8293" y="11454"/>
                  <a:pt x="8328" y="11452"/>
                  <a:pt x="8434" y="11435"/>
                </a:cubicBezTo>
                <a:cubicBezTo>
                  <a:pt x="8485" y="11435"/>
                  <a:pt x="8504" y="11434"/>
                  <a:pt x="8533" y="11410"/>
                </a:cubicBezTo>
              </a:path>
              <a:path w="6698" h="2208">
                <a:moveTo>
                  <a:pt x="8756" y="10790"/>
                </a:moveTo>
                <a:cubicBezTo>
                  <a:pt x="8787" y="10790"/>
                  <a:pt x="9132" y="10814"/>
                  <a:pt x="9203" y="10790"/>
                </a:cubicBezTo>
              </a:path>
              <a:path w="6698" h="2208">
                <a:moveTo>
                  <a:pt x="8781" y="10864"/>
                </a:moveTo>
                <a:cubicBezTo>
                  <a:pt x="8717" y="11093"/>
                  <a:pt x="8651" y="11213"/>
                  <a:pt x="8731" y="11435"/>
                </a:cubicBezTo>
                <a:cubicBezTo>
                  <a:pt x="8747" y="11480"/>
                  <a:pt x="8755" y="11500"/>
                  <a:pt x="8781" y="11534"/>
                </a:cubicBezTo>
              </a:path>
              <a:path w="6698" h="2208">
                <a:moveTo>
                  <a:pt x="9128" y="10864"/>
                </a:moveTo>
                <a:cubicBezTo>
                  <a:pt x="9128" y="11011"/>
                  <a:pt x="9136" y="11148"/>
                  <a:pt x="9153" y="11286"/>
                </a:cubicBezTo>
                <a:cubicBezTo>
                  <a:pt x="9163" y="11369"/>
                  <a:pt x="9168" y="11420"/>
                  <a:pt x="9227" y="11485"/>
                </a:cubicBezTo>
                <a:cubicBezTo>
                  <a:pt x="9250" y="11507"/>
                  <a:pt x="9255" y="11515"/>
                  <a:pt x="9277" y="11509"/>
                </a:cubicBezTo>
              </a:path>
              <a:path w="6698" h="2208">
                <a:moveTo>
                  <a:pt x="9748" y="11410"/>
                </a:moveTo>
                <a:cubicBezTo>
                  <a:pt x="9748" y="11360"/>
                  <a:pt x="9759" y="11352"/>
                  <a:pt x="9773" y="11311"/>
                </a:cubicBezTo>
                <a:cubicBezTo>
                  <a:pt x="9773" y="11265"/>
                  <a:pt x="9785" y="11238"/>
                  <a:pt x="9823" y="11212"/>
                </a:cubicBezTo>
              </a:path>
              <a:path w="6698" h="2208">
                <a:moveTo>
                  <a:pt x="10220" y="10716"/>
                </a:moveTo>
                <a:cubicBezTo>
                  <a:pt x="10220" y="10947"/>
                  <a:pt x="10237" y="11185"/>
                  <a:pt x="10195" y="11410"/>
                </a:cubicBezTo>
                <a:cubicBezTo>
                  <a:pt x="10191" y="11429"/>
                  <a:pt x="10195" y="11546"/>
                  <a:pt x="10195" y="11485"/>
                </a:cubicBezTo>
              </a:path>
              <a:path w="6698" h="2208">
                <a:moveTo>
                  <a:pt x="10492" y="10790"/>
                </a:moveTo>
                <a:cubicBezTo>
                  <a:pt x="10590" y="10673"/>
                  <a:pt x="10601" y="10652"/>
                  <a:pt x="10666" y="10592"/>
                </a:cubicBezTo>
                <a:cubicBezTo>
                  <a:pt x="10768" y="10637"/>
                  <a:pt x="10848" y="10735"/>
                  <a:pt x="10864" y="10864"/>
                </a:cubicBezTo>
                <a:cubicBezTo>
                  <a:pt x="10880" y="10990"/>
                  <a:pt x="10875" y="11145"/>
                  <a:pt x="10815" y="11261"/>
                </a:cubicBezTo>
                <a:cubicBezTo>
                  <a:pt x="10779" y="11331"/>
                  <a:pt x="10730" y="11372"/>
                  <a:pt x="10666" y="11410"/>
                </a:cubicBezTo>
                <a:cubicBezTo>
                  <a:pt x="10626" y="11430"/>
                  <a:pt x="10619" y="11439"/>
                  <a:pt x="10592" y="11435"/>
                </a:cubicBezTo>
                <a:cubicBezTo>
                  <a:pt x="10583" y="11400"/>
                  <a:pt x="10553" y="11354"/>
                  <a:pt x="10616" y="11336"/>
                </a:cubicBezTo>
                <a:cubicBezTo>
                  <a:pt x="10768" y="11293"/>
                  <a:pt x="11008" y="11336"/>
                  <a:pt x="11162" y="11336"/>
                </a:cubicBezTo>
              </a:path>
              <a:path w="6698" h="2208">
                <a:moveTo>
                  <a:pt x="10344" y="11534"/>
                </a:moveTo>
                <a:cubicBezTo>
                  <a:pt x="10471" y="11544"/>
                  <a:pt x="10587" y="11559"/>
                  <a:pt x="10716" y="11559"/>
                </a:cubicBezTo>
                <a:cubicBezTo>
                  <a:pt x="10890" y="11559"/>
                  <a:pt x="11063" y="11559"/>
                  <a:pt x="11237" y="11559"/>
                </a:cubicBezTo>
              </a:path>
              <a:path w="6698" h="2208">
                <a:moveTo>
                  <a:pt x="10492" y="11832"/>
                </a:moveTo>
                <a:cubicBezTo>
                  <a:pt x="10688" y="11869"/>
                  <a:pt x="10820" y="11900"/>
                  <a:pt x="11013" y="11857"/>
                </a:cubicBezTo>
                <a:cubicBezTo>
                  <a:pt x="11046" y="11849"/>
                  <a:pt x="11079" y="11840"/>
                  <a:pt x="11112" y="11832"/>
                </a:cubicBezTo>
              </a:path>
              <a:path w="6698" h="2208">
                <a:moveTo>
                  <a:pt x="10592" y="12055"/>
                </a:moveTo>
                <a:cubicBezTo>
                  <a:pt x="10556" y="12164"/>
                  <a:pt x="10497" y="12296"/>
                  <a:pt x="10592" y="12402"/>
                </a:cubicBezTo>
                <a:cubicBezTo>
                  <a:pt x="10600" y="12402"/>
                  <a:pt x="10608" y="12402"/>
                  <a:pt x="10616" y="12402"/>
                </a:cubicBezTo>
              </a:path>
              <a:path w="6698" h="2208">
                <a:moveTo>
                  <a:pt x="10964" y="11981"/>
                </a:moveTo>
                <a:cubicBezTo>
                  <a:pt x="10981" y="12153"/>
                  <a:pt x="10985" y="12313"/>
                  <a:pt x="11038" y="12477"/>
                </a:cubicBezTo>
                <a:cubicBezTo>
                  <a:pt x="11046" y="12502"/>
                  <a:pt x="11055" y="12526"/>
                  <a:pt x="11063" y="12551"/>
                </a:cubicBezTo>
              </a:path>
              <a:path w="6698" h="2208">
                <a:moveTo>
                  <a:pt x="8781" y="10716"/>
                </a:moveTo>
                <a:cubicBezTo>
                  <a:pt x="8922" y="10850"/>
                  <a:pt x="9067" y="10976"/>
                  <a:pt x="9227" y="11088"/>
                </a:cubicBezTo>
                <a:cubicBezTo>
                  <a:pt x="9378" y="11194"/>
                  <a:pt x="9526" y="11300"/>
                  <a:pt x="9674" y="11410"/>
                </a:cubicBezTo>
              </a:path>
              <a:path w="6698" h="2208">
                <a:moveTo>
                  <a:pt x="10393" y="11683"/>
                </a:moveTo>
                <a:cubicBezTo>
                  <a:pt x="10550" y="11790"/>
                  <a:pt x="10713" y="11890"/>
                  <a:pt x="10864" y="12005"/>
                </a:cubicBezTo>
                <a:cubicBezTo>
                  <a:pt x="11060" y="12155"/>
                  <a:pt x="11254" y="12320"/>
                  <a:pt x="11460" y="12452"/>
                </a:cubicBezTo>
                <a:cubicBezTo>
                  <a:pt x="11476" y="12460"/>
                  <a:pt x="11493" y="12469"/>
                  <a:pt x="11509" y="12477"/>
                </a:cubicBezTo>
              </a:path>
              <a:path w="6698" h="2208">
                <a:moveTo>
                  <a:pt x="12179" y="11633"/>
                </a:moveTo>
                <a:cubicBezTo>
                  <a:pt x="12248" y="11654"/>
                  <a:pt x="12375" y="11711"/>
                  <a:pt x="12402" y="11683"/>
                </a:cubicBezTo>
              </a:path>
              <a:path w="6698" h="2208">
                <a:moveTo>
                  <a:pt x="12229" y="11832"/>
                </a:moveTo>
                <a:cubicBezTo>
                  <a:pt x="12340" y="11850"/>
                  <a:pt x="12442" y="11872"/>
                  <a:pt x="12551" y="11881"/>
                </a:cubicBezTo>
              </a:path>
              <a:path w="6698" h="2208">
                <a:moveTo>
                  <a:pt x="13047" y="11212"/>
                </a:moveTo>
                <a:cubicBezTo>
                  <a:pt x="13156" y="11141"/>
                  <a:pt x="13234" y="11051"/>
                  <a:pt x="13370" y="11088"/>
                </a:cubicBezTo>
                <a:cubicBezTo>
                  <a:pt x="13445" y="11108"/>
                  <a:pt x="13497" y="11191"/>
                  <a:pt x="13519" y="11261"/>
                </a:cubicBezTo>
                <a:cubicBezTo>
                  <a:pt x="13558" y="11385"/>
                  <a:pt x="13510" y="11500"/>
                  <a:pt x="13444" y="11609"/>
                </a:cubicBezTo>
                <a:cubicBezTo>
                  <a:pt x="13394" y="11693"/>
                  <a:pt x="13310" y="11822"/>
                  <a:pt x="13221" y="11881"/>
                </a:cubicBezTo>
                <a:cubicBezTo>
                  <a:pt x="13171" y="11914"/>
                  <a:pt x="13139" y="11917"/>
                  <a:pt x="13097" y="11881"/>
                </a:cubicBezTo>
                <a:cubicBezTo>
                  <a:pt x="13056" y="11845"/>
                  <a:pt x="13063" y="11775"/>
                  <a:pt x="13097" y="11733"/>
                </a:cubicBezTo>
                <a:cubicBezTo>
                  <a:pt x="13174" y="11638"/>
                  <a:pt x="13253" y="11596"/>
                  <a:pt x="13370" y="11633"/>
                </a:cubicBezTo>
                <a:cubicBezTo>
                  <a:pt x="13457" y="11661"/>
                  <a:pt x="13507" y="11757"/>
                  <a:pt x="13568" y="11807"/>
                </a:cubicBezTo>
                <a:cubicBezTo>
                  <a:pt x="13576" y="11813"/>
                  <a:pt x="13682" y="11883"/>
                  <a:pt x="13692" y="11881"/>
                </a:cubicBezTo>
                <a:cubicBezTo>
                  <a:pt x="13721" y="11853"/>
                  <a:pt x="13729" y="11840"/>
                  <a:pt x="13717" y="11807"/>
                </a:cubicBezTo>
              </a:path>
              <a:path w="6698" h="2208">
                <a:moveTo>
                  <a:pt x="13891" y="11162"/>
                </a:moveTo>
                <a:cubicBezTo>
                  <a:pt x="13867" y="11204"/>
                  <a:pt x="13809" y="11245"/>
                  <a:pt x="13791" y="11286"/>
                </a:cubicBezTo>
                <a:cubicBezTo>
                  <a:pt x="13774" y="11324"/>
                  <a:pt x="13793" y="11384"/>
                  <a:pt x="13816" y="11410"/>
                </a:cubicBezTo>
                <a:cubicBezTo>
                  <a:pt x="13848" y="11446"/>
                  <a:pt x="13919" y="11462"/>
                  <a:pt x="13965" y="11485"/>
                </a:cubicBezTo>
                <a:cubicBezTo>
                  <a:pt x="14055" y="11529"/>
                  <a:pt x="14139" y="11555"/>
                  <a:pt x="14238" y="11559"/>
                </a:cubicBezTo>
                <a:cubicBezTo>
                  <a:pt x="14355" y="11563"/>
                  <a:pt x="14406" y="11483"/>
                  <a:pt x="14486" y="11410"/>
                </a:cubicBezTo>
              </a:path>
              <a:path w="6698" h="2208">
                <a:moveTo>
                  <a:pt x="14238" y="10840"/>
                </a:moveTo>
                <a:cubicBezTo>
                  <a:pt x="14273" y="11297"/>
                  <a:pt x="14279" y="11748"/>
                  <a:pt x="14312" y="12204"/>
                </a:cubicBezTo>
                <a:cubicBezTo>
                  <a:pt x="14336" y="12510"/>
                  <a:pt x="14343" y="12601"/>
                  <a:pt x="14362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03240" y="2205000"/>
            <a:ext cx="9720" cy="268200"/>
          </a:xfrm>
          <a:custGeom>
            <a:avLst/>
            <a:gdLst/>
            <a:ahLst/>
            <a:rect l="l" t="t" r="r" b="b"/>
            <a:pathLst>
              <a:path w="25" h="745">
                <a:moveTo>
                  <a:pt x="5011" y="6127"/>
                </a:moveTo>
                <a:cubicBezTo>
                  <a:pt x="5011" y="6308"/>
                  <a:pt x="5003" y="6506"/>
                  <a:pt x="5035" y="6672"/>
                </a:cubicBezTo>
                <a:cubicBezTo>
                  <a:pt x="5047" y="6732"/>
                  <a:pt x="5035" y="6809"/>
                  <a:pt x="5035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20840" y="3054240"/>
            <a:ext cx="608040" cy="561960"/>
          </a:xfrm>
          <a:custGeom>
            <a:avLst/>
            <a:gdLst/>
            <a:ahLst/>
            <a:rect l="l" t="t" r="r" b="b"/>
            <a:pathLst>
              <a:path w="1688" h="1564">
                <a:moveTo>
                  <a:pt x="3696" y="8731"/>
                </a:moveTo>
                <a:cubicBezTo>
                  <a:pt x="3696" y="8870"/>
                  <a:pt x="3704" y="8970"/>
                  <a:pt x="3746" y="9103"/>
                </a:cubicBezTo>
                <a:cubicBezTo>
                  <a:pt x="3772" y="9186"/>
                  <a:pt x="3807" y="9290"/>
                  <a:pt x="3820" y="9376"/>
                </a:cubicBezTo>
                <a:cubicBezTo>
                  <a:pt x="3832" y="9454"/>
                  <a:pt x="3825" y="9464"/>
                  <a:pt x="3845" y="9525"/>
                </a:cubicBezTo>
                <a:cubicBezTo>
                  <a:pt x="3845" y="9533"/>
                  <a:pt x="3845" y="9542"/>
                  <a:pt x="3845" y="9550"/>
                </a:cubicBezTo>
                <a:cubicBezTo>
                  <a:pt x="3831" y="9507"/>
                  <a:pt x="3835" y="9516"/>
                  <a:pt x="3820" y="9451"/>
                </a:cubicBezTo>
                <a:cubicBezTo>
                  <a:pt x="3800" y="9364"/>
                  <a:pt x="3774" y="9312"/>
                  <a:pt x="3770" y="9227"/>
                </a:cubicBezTo>
                <a:cubicBezTo>
                  <a:pt x="3767" y="9175"/>
                  <a:pt x="3751" y="9068"/>
                  <a:pt x="3795" y="9029"/>
                </a:cubicBezTo>
                <a:cubicBezTo>
                  <a:pt x="3846" y="8985"/>
                  <a:pt x="3901" y="9065"/>
                  <a:pt x="3919" y="9079"/>
                </a:cubicBezTo>
                <a:cubicBezTo>
                  <a:pt x="3985" y="9130"/>
                  <a:pt x="4001" y="9178"/>
                  <a:pt x="4043" y="9252"/>
                </a:cubicBezTo>
                <a:cubicBezTo>
                  <a:pt x="4079" y="9316"/>
                  <a:pt x="4070" y="9340"/>
                  <a:pt x="4043" y="9376"/>
                </a:cubicBezTo>
                <a:cubicBezTo>
                  <a:pt x="3985" y="9453"/>
                  <a:pt x="3970" y="9470"/>
                  <a:pt x="3870" y="9475"/>
                </a:cubicBezTo>
                <a:cubicBezTo>
                  <a:pt x="3799" y="9479"/>
                  <a:pt x="3731" y="9468"/>
                  <a:pt x="3696" y="9451"/>
                </a:cubicBezTo>
                <a:cubicBezTo>
                  <a:pt x="3688" y="9451"/>
                  <a:pt x="3679" y="9451"/>
                  <a:pt x="3671" y="9451"/>
                </a:cubicBezTo>
              </a:path>
              <a:path w="1688" h="1564">
                <a:moveTo>
                  <a:pt x="4266" y="9004"/>
                </a:moveTo>
                <a:cubicBezTo>
                  <a:pt x="4389" y="9004"/>
                  <a:pt x="4494" y="9026"/>
                  <a:pt x="4589" y="8954"/>
                </a:cubicBezTo>
              </a:path>
              <a:path w="1688" h="1564">
                <a:moveTo>
                  <a:pt x="4366" y="9302"/>
                </a:moveTo>
                <a:cubicBezTo>
                  <a:pt x="4451" y="9262"/>
                  <a:pt x="4499" y="9237"/>
                  <a:pt x="4589" y="9227"/>
                </a:cubicBezTo>
              </a:path>
              <a:path w="1688" h="1564">
                <a:moveTo>
                  <a:pt x="4986" y="8483"/>
                </a:moveTo>
                <a:cubicBezTo>
                  <a:pt x="5002" y="8619"/>
                  <a:pt x="5011" y="8743"/>
                  <a:pt x="5011" y="8880"/>
                </a:cubicBezTo>
                <a:cubicBezTo>
                  <a:pt x="5011" y="8946"/>
                  <a:pt x="5011" y="8963"/>
                  <a:pt x="5011" y="9004"/>
                </a:cubicBezTo>
              </a:path>
              <a:path w="1688" h="1564">
                <a:moveTo>
                  <a:pt x="4887" y="9153"/>
                </a:moveTo>
                <a:cubicBezTo>
                  <a:pt x="4978" y="9153"/>
                  <a:pt x="5068" y="9153"/>
                  <a:pt x="5159" y="9153"/>
                </a:cubicBezTo>
              </a:path>
              <a:path w="1688" h="1564">
                <a:moveTo>
                  <a:pt x="4961" y="9401"/>
                </a:moveTo>
                <a:cubicBezTo>
                  <a:pt x="4944" y="9434"/>
                  <a:pt x="4928" y="9467"/>
                  <a:pt x="4911" y="9500"/>
                </a:cubicBezTo>
                <a:cubicBezTo>
                  <a:pt x="4989" y="9552"/>
                  <a:pt x="5021" y="9561"/>
                  <a:pt x="5110" y="9525"/>
                </a:cubicBezTo>
                <a:cubicBezTo>
                  <a:pt x="5163" y="9498"/>
                  <a:pt x="5183" y="9486"/>
                  <a:pt x="5209" y="9451"/>
                </a:cubicBezTo>
              </a:path>
              <a:path w="1688" h="1564">
                <a:moveTo>
                  <a:pt x="5358" y="9376"/>
                </a:moveTo>
                <a:cubicBezTo>
                  <a:pt x="5313" y="9529"/>
                  <a:pt x="5177" y="9793"/>
                  <a:pt x="5259" y="9971"/>
                </a:cubicBezTo>
                <a:cubicBezTo>
                  <a:pt x="5296" y="10052"/>
                  <a:pt x="5274" y="10068"/>
                  <a:pt x="5358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0" y="3000240"/>
            <a:ext cx="216000" cy="384480"/>
          </a:xfrm>
          <a:custGeom>
            <a:avLst/>
            <a:gdLst/>
            <a:ahLst/>
            <a:rect l="l" t="t" r="r" b="b"/>
            <a:pathLst>
              <a:path w="597" h="1068">
                <a:moveTo>
                  <a:pt x="10021" y="8334"/>
                </a:moveTo>
                <a:cubicBezTo>
                  <a:pt x="10015" y="8503"/>
                  <a:pt x="9984" y="8644"/>
                  <a:pt x="9971" y="8806"/>
                </a:cubicBezTo>
                <a:cubicBezTo>
                  <a:pt x="9961" y="8934"/>
                  <a:pt x="9966" y="8938"/>
                  <a:pt x="10021" y="9029"/>
                </a:cubicBezTo>
                <a:cubicBezTo>
                  <a:pt x="10060" y="9094"/>
                  <a:pt x="10046" y="9079"/>
                  <a:pt x="10120" y="9079"/>
                </a:cubicBezTo>
              </a:path>
              <a:path w="597" h="1068">
                <a:moveTo>
                  <a:pt x="10368" y="8483"/>
                </a:moveTo>
                <a:cubicBezTo>
                  <a:pt x="10368" y="8592"/>
                  <a:pt x="10367" y="8701"/>
                  <a:pt x="10344" y="8806"/>
                </a:cubicBezTo>
                <a:cubicBezTo>
                  <a:pt x="10323" y="8901"/>
                  <a:pt x="10280" y="8982"/>
                  <a:pt x="10269" y="9079"/>
                </a:cubicBezTo>
                <a:cubicBezTo>
                  <a:pt x="10261" y="9149"/>
                  <a:pt x="10259" y="9241"/>
                  <a:pt x="10294" y="9302"/>
                </a:cubicBezTo>
                <a:cubicBezTo>
                  <a:pt x="10328" y="9361"/>
                  <a:pt x="10315" y="9385"/>
                  <a:pt x="10393" y="9401"/>
                </a:cubicBezTo>
              </a:path>
              <a:path w="597" h="1068">
                <a:moveTo>
                  <a:pt x="10046" y="8954"/>
                </a:moveTo>
                <a:cubicBezTo>
                  <a:pt x="10169" y="8954"/>
                  <a:pt x="10235" y="8980"/>
                  <a:pt x="10344" y="9004"/>
                </a:cubicBezTo>
                <a:cubicBezTo>
                  <a:pt x="10423" y="9022"/>
                  <a:pt x="10493" y="8969"/>
                  <a:pt x="10567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71960" y="2463840"/>
            <a:ext cx="911160" cy="501480"/>
          </a:xfrm>
          <a:custGeom>
            <a:avLst/>
            <a:gdLst/>
            <a:ahLst/>
            <a:rect l="l" t="t" r="r" b="b"/>
            <a:pathLst>
              <a:path w="2531" h="1390">
                <a:moveTo>
                  <a:pt x="11311" y="7863"/>
                </a:moveTo>
                <a:cubicBezTo>
                  <a:pt x="11352" y="7863"/>
                  <a:pt x="11394" y="7863"/>
                  <a:pt x="11435" y="7863"/>
                </a:cubicBezTo>
              </a:path>
              <a:path w="2531" h="1390">
                <a:moveTo>
                  <a:pt x="11336" y="8062"/>
                </a:moveTo>
                <a:cubicBezTo>
                  <a:pt x="11456" y="8079"/>
                  <a:pt x="11555" y="8097"/>
                  <a:pt x="11658" y="8086"/>
                </a:cubicBezTo>
                <a:cubicBezTo>
                  <a:pt x="11671" y="8085"/>
                  <a:pt x="11769" y="8047"/>
                  <a:pt x="11782" y="8062"/>
                </a:cubicBezTo>
                <a:cubicBezTo>
                  <a:pt x="11782" y="8086"/>
                  <a:pt x="11782" y="8094"/>
                  <a:pt x="11757" y="8086"/>
                </a:cubicBezTo>
              </a:path>
              <a:path w="2531" h="1390">
                <a:moveTo>
                  <a:pt x="12675" y="6871"/>
                </a:moveTo>
                <a:cubicBezTo>
                  <a:pt x="12476" y="6878"/>
                  <a:pt x="12408" y="6876"/>
                  <a:pt x="12254" y="6995"/>
                </a:cubicBezTo>
                <a:cubicBezTo>
                  <a:pt x="12183" y="7050"/>
                  <a:pt x="12201" y="7121"/>
                  <a:pt x="12229" y="7193"/>
                </a:cubicBezTo>
                <a:cubicBezTo>
                  <a:pt x="12273" y="7309"/>
                  <a:pt x="12394" y="7403"/>
                  <a:pt x="12452" y="7516"/>
                </a:cubicBezTo>
                <a:cubicBezTo>
                  <a:pt x="12528" y="7663"/>
                  <a:pt x="12572" y="7797"/>
                  <a:pt x="12576" y="7962"/>
                </a:cubicBezTo>
                <a:cubicBezTo>
                  <a:pt x="12577" y="8010"/>
                  <a:pt x="12560" y="8170"/>
                  <a:pt x="12526" y="8210"/>
                </a:cubicBezTo>
                <a:cubicBezTo>
                  <a:pt x="12510" y="8218"/>
                  <a:pt x="12493" y="8227"/>
                  <a:pt x="12477" y="8235"/>
                </a:cubicBezTo>
                <a:cubicBezTo>
                  <a:pt x="12407" y="8225"/>
                  <a:pt x="12371" y="8191"/>
                  <a:pt x="12353" y="8111"/>
                </a:cubicBezTo>
                <a:cubicBezTo>
                  <a:pt x="12331" y="8014"/>
                  <a:pt x="12333" y="7912"/>
                  <a:pt x="12353" y="7813"/>
                </a:cubicBezTo>
                <a:cubicBezTo>
                  <a:pt x="12375" y="7706"/>
                  <a:pt x="12460" y="7552"/>
                  <a:pt x="12526" y="7466"/>
                </a:cubicBezTo>
                <a:cubicBezTo>
                  <a:pt x="12613" y="7353"/>
                  <a:pt x="12743" y="7261"/>
                  <a:pt x="12824" y="7144"/>
                </a:cubicBezTo>
                <a:cubicBezTo>
                  <a:pt x="12887" y="7053"/>
                  <a:pt x="12936" y="6954"/>
                  <a:pt x="12948" y="6846"/>
                </a:cubicBezTo>
              </a:path>
              <a:path w="2531" h="1390">
                <a:moveTo>
                  <a:pt x="13072" y="6970"/>
                </a:moveTo>
                <a:cubicBezTo>
                  <a:pt x="13225" y="6952"/>
                  <a:pt x="13365" y="6945"/>
                  <a:pt x="13519" y="6945"/>
                </a:cubicBezTo>
                <a:cubicBezTo>
                  <a:pt x="13607" y="6945"/>
                  <a:pt x="13662" y="6947"/>
                  <a:pt x="13742" y="6921"/>
                </a:cubicBezTo>
              </a:path>
              <a:path w="2531" h="1390">
                <a:moveTo>
                  <a:pt x="13221" y="6945"/>
                </a:moveTo>
                <a:cubicBezTo>
                  <a:pt x="13184" y="7211"/>
                  <a:pt x="13174" y="7343"/>
                  <a:pt x="13196" y="7590"/>
                </a:cubicBezTo>
                <a:cubicBezTo>
                  <a:pt x="13204" y="7684"/>
                  <a:pt x="13221" y="7768"/>
                  <a:pt x="13221" y="7863"/>
                </a:cubicBezTo>
                <a:cubicBezTo>
                  <a:pt x="13221" y="7896"/>
                  <a:pt x="13221" y="7929"/>
                  <a:pt x="13221" y="7962"/>
                </a:cubicBezTo>
              </a:path>
              <a:path w="2531" h="1390">
                <a:moveTo>
                  <a:pt x="13419" y="7020"/>
                </a:moveTo>
                <a:cubicBezTo>
                  <a:pt x="13449" y="7183"/>
                  <a:pt x="13449" y="7367"/>
                  <a:pt x="13519" y="7516"/>
                </a:cubicBezTo>
                <a:cubicBezTo>
                  <a:pt x="13604" y="7698"/>
                  <a:pt x="13720" y="7854"/>
                  <a:pt x="13841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3:03:49Z</dcterms:created>
  <dc:creator>Beason</dc:creator>
  <dc:description/>
  <dc:language>en-US</dc:language>
  <cp:lastModifiedBy>abeason</cp:lastModifiedBy>
  <dcterms:modified xsi:type="dcterms:W3CDTF">2008-10-16T18:15:14Z</dcterms:modified>
  <cp:revision>6</cp:revision>
  <dc:subject/>
  <dc:title>4.5 Part 2</dc:title>
</cp:coreProperties>
</file>